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F5C0-4DF3-4BCF-9A85-7447A036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1CF-ABDC-4593-8AC4-DEAF7745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FA1-7FFD-4089-B6FC-66AC2404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401-442A-4603-8C6E-1A6EAF69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79F0-7532-42FA-8ACB-41FD9C95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E867-829D-425E-8D67-226E53A6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B044-7583-4FEE-A9A7-EFE55D8D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7396-F170-4918-BB5E-294B2971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44C6-77D7-4DD6-BCAE-CF68FD66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32E1-8BCB-48E1-ADE7-8830AAE9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1858-04BC-4EB2-97D9-ADFF0485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59D-6E95-4D6C-8EE0-092C3AF8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F776-E45B-4DDC-8E41-44FB9A31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7438-E35D-4B4E-9D40-2CC9C683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E1B6-8799-4E3C-8CC5-365349C7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0B6A-7B2D-426B-BEC3-813048D0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D182-4BA9-4F27-80A4-4779AE2C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D3ADA-E673-470E-835B-E0477EEB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446B8-4FFC-4968-B03A-44391615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EFD90-8BB1-405C-B75A-7A7A7927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5A109-C48F-45E7-946B-5C377EA8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073B4-9A0A-4A89-8C0B-AB941AA6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68B-A14D-473D-A802-74912E22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E6A5D-9CD8-446B-9285-220FA0BF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411F3-A46E-4AB1-8DFE-77C9CF65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E983A-C3D9-4454-9257-55AC0C59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EE339-4529-4484-9A84-6A6C2B78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1D202-81B0-48E3-8470-8F0DDCAC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441C3-67A7-4C51-8D35-3208D081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039FE-EFDC-486E-AD04-DA28E738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E4ED1-88CD-4CB6-AEB4-EE1471AA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CA1E8E-BADA-4A4D-8D4D-62CBF4E6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8E7C0-E54C-44C5-B4C1-98FCA595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109-7457-4EAB-AC38-A27CB46A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EFAE7-192F-4B57-B166-54C3A630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70E78-6209-4C76-AC06-CED0187A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11427-38F2-48BE-99C8-AE04DF6A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C1A193-277E-4161-B5E1-A1E45EE5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BE8106-1B6A-4761-ACA1-A7582E6E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1FA414-B704-4107-A2AB-243959D9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D0D4B-E119-411E-A743-D80B319D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4C87F5-CC50-4D79-884F-82651B31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AD2BB7-BF09-4D5D-80DC-F542B77B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7066F-26C3-46DA-98BD-0A787F1C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810-5D77-4E86-B3B3-763CCB0F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36AF44-575F-48C5-A55A-02DED666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E31FF-D26A-4453-AF60-04BA711E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82DAF-3953-4A95-9B72-A0CFF6C2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EEB5C1-D453-476A-8C03-2CDCFE14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F5944-4715-4B33-B89B-5B3253B0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B7134A-7B24-4C0B-A9A6-53A7DD92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195AB-2FBF-488B-A5B7-831437E8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B5587-BA41-475B-9712-1DDF157C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C2A05-163E-45A9-B0C2-B6D8C80A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B01C2-870B-40F1-B116-8E20B7B6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6B5-EDB1-4779-9ED7-D7833A26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15FC1-A64B-468D-A066-2BA2FEE7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ADCCF-38E3-4820-A6E9-42DB560F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0469D-CD39-414E-8632-1425E0FC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F6D41-E96F-475D-B872-89F9F47D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47C15-EC17-4B7E-A0B4-5D6CDE34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27FAE-C346-43FC-8482-BD95D9CF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1960D-F596-418C-B4F1-BF9C7CA9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B0567-4F74-4DF5-9D57-8616AC30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176F6-0A0D-4D55-AA46-5719E761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90A98-C370-4C34-8260-D5F0C558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9FC-114A-4A6A-A6EF-CCEE289C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B9160-B303-40B3-9C46-F5D5E029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A189B-D72E-4025-9B76-C28317B1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1C949-CD61-4F50-8DD4-B8F80A22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120976-E0EC-42E2-B397-CB3C2370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B0E901-1C4C-4C44-BEC1-303BD549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0AE3FB-D8B9-40B5-8392-CDA5034D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942EE-5246-471E-BD67-0A89DE8F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FED4E9-6DA1-4E91-9581-65F286C5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02F63-237F-4654-9319-C6A94A80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0F25E7-1921-4BC8-9D54-6A1BA692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A6F-263A-48B2-9BFE-4C59865B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10DDFF-E384-4E53-843F-3FF9FE98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FF783-59D0-4678-86F9-990B103B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2C2BE-8B45-4B0E-9B8D-24E6B5F8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E4F985-FC12-4315-B1F0-CFEB98A9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5B6940-042B-41F8-9647-A0D4D33A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D226E-AD19-4D08-9DDC-C915F531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BEC7F-A13F-4ADE-80A1-D6BA8D2D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1FC44-BC12-4DC5-903D-4D8DC878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6FAA1-DDA9-4819-9C0F-880E1AE8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FC28B-232F-4727-B4C2-DDD9F7B4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B096-9603-4A51-AAE1-1911E9F2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9E440-A444-4A14-AE6C-033EA844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B411A-5E2E-4E4D-BD83-C30AAFA9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1E441-3DF9-4DED-AF26-0013F445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DF5E1-30A2-4A92-A72A-07F1B50B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DA8DA-8723-4B46-92FF-D214A0C5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355A4-34C5-4EE5-A486-7F3C2FEB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F32F9-B777-416F-87D7-5F78A5B0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378E-1981-487D-829E-9F15445EC5C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99A0-D2D5-4BC7-B7C4-AFEC970F8705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345A-EEBE-44AC-8146-01EED58AEFE9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11B9-2479-4307-A70C-14C6DE41405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98C2-DD40-405E-9440-E7774498A04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CC18-7C7B-4BFC-AF3A-3B9204FA67CF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08DA-BB9A-4196-B253-46B68311743F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557A-547D-475C-B2C1-19515EA0DC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kriminal.ru/archives/417" TargetMode="External"/><Relationship Id="rId2" Type="http://schemas.openxmlformats.org/officeDocument/2006/relationships/hyperlink" Target="http://www.bibliotekar.ru/polk-22/index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1c6e6"/>
                </a:solidFill>
                <a:latin typeface="Calibri"/>
              </a:rPr>
              <a:t>ИЗМЕНЕНИЕ ПОЛИТИЧЕСКОЙ СИСТЕМЫ СССР В 1953-1964ГГ.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41440" y="2997000"/>
            <a:ext cx="80611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Учитель истории и обществозна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КОУ «Пиндушская СОШ №1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оханович Софья Андреевн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62-1964гг. – велась разработка новой Конституции СССР  - «государство диктатуры пролетариата должно превратиться в общенародное, допускалась частная собственность» – такие проекты устраивали далеко не все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воспоминаний В.Молото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ую общенародное государство… Не может государство выражать интересы и рабочего класса и колхозного крестьянства, и интеллигенции..Среди интеллигенции немало бывших классовых противников, они не могут за диктатуру пролетариата бороться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64г. – Н.Хрущев был обвинен в волюнтаризме и субъективизме и отстранен от занимаемой должн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Волюнтаризм – политика, не считающаяся с объективными законами, реальными условиями и возможностя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исок использованных источников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)активные ссылки на страницы материалов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Похороны Сталина: кровавая давка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llkriminal.ru/archives/4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Никита Сергеевич Хрущев: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bibliotekar.ru/polk-22/inde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)активные ссылки на использованные изоб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Похороны Сталина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wiz&amp;text=%D0%BF%D0%BE%D1%85%D0%BE%D1%80%D0%BE%D0%BD%D1%8B%20%D1%81%D1%82%D0%B0%D0%BB%D0%B8%D0%BD%D0%B0&amp;noreask=1&amp;img_url=http%3A%2F%2Fimg11.nnm.ru%2F4%2Fc%2F6%2F1%2Fb%2F8c8f67e14c8e292bfbab7c83c45.jpg&amp;pos=1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Н.С.Хрущ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psearch&amp;text=%D1%85%D1%80%D1%83%D1%89%D0%B5%D0%B2&amp;noreask=1&amp;img_url=http%3A%2F%2Frusmir.in.ua%2Fuploads%2Fposts%2F2009-11%2F1258626138_xrushhev.jpg&amp;pos=0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5 марта 1953г. – умер И.Стал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размышляйте над высказывание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.Черчилль «Сталин принял Россию лапотной, а оставил с атомным оружием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роны И.В.Сталина. На улицах Москвы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0_4209f_523cedc5_XL.jpeg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14130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марта 1953г. – по март 1958г  - развернулась борьба за власть, в результате которой победу одержал Н.Хрущев (1-й секретарь ЦК КП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3" descr="1258626138_xrushhev.jpg"/>
          <p:cNvPicPr/>
          <p:nvPr/>
        </p:nvPicPr>
        <p:blipFill>
          <a:blip r:embed="rId1"/>
          <a:stretch/>
        </p:blipFill>
        <p:spPr>
          <a:xfrm>
            <a:off x="2195640" y="2708280"/>
            <a:ext cx="5276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Разоблачение «культа личности» и реабилитац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9280" y="169992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3г. – первая массовая амнис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еабилитированы жертвы «ленинградского дела», «дела врачей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евраль 1956г. – ХХ съезд КПСС – критика беззаконий сталинского режим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Н.Хрущев: «Эти вопросы созрели, их нужно было поднять. Если бы я их не поднял, их подняли бы другие. И это было бы гибелью для руководства, которое не прислушалось к велению времен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557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ждались «переломы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а «культа личности» (осуществлялась не публично, а лишь в узких партийных кругах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итическую ответственность за все жертвы и лишения власть на себя не взя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69992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6-1961г. – реабилитировано около 700 тыс. человек, часть из них – посмертн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смотрено уголовное законодательство, прошла реорганизация лагерей, улучшены условия содержания заключенны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празднено понятие «враг народ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640" y="1773000"/>
            <a:ext cx="822960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 воспоминаний Н.Хруще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…Самое главное – все мы, весь народ, и те, кто был там, за проволокой, и те, кто трясся от страха здесь, по другую сторону проволоки, все мы глотнули другого воздуха. Это главное. Это теперь так просто у народа не отнять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организация государственных органов и партийных организаций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2205000"/>
            <a:ext cx="8153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ширены права союзных республ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7г. – реформированы отраслевые министерства – преобразованы в Советы Народного Хозяй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ят новый Устав КПС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34:37Z</dcterms:created>
  <dc:creator>User</dc:creator>
  <dc:description/>
  <dc:language>en-US</dc:language>
  <cp:lastModifiedBy>User</cp:lastModifiedBy>
  <dcterms:modified xsi:type="dcterms:W3CDTF">2013-03-12T10:37:40Z</dcterms:modified>
  <cp:revision>6</cp:revision>
  <dc:subject/>
  <dc:title>Изменение политической системы СССР в 1953-1964гг.</dc:title>
</cp:coreProperties>
</file>