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3FBE-5FCF-42B1-BAF3-21620810D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F68-6B2D-402C-8AE5-C6BEC2D70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5D16-F2EC-4C5B-BB3A-615CA79F4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0251-F7CB-4EB2-86CF-7B1788EE4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16BE-B404-49A6-A5AA-481FD52C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D25C-DD91-4207-800F-3892D6BA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0E36-A50C-40E2-A9E4-8049A407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8D11C-C6BB-4375-8ABC-0D4DA338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399C-AA77-4557-9771-BF18C4745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B378-BEC0-4108-87BA-B2346DDB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C34C-C536-42EE-AC70-889CD779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2524-3D2B-4AD7-B3E9-315A9B81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0002-B503-40A8-A180-6F3D910D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27EA-E9FC-4952-9843-0AC8908A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51C6-A2F8-472F-918A-8EF7BCB1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C195-CFF6-4196-B741-2E8E5F16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02F1-7DBA-45BC-9B95-A8A0B9EB1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9BCA1-2679-47E5-B5F2-45F20011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7321C9-6351-4B25-B7AD-87A7F585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FAD902-7564-4840-B13A-B99C26A3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A92068-7072-4784-9B21-AA9503E0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C866E-38B5-4DBD-92A8-9BA8861F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E736-544A-48E5-99C3-259C4956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57220-64F0-4B5A-9C79-A96783F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E89D8B-1F06-49B6-BA97-32944CBB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0D17DD-94A3-403C-ABC2-A997BCBC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9866E-7B7C-476D-B700-67F63731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9113A-9DDC-4AB9-BB04-3C4AD2D8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2CBEA-2D8F-4997-B8C6-6F8F7A3B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81606-735C-46A1-91AD-B1BD8751C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774BAC-5B48-4BA9-97DD-F3413442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16AA73-8EAF-4F0E-B4D5-F17F3D75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BC02A-0DB5-44C3-A197-2E53459A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53EA-BAC2-475C-B3E6-8ACD2790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0CAEE2-6C13-4355-9643-8C825314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F2A39C-F780-4C4C-8B89-A4B077DF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233E3C-7E10-4182-B048-E25DDD2D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B623F4-A37E-464F-AF14-D4295101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CA5DD0-EE34-4202-81F3-8FAE7F97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2C014F-FE03-44FE-BFE2-0EB9D98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8F39DA-B43A-4964-9246-278E3D516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83935-D0DF-4ABD-8814-1EEE69213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2ED7D-E4E4-4FCD-86CC-BCEADF6A1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1ED757-6BDA-49EB-A230-80337D2E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A930-160A-407C-AC37-6ED371C4A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6E5447-2349-4B9E-9F4D-C51B517D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15B5F-870B-4CEE-B135-0EF8A4DE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DE268-7FCF-4A3A-B0B1-6A93347A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187F54-28C9-4091-B7C4-AB72D7C0D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FB1D58-DC67-4794-96FD-EA9B79B7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265D1D-B68F-4B1A-8061-8FEE6DAC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440994-420B-4E6C-8ED3-81C79705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00C92-ED27-4E2E-B265-230975A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FD07A3-C714-49BF-80DE-0FE153FF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75DF7-D6E2-47B4-B814-08C75C62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1718-4308-4B2C-83E7-11C08FCA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12BC75-0E51-4AF0-85FA-0E2E52FE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5A4DB-89E9-4221-92EE-79665E343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6F172-9492-47AB-8D07-931B0AF00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BABCB-674A-4399-8C88-6CB6660E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1D78D-DB5E-4C53-85DE-941CB27E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D993-B6E4-48A7-8BC3-1555B5D5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4F892-1D82-4244-AEF0-5C6ADFF10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25DBC-90B7-45CD-84D2-AE8E8B49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3636B-BCBD-4EA4-A8DC-899D50A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B6C6B-4F8B-4C4B-8CBD-DB8BBCB7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14A-4EE3-4F7D-BAD1-4C8119F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04CB2-A464-4C08-B719-56158337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A1727-16D0-44AA-A13C-527421F8B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4946B-5DBD-4510-B691-20EFD5F51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018DD6-A2CD-497F-B9DB-1F7A23C2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F1645F-7E07-4BF6-8631-653AA7AF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B79AD-A54A-4D9F-9887-99900A55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5D9209-E68D-460E-80C5-778DA67C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0B6E9-7D61-40E5-AC98-4A09FD7A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20FBF4-70F9-43E1-BD32-2EFC67C1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8208E-2FF4-46B7-9121-BD74EF56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DD36-44FC-4808-9338-80A351BB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504A30-0370-4DF1-9834-BBDCF73D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0EDB4-9EA9-4083-A336-7FC5AB74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356A55-2E45-49D6-AB24-C50872BA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0CAC2-8E16-44F4-A348-8CF08FC7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6658E1-B5A9-448F-BD68-8B230832B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3FD6F-962F-4956-8203-2D35FA65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0985-4E3D-4389-AA9E-272FB16B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17670-7C09-48C7-8679-A0AD3848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031B4-B991-4F33-B3ED-B335422D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17459-9E78-4564-B1AF-3B098539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50A0-C41A-4A09-977A-697EE1BB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0D0B51-E6F5-41C9-8243-12A67F23C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D4D36A-9C17-4C5A-8FE6-80B47040E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74CFE-4B60-4758-9814-37F307EA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BF159-263F-4D59-9A68-5882244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0A35F-514B-4919-B976-9516F144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9D15F-BCD7-4050-9F20-962C3132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FE890-AD3D-43A8-BEA1-FB0D1551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84E8-5106-4D0D-A703-DDC51CB84F2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347B-6D9F-47C8-BE84-2BA48E768C98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EFEC-DC33-447A-812E-224C8BA0AD83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6CA48-269D-49AB-98F6-4B55B9317D5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1693-E958-4D03-AABA-640F5D9169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5C76-5825-4EAB-981F-49FE56016252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676B-A5CF-46B5-B704-27E32CCC88D4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86A3-A4F9-43DF-9367-77D9D1BCF0E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llkriminal.ru/archives/417" TargetMode="External"/><Relationship Id="rId2" Type="http://schemas.openxmlformats.org/officeDocument/2006/relationships/hyperlink" Target="http://www.bibliotekar.ru/polk-22/index.ht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41440" y="776160"/>
            <a:ext cx="80611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1c6e6"/>
                </a:solidFill>
                <a:latin typeface="Calibri"/>
              </a:rPr>
              <a:t>ИЗМЕНЕНИЕ ПОЛИТИЧЕСКОЙ СИСТЕМЫ СССР В 1953-1964ГГ.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41440" y="2997000"/>
            <a:ext cx="80611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Учитель истории и обществознания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МКОУ «Пиндушская СОШ №1»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alibri"/>
              </a:rPr>
              <a:t>Коханович Софья Андреевна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 1962-1964гг. – велась разработка новой Конституции СССР  - «государство диктатуры пролетариата должно превратиться в общенародное, допускалась частная собственность» – такие проекты устраивали далеко не все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Из воспоминаний В.Молотов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ую общенародное государство… Не может государство выражать интересы и рабочего класса и колхозного крестьянства, и интеллигенции..Среди интеллигенции немало бывших классовых противников, они не могут за диктатуру пролетариата бороться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64г. – Н.Хрущев был обвинен в волюнтаризме и субъективизме и отстранен от занимаемой должност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Волюнтаризм – политика, не считающаяся с объективными законами, реальными условиями и возможностям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70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исок использованных источников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12720" y="1600200"/>
            <a:ext cx="8153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А)активные ссылки на страницы материалов в интерне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Похороны Сталина: кровавая давка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allkriminal.ru/archives/4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ья: Никита Сергеевич Хрущев: </a:t>
            </a:r>
            <a:r>
              <a:rPr b="0" lang="en-US" sz="2400" spc="-1" strike="noStrike" u="sng">
                <a:solidFill>
                  <a:srgbClr val="f7b615"/>
                </a:solidFill>
                <a:uFillTx/>
                <a:latin typeface="Tw Cen MT"/>
                <a:hlinkClick r:id="rId2"/>
              </a:rPr>
              <a:t>http://www.bibliotekar.ru/polk-22/index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Б)активные ссылки на использованные изображ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Похороны Сталина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wiz&amp;text=%D0%BF%D0%BE%D1%85%D0%BE%D1%80%D0%BE%D0%BD%D1%8B%20%D1%81%D1%82%D0%B0%D0%BB%D0%B8%D0%BD%D0%B0&amp;noreask=1&amp;img_url=http%3A%2F%2Fimg11.nnm.ru%2F4%2Fc%2F6%2F1%2Fb%2F8c8f67e14c8e292bfbab7c83c45.jpg&amp;pos=1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0" indent="-3060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: Н.С.Хрущ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ttp://images.yandex.ru/yandsearch?source=psearch&amp;text=%D1%85%D1%80%D1%83%D1%89%D0%B5%D0%B2&amp;noreask=1&amp;img_url=http%3A%2F%2Frusmir.in.ua%2Fuploads%2Fposts%2F2009-11%2F1258626138_xrushhev.jpg&amp;pos=0&amp;rpt=simage&amp;lr=18&amp;nojs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5 марта 1953г. – умер И.Стал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размышляйте над высказывание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У.Черчилль «Сталин принял Россию лапотной, а оставил с атомным оружием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240"/>
            <a:ext cx="81532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роны И.В.Сталина. На улицах Москвы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355" name="Содержимое 3" descr="0_4209f_523cedc5_XL.jpeg"/>
          <p:cNvPicPr/>
          <p:nvPr/>
        </p:nvPicPr>
        <p:blipFill>
          <a:blip r:embed="rId1"/>
          <a:stretch/>
        </p:blipFill>
        <p:spPr>
          <a:xfrm>
            <a:off x="971640" y="1484280"/>
            <a:ext cx="7488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68360" y="14130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марта 1953г. – по март 1958г  - развернулась борьба за власть, в результате которой победу одержал Н.Хрущев (1-й секретарь ЦК КПС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Рисунок 3" descr="1258626138_xrushhev.jpg"/>
          <p:cNvPicPr/>
          <p:nvPr/>
        </p:nvPicPr>
        <p:blipFill>
          <a:blip r:embed="rId1"/>
          <a:stretch/>
        </p:blipFill>
        <p:spPr>
          <a:xfrm>
            <a:off x="2195640" y="2708280"/>
            <a:ext cx="527688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Разоблачение «культа личности» и реабилитац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79280" y="169992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3г. – первая массовая амнист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еабилитированы жертвы «ленинградского дела», «дела врачей»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Февраль 1956г. – ХХ съезд КПСС – критика беззаконий сталинского режим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447840" indent="-382680">
              <a:spcBef>
                <a:spcPts val="700"/>
              </a:spcBef>
              <a:buClr>
                <a:srgbClr val="dd8047"/>
              </a:buClr>
              <a:buSzPct val="6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Н.Хрущев: «Эти вопросы созрели, их нужно было поднять. Если бы я их не поднял, их подняли бы другие. И это было бы гибелью для руководства, которое не прислушалось к велению времени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360" y="1557000"/>
            <a:ext cx="8229600" cy="42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Осуждались «переломы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ритика «культа личности» (осуществлялась не публично, а лишь в узких партийных кругах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литическую ответственность за все жертвы и лишения власть на себя не взя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68360" y="169992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6-1961г. – реабилитировано около 700 тыс. человек, часть из них – посмертно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ересмотрено уголовное законодательство, прошла реорганизация лагерей, улучшены условия содержания заключенных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празднено понятие «враг народ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a1c6e6"/>
              </a:solidFill>
              <a:latin typeface="Calibri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39640" y="1773000"/>
            <a:ext cx="8229600" cy="40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Из воспоминаний Н.Хруще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«…Самое главное – все мы, весь народ, и те, кто был там, за проволокой, и те, кто трясся от страха здесь, по другую сторону проволоки, все мы глотнули другого воздуха. Это главное. Это теперь так просто у народа не отнять…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532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Реорганизация государственных органов и партийных организаций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2205000"/>
            <a:ext cx="81532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ширены права союзных республи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1957г. – реформированы отраслевые министерства – преобразованы в Советы Народного Хозяйств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ринят новый Устав КПС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6T15:34:37Z</dcterms:created>
  <dc:creator>User</dc:creator>
  <dc:description/>
  <dc:language>en-US</dc:language>
  <cp:lastModifiedBy>User</cp:lastModifiedBy>
  <dcterms:modified xsi:type="dcterms:W3CDTF">2013-03-12T10:37:40Z</dcterms:modified>
  <cp:revision>6</cp:revision>
  <dc:subject/>
  <dc:title>Изменение политической системы СССР в 1953-1964гг.</dc:title>
</cp:coreProperties>
</file>