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7788-E7E5-4CE7-B22C-DE336CF1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616D-EAB3-4B9B-AE90-CCDA8E7B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5FD9-F07F-4C5D-9D9C-D6C17A62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3429-B37B-4174-95CA-2719E78A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F75C-0259-4511-A912-398583D6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A42C-CE36-42DE-9DD8-47493802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6B52-EA4B-4D21-9448-235026DD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9082-AE6C-4B8B-BC3D-E42129E4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1485-44C9-481F-B3A3-5B4C990A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85C5-148F-4CD6-A72C-2889CA56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D9E9-1655-4DA1-AF7D-3B727CF9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B589-DE30-4FD6-A1C5-6704CC2D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D098-AC42-4A62-A223-1327E6F1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F875-30AE-4401-AD47-2363A116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E2D8-C996-4275-ADDA-8A796DF8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15AC-864D-4A0E-8B6C-A93C3055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C504-DD49-4B26-BE4E-4038AE00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9F0AC9-AFDF-453D-816F-BC1E3843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FD6CB-F6E8-45CE-8255-80AD0468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BF64F-DFC0-475B-816D-8DBC16A4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2CFB1A-8CA0-4396-8694-46E2AAA6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DA2F0-4690-4E24-B88E-E0ED92CC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EF28-4950-4E76-8156-F77DB3C0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AA821-3B7E-4D55-9939-4C9EDA3E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7F15B-1620-4F90-B7E2-F390B25B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DB5348-0477-4FA7-AB7E-2195D3C6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4EFE5A-E48B-4D24-AD55-31BB9147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30754D-831D-40FE-886E-8CE876E5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1AF1EF-3448-4A24-B421-1A559250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C436C4-01FC-4F30-BDEE-786F4043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2481A2-223B-4E7B-8913-BE9F9F9F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F57E2E-0216-416B-9A14-C270A589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31D327-E2FA-4E55-BBE0-824A266A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5131-1D23-496C-898D-A4B0E3AC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A1FBA7-9DD8-40F5-BB00-E9BAB8B1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8A5CB6-A288-4EE6-935A-583DF6F8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19D797-2DA0-4E07-89D4-40D5D52D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3D7EFE-74D6-4600-BEEF-250F8B38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F39D2D-673B-4EE1-8C36-7E2BC4E8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CF240D-5D6A-48EF-9FE3-AADFD7F9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B86DED-F84F-4CA4-8788-F7EFC536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41F0E1-CCCB-43CE-84C5-A97AD4FC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5DD99D-8850-491B-8E64-BC25689F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652BC0-56D9-4CE4-BEE6-2DB5EED1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6F4B-E08E-455E-88F1-68DDECC6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71B48D-8ABC-4200-B517-7BE13BC3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CF8057-17E4-4CC7-A164-32E116A1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F8C32C-F2CA-4EA5-9B0E-49C4F9DD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748ECD-7E21-4B62-A4F6-C7623901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03CB13-4A11-45AC-8EC2-E845B0E1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F0C24A-24F0-4117-8E31-003EEFB0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A0B312-417C-4CBC-AAF9-AD56D1D0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918D52-E797-4A58-A43A-BD882216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50A8A5-E318-432E-9AF4-3C8A7703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F58AAE-CB48-48F4-B789-84FB4610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59A2-A5D9-4F57-9A45-BB5616EC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3C9F15-8287-40D0-B800-C955A086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2CCA5-FC38-46D8-9500-E9A77A2E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F29E3-6B6C-41D0-AF45-10ADB0E3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3D697-AC7F-491D-A07B-0E894944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BBF27-BE46-4EEA-9B84-62295573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8C544-87B8-45B9-AFB9-691755E3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599A8-2D8C-4B45-86FD-48423B49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B8F53-E83B-4D21-BA74-B08EE09A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3A569-A155-4080-A516-AFC43E6F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97FF9-9B8C-4F02-90FA-FD29E5DA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D1BC-6FD6-400B-B643-01C9F8AC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50963-4A49-41F2-BE99-5E912A58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B1524-DC58-4813-BA81-F1801D45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4890A-40F8-4B3A-A681-115B7812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D549E1-3DA6-462B-948B-8F6E682A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5C085E-1AE7-41B8-AE84-1AA5BE1B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A7AA59-DCCC-4A4A-8B15-BCE1FD54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1D0632-81E4-4FBD-BB67-27BB6ADC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5916D9-2CAD-438F-A80D-BD86376B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5B8D4A-82A3-444A-A492-9EE23207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8455F9-517D-4EEF-9F07-E30FC9C3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4DBC-3E39-41DB-B2F9-E52FFDA8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A80440-858C-4D90-A771-39FD89EA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BFC829-4C20-4F1B-B02A-EBE58542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B748CD-FF5F-4A84-A09B-C69A1209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366B09-5A8C-488E-ACA7-538A2564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3078E4-53A0-4508-A6D5-A76F8D03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C282F-0100-4E14-8EFC-429D3B29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B8E05-C17B-4AFA-A514-13C362DB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C72A6-BC4B-418C-8383-69788259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17BF9-09F4-481C-8D1A-7551EB50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63731-0B53-4B86-8771-904DD830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3548-AF14-4C35-B1FE-6DD389D1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EBC20-BB3B-4FAC-BD42-D6F9ED26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3C9E4-8CDD-4895-AA74-E0FD8C5A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A1A50-3DBB-4EA5-A2BD-1CA2ADC8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FECA5-67A9-4CFA-A261-DDFCE209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92E9D-6A6E-49A3-A7F0-0F715CF9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06803-F442-490A-9C5B-B2964BE3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24916-5B3B-42EC-9821-49FEE362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9E0C-299A-47A4-848C-A26C0AB9285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49F7-647C-441D-991A-4E8CA30CD22F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BACF-8D40-47A8-A16F-BB2048556F3F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AC58-6086-45D9-A236-5539406E541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27E2-ABED-4A69-AAE9-508DCE780CC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120E-C481-4217-B66D-FA89A2E3DF22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371F-84D6-4A6F-AABB-467660E55998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31F3-A427-478F-B6FA-BD3ECE06D80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llkriminal.ru/archives/417" TargetMode="External"/><Relationship Id="rId2" Type="http://schemas.openxmlformats.org/officeDocument/2006/relationships/hyperlink" Target="http://www.bibliotekar.ru/polk-22/index.ht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1c6e6"/>
                </a:solidFill>
                <a:latin typeface="Calibri"/>
              </a:rPr>
              <a:t>ИЗМЕНЕНИЕ ПОЛИТИЧЕСКОЙ СИСТЕМЫ СССР В 1953-1964ГГ.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41440" y="2997000"/>
            <a:ext cx="80611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Учитель истории и обществознания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МКОУ «Пиндушская СОШ №1»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Коханович Софья Андреевна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1962-1964гг. – велась разработка новой Конституции СССР  - «государство диктатуры пролетариата должно превратиться в общенародное, допускалась частная собственность» – такие проекты устраивали далеко не все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з воспоминаний В.Молотов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ритикую общенародное государство… Не может государство выражать интересы и рабочего класса и колхозного крестьянства, и интеллигенции..Среди интеллигенции немало бывших классовых противников, они не могут за диктатуру пролетариата бороться…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64г. – Н.Хрущев был обвинен в волюнтаризме и субъективизме и отстранен от занимаемой должност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Волюнтаризм – политика, не считающаяся с объективными законами, реальными условиями и возможностям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228600"/>
            <a:ext cx="8370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исок использованных источников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)активные ссылки на страницы материалов в интерне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: Похороны Сталина: кровавая давка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allkriminal.ru/archives/4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: Никита Сергеевич Хрущев: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http://www.bibliotekar.ru/polk-22/index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)активные ссылки на использованные изобра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: Похороны Сталина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ttp://images.yandex.ru/yandsearch?source=wiz&amp;text=%D0%BF%D0%BE%D1%85%D0%BE%D1%80%D0%BE%D0%BD%D1%8B%20%D1%81%D1%82%D0%B0%D0%BB%D0%B8%D0%BD%D0%B0&amp;noreask=1&amp;img_url=http%3A%2F%2Fimg11.nnm.ru%2F4%2Fc%2F6%2F1%2Fb%2F8c8f67e14c8e292bfbab7c83c45.jpg&amp;pos=1&amp;rpt=simage&amp;lr=18&amp;nojs=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: Н.С.Хрущ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ttp://images.yandex.ru/yandsearch?source=psearch&amp;text=%D1%85%D1%80%D1%83%D1%89%D0%B5%D0%B2&amp;noreask=1&amp;img_url=http%3A%2F%2Frusmir.in.ua%2Fuploads%2Fposts%2F2009-11%2F1258626138_xrushhev.jpg&amp;pos=0&amp;rpt=simage&amp;lr=18&amp;nojs=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5 марта 1953г. – умер И.Сталин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размышляйте над высказыванием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У.Черчилль «Сталин принял Россию лапотной, а оставил с атомным оружием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240"/>
            <a:ext cx="81532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хороны И.В.Сталина. На улицах Москвы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5" name="Содержимое 3" descr="0_4209f_523cedc5_XL.jpeg"/>
          <p:cNvPicPr/>
          <p:nvPr/>
        </p:nvPicPr>
        <p:blipFill>
          <a:blip r:embed="rId1"/>
          <a:stretch/>
        </p:blipFill>
        <p:spPr>
          <a:xfrm>
            <a:off x="971640" y="1484280"/>
            <a:ext cx="7488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68360" y="1413000"/>
            <a:ext cx="8229600" cy="36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марта 1953г. – по март 1958г  - развернулась борьба за власть, в результате которой победу одержал Н.Хрущев (1-й секретарь ЦК КПС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Рисунок 3" descr="1258626138_xrushhev.jpg"/>
          <p:cNvPicPr/>
          <p:nvPr/>
        </p:nvPicPr>
        <p:blipFill>
          <a:blip r:embed="rId1"/>
          <a:stretch/>
        </p:blipFill>
        <p:spPr>
          <a:xfrm>
            <a:off x="2195640" y="2708280"/>
            <a:ext cx="5276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Разоблачение «культа личности» и реабилитация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79280" y="1699920"/>
            <a:ext cx="8640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3г. – первая массовая амнист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еабилитированы жертвы «ленинградского дела», «дела врачей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Февраль 1956г. – ХХ съезд КПСС – критика беззаконий сталинского режима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Н.Хрущев: «Эти вопросы созрели, их нужно было поднять. Если бы я их не поднял, их подняли бы другие. И это было бы гибелью для руководства, которое не прислушалось к велению времен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360" y="1557000"/>
            <a:ext cx="82296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уждались «переломы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ритика «культа личности» (осуществлялась не публично, а лишь в узких партийных кругах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литическую ответственность за все жертвы и лишения власть на себя не взял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8360" y="169992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6-1961г. – реабилитировано около 700 тыс. человек, часть из них – посмертно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есмотрено уголовное законодательство, прошла реорганизация лагерей, улучшены условия содержания заключенны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празднено понятие «враг народа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39640" y="1773000"/>
            <a:ext cx="8229600" cy="40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з воспоминаний Н.Хруще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«…Самое главное – все мы, весь народ, и те, кто был там, за проволокой, и те, кто трясся от страха здесь, по другую сторону проволоки, все мы глотнули другого воздуха. Это главное. Это теперь так просто у народа не отнять…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5328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Реорганизация государственных органов и партийных организаций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2205000"/>
            <a:ext cx="81532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сширены права союзных республи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7г. – реформированы отраслевые министерства – преобразованы в Советы Народного Хозяй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нят новый Устав КПСС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5:34:37Z</dcterms:created>
  <dc:creator>User</dc:creator>
  <dc:description/>
  <dc:language>en-US</dc:language>
  <cp:lastModifiedBy>User</cp:lastModifiedBy>
  <dcterms:modified xsi:type="dcterms:W3CDTF">2013-03-12T10:37:40Z</dcterms:modified>
  <cp:revision>6</cp:revision>
  <dc:subject/>
  <dc:title>Изменение политической системы СССР в 1953-1964гг.</dc:title>
</cp:coreProperties>
</file>