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009-FDF4-4FBE-99D1-58E83575D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6FE3-E7C0-4812-BC7E-916652EA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BC6-CFB1-4AE1-9B15-C4A6AAAB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7682-9B2B-4329-A189-5F73CD19F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E4CD-242C-45B9-94E6-B180012B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AF89A-A6AB-4195-8D73-DEFC16DD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BE15-12D7-4993-A462-C9341692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2FCC-CED5-4A17-A063-EF3DE0A3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61D5-86B6-46E1-9F57-FC4CA581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8DCA-EF90-4B5D-94D0-0716B64C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4A5E-A0C4-435D-B456-4E965E6C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7B6B-F19B-4A98-864F-837A162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8710-1E2C-4309-929D-530CDA2D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0E55-31FD-4670-8468-F01F580E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D3D0C-11BE-42B9-9B99-88D02192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6FAC-18DE-4973-BC9D-CEF232E7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AA7E-819A-4968-996C-2F1FDC0D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F5C9-7127-42C0-8833-3C9B540E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96ED-379E-44D7-8E27-9D1ACE24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A908-59B6-41F4-9843-97B697A0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C278-BA74-42A3-BF9D-E60F80F7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2CDD-103F-4760-B5E9-53E5FB23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EB66-B1E2-4DFE-B1BC-30546DB8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5569-9499-418A-B2CC-500148AE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DDA0-AA1E-4189-ACCA-E0D7D8A64A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prstGeom prst="pie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7160" y="3786840"/>
              <a:ext cx="1641600" cy="77292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BTZBUL1A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D693-BD2E-4222-BFD9-D1D5D115AF7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pro-tank.ru/" TargetMode="External"/><Relationship Id="rId2" Type="http://schemas.openxmlformats.org/officeDocument/2006/relationships/hyperlink" Target="http://pro-tank.ru/" TargetMode="External"/><Relationship Id="rId3" Type="http://schemas.openxmlformats.org/officeDocument/2006/relationships/hyperlink" Target="http://pro-tank.ru/" TargetMode="External"/><Relationship Id="rId4" Type="http://schemas.openxmlformats.org/officeDocument/2006/relationships/hyperlink" Target="http://istoriyadrevnegomira.ru/" TargetMode="External"/><Relationship Id="rId5" Type="http://schemas.openxmlformats.org/officeDocument/2006/relationships/hyperlink" Target="http://nasledie-rus.ru/" TargetMode="External"/><Relationship Id="rId6" Type="http://schemas.openxmlformats.org/officeDocument/2006/relationships/hyperlink" Target="http://31md.ru/" TargetMode="External"/><Relationship Id="rId7" Type="http://schemas.openxmlformats.org/officeDocument/2006/relationships/hyperlink" Target="http://school48.beluo.ru/" TargetMode="External"/><Relationship Id="rId8" Type="http://schemas.openxmlformats.org/officeDocument/2006/relationships/hyperlink" Target="http://torrent-games.net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279080"/>
            <a:ext cx="8375760" cy="144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Великая Отечественная война</a:t>
            </a:r>
            <a:br>
              <a:rPr sz="4400"/>
            </a:br>
            <a:r>
              <a:rPr b="1" lang="ru-RU" sz="4400" spc="-1" strike="noStrike">
                <a:solidFill>
                  <a:srgbClr val="ffcc00"/>
                </a:solidFill>
                <a:latin typeface="Times New Roman"/>
              </a:rPr>
              <a:t>1941-1945 го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50560" y="3929040"/>
            <a:ext cx="8893080" cy="16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ff"/>
                </a:solidFill>
                <a:latin typeface="Times New Roman"/>
              </a:rPr>
              <a:t>Курская дуга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0" y="61437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дведева Т.С. Учитель истории и обществознания МКОУ «Славянская сош» Омской области Шербакульского района 2013 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93440"/>
            <a:ext cx="7772400" cy="40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Times New Roman"/>
              </a:rPr>
              <a:t>12 июля 1943 года, в районе деревни Прохоровка состоялось крупнейшее в мировой истории встречное танковое сражение, в котором участвовало 1200 танков и самоходных артиллерийских установок</a:t>
            </a:r>
            <a:r>
              <a:rPr b="0" lang="ru-RU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138960"/>
            <a:ext cx="9144000" cy="143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ражение под Прохоровкой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1468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Picture 6" descr="1273131240_kurskaya-duga"/>
          <p:cNvPicPr/>
          <p:nvPr/>
        </p:nvPicPr>
        <p:blipFill>
          <a:blip r:embed="rId1"/>
          <a:stretch/>
        </p:blipFill>
        <p:spPr>
          <a:xfrm>
            <a:off x="755640" y="1193760"/>
            <a:ext cx="770400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161640"/>
            <a:ext cx="9144000" cy="181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5 августа 1943 года –                                                                 Красная Армия освободила Орел и Белград.</a:t>
            </a:r>
            <a:br>
              <a:rPr sz="2800"/>
            </a:b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По приказу И.В.Сталина в Москве был произведен первый а всю войну,  праздничный салют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219060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8" name="Picture 6" descr="www"/>
          <p:cNvPicPr/>
          <p:nvPr/>
        </p:nvPicPr>
        <p:blipFill>
          <a:blip r:embed="rId1"/>
          <a:stretch/>
        </p:blipFill>
        <p:spPr>
          <a:xfrm>
            <a:off x="826920" y="2421000"/>
            <a:ext cx="762012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507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1"/>
              </a:rPr>
              <a:t>Используемые интернет ресурсы:</a:t>
            </a:r>
            <a:r>
              <a:rPr b="0" lang="ru-RU" sz="3600" spc="-1" strike="noStrike" u="sng">
                <a:solidFill>
                  <a:srgbClr val="f98d43"/>
                </a:solidFill>
                <a:uFillTx/>
                <a:latin typeface="Arial Black"/>
                <a:hlinkClick r:id="rId2"/>
              </a:rPr>
              <a:t>_x000b__x000b_</a:t>
            </a: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3"/>
              </a:rPr>
              <a:t>http://pro-tank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4"/>
              </a:rPr>
              <a:t>http://istoriyadrevnegomira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5"/>
              </a:rPr>
              <a:t>http://nasledie-rus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6"/>
              </a:rPr>
              <a:t>http://31md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7"/>
              </a:rPr>
              <a:t>http://school48.beluo.ru</a:t>
            </a:r>
            <a:br>
              <a:rPr sz="3600"/>
            </a:br>
            <a:r>
              <a:rPr b="0" lang="en-US" sz="3600" spc="-1" strike="noStrike" u="sng">
                <a:solidFill>
                  <a:srgbClr val="f98d43"/>
                </a:solidFill>
                <a:uFillTx/>
                <a:latin typeface="Arial Black"/>
                <a:hlinkClick r:id="rId8"/>
              </a:rPr>
              <a:t>http://torrent-games.net</a:t>
            </a:r>
            <a:br>
              <a:rPr sz="3600"/>
            </a:b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920" y="181440"/>
            <a:ext cx="87120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Военные поражения обескровили немецкую армию, и Гитлер приказал начать тотальную мобилизацию.                    50 дивизий были переброшены на Курскую дугу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5" name="Picture 5" descr="9125f77fd5c88fa33d4a4508edb471a7"/>
          <p:cNvPicPr/>
          <p:nvPr/>
        </p:nvPicPr>
        <p:blipFill>
          <a:blip r:embed="rId1"/>
          <a:stretch/>
        </p:blipFill>
        <p:spPr>
          <a:xfrm>
            <a:off x="900000" y="1557360"/>
            <a:ext cx="720108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508720" y="3215880"/>
            <a:ext cx="3635280" cy="122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.</a:t>
            </a:r>
            <a:br>
              <a:rPr sz="1800"/>
            </a:br>
            <a:r>
              <a:rPr b="0" lang="ru-RU" sz="1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cc00"/>
                </a:solidFill>
                <a:latin typeface="Times New Roman"/>
              </a:rPr>
              <a:t>Планы сторон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12 июля 194г.</a:t>
            </a:r>
            <a:r>
              <a:rPr b="0" lang="ru-RU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7" name="Picture 5" descr="113145097"/>
          <p:cNvPicPr/>
          <p:nvPr/>
        </p:nvPicPr>
        <p:blipFill>
          <a:blip r:embed="rId1"/>
          <a:stretch/>
        </p:blipFill>
        <p:spPr>
          <a:xfrm>
            <a:off x="468360" y="333360"/>
            <a:ext cx="474516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113400"/>
            <a:ext cx="9144000" cy="265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лану немецкого командования, предполагалось начать наступление в 3 часа утра, за несколько дней прорвать оборону в районе города Орла и Белграда, окружить Курский выступ и превратить хорошо укрепленный район  в братскую могилу советских солдат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9" name="Picture 5" descr="_01"/>
          <p:cNvPicPr/>
          <p:nvPr/>
        </p:nvPicPr>
        <p:blipFill>
          <a:blip r:embed="rId1"/>
          <a:stretch/>
        </p:blipFill>
        <p:spPr>
          <a:xfrm>
            <a:off x="2268360" y="2349360"/>
            <a:ext cx="4681800" cy="37530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lхайнц гударианiderg3c"/>
          <p:cNvPicPr/>
          <p:nvPr/>
        </p:nvPicPr>
        <p:blipFill>
          <a:blip r:embed="rId2"/>
          <a:stretch/>
        </p:blipFill>
        <p:spPr>
          <a:xfrm>
            <a:off x="179280" y="2781360"/>
            <a:ext cx="1973520" cy="2736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бок1266962784_leeb"/>
          <p:cNvPicPr/>
          <p:nvPr/>
        </p:nvPicPr>
        <p:blipFill>
          <a:blip r:embed="rId3"/>
          <a:stretch/>
        </p:blipFill>
        <p:spPr>
          <a:xfrm>
            <a:off x="7020000" y="2781360"/>
            <a:ext cx="1887480" cy="2712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8"/>
          <p:cNvSpPr/>
          <p:nvPr/>
        </p:nvSpPr>
        <p:spPr>
          <a:xfrm>
            <a:off x="324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удари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236000" y="55897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он Б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479160"/>
            <a:ext cx="91440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imes New Roman"/>
              </a:rPr>
              <a:t>По приказу Гитлера, под Курск были переброшены новейшие танки, на которые была особая надежд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5" name="Picture 5" descr="тигр3"/>
          <p:cNvPicPr/>
          <p:nvPr/>
        </p:nvPicPr>
        <p:blipFill>
          <a:blip r:embed="rId1"/>
          <a:stretch/>
        </p:blipFill>
        <p:spPr>
          <a:xfrm>
            <a:off x="250920" y="1773360"/>
            <a:ext cx="3560760" cy="2552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пантера"/>
          <p:cNvPicPr/>
          <p:nvPr/>
        </p:nvPicPr>
        <p:blipFill>
          <a:blip r:embed="rId2"/>
          <a:stretch/>
        </p:blipFill>
        <p:spPr>
          <a:xfrm>
            <a:off x="5364000" y="1773360"/>
            <a:ext cx="3394080" cy="25257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ferd_13_100"/>
          <p:cNvPicPr/>
          <p:nvPr/>
        </p:nvPicPr>
        <p:blipFill>
          <a:blip r:embed="rId3"/>
          <a:stretch/>
        </p:blipFill>
        <p:spPr>
          <a:xfrm>
            <a:off x="2771640" y="4508640"/>
            <a:ext cx="3009960" cy="220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250920" y="450864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оролевский тиг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012000" y="450864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- Панте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6012000" y="5950080"/>
            <a:ext cx="31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амоходное орудие Фердинанд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76200"/>
            <a:ext cx="7772400" cy="545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По техническим характеристикам русские танки были намного боеспособнее.                В первых же столкновениях, Тигры показали низкую противопожарную безопасность и получив повреждения бензобаков, горели как свечки. К тому же они имели скорость 5- 7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, а русский танк Т-34 30 км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/</a:t>
            </a: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час. Они были настолько тяжелы, что в случае поломки, их мог отбуксировать только второй Тигр.</a:t>
            </a:r>
            <a:br>
              <a:rPr sz="3200"/>
            </a:br>
            <a:r>
              <a:rPr b="0" lang="ru-RU" sz="3200" spc="-1" strike="noStrike">
                <a:solidFill>
                  <a:srgbClr val="ffcc00"/>
                </a:solidFill>
                <a:latin typeface="Times New Roman"/>
              </a:rPr>
              <a:t>Немецкие танки миф Мировой войны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03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По плану советского генштаба, за час до немецкого наступления 19 тыс. орудий обрушили сокрушительный огонь на места скопления немецких войск и боевой техники. Ни Орел ни Белград взять немецким войскам не удалось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63" name="Picture 5" descr="zhukov"/>
          <p:cNvPicPr/>
          <p:nvPr/>
        </p:nvPicPr>
        <p:blipFill>
          <a:blip r:embed="rId1"/>
          <a:stretch/>
        </p:blipFill>
        <p:spPr>
          <a:xfrm>
            <a:off x="324000" y="2349360"/>
            <a:ext cx="2592360" cy="2246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roko"/>
          <p:cNvPicPr/>
          <p:nvPr/>
        </p:nvPicPr>
        <p:blipFill>
          <a:blip r:embed="rId2"/>
          <a:stretch/>
        </p:blipFill>
        <p:spPr>
          <a:xfrm>
            <a:off x="3635280" y="2421000"/>
            <a:ext cx="2133720" cy="2997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386"/>
          <p:cNvPicPr/>
          <p:nvPr/>
        </p:nvPicPr>
        <p:blipFill>
          <a:blip r:embed="rId3"/>
          <a:stretch/>
        </p:blipFill>
        <p:spPr>
          <a:xfrm>
            <a:off x="6443640" y="2421000"/>
            <a:ext cx="2454120" cy="22464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8"/>
          <p:cNvSpPr/>
          <p:nvPr/>
        </p:nvSpPr>
        <p:spPr>
          <a:xfrm>
            <a:off x="395280" y="494172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Г.К.Жук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3203640" y="558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К.К.Рокоссовск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88000" y="4941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Ф.Ватути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Красная Армия использовала тоже новые танки: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0" name="Picture 7" descr="http://www.cultinfo.ru/fulltext/1/001/009/001/235216378.jpg"/>
          <p:cNvPicPr/>
          <p:nvPr/>
        </p:nvPicPr>
        <p:blipFill>
          <a:blip r:embed="rId1"/>
          <a:stretch/>
        </p:blipFill>
        <p:spPr>
          <a:xfrm>
            <a:off x="179280" y="765000"/>
            <a:ext cx="3614760" cy="2068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http://www.cultinfo.ru/fulltext/1/001/009/001/200517289.jpg"/>
          <p:cNvPicPr/>
          <p:nvPr/>
        </p:nvPicPr>
        <p:blipFill>
          <a:blip r:embed="rId2"/>
          <a:stretch/>
        </p:blipFill>
        <p:spPr>
          <a:xfrm>
            <a:off x="4932360" y="836640"/>
            <a:ext cx="3821040" cy="21398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http://armor.kiev.ua/Tanks/WWII/T40/t40_4.jpg"/>
          <p:cNvPicPr/>
          <p:nvPr/>
        </p:nvPicPr>
        <p:blipFill>
          <a:blip r:embed="rId3"/>
          <a:stretch/>
        </p:blipFill>
        <p:spPr>
          <a:xfrm>
            <a:off x="250920" y="3716280"/>
            <a:ext cx="3506760" cy="17924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http://armor.kiev.ua/Tanks/WWII/T50/T50_4.jpg"/>
          <p:cNvPicPr/>
          <p:nvPr/>
        </p:nvPicPr>
        <p:blipFill>
          <a:blip r:embed="rId4"/>
          <a:stretch/>
        </p:blipFill>
        <p:spPr>
          <a:xfrm>
            <a:off x="5435640" y="3645000"/>
            <a:ext cx="2889360" cy="184284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9"/>
          <p:cNvSpPr/>
          <p:nvPr/>
        </p:nvSpPr>
        <p:spPr>
          <a:xfrm>
            <a:off x="324000" y="299736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редний танк Т-3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5219640" y="321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желый танк КВ-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395280" y="5734080"/>
            <a:ext cx="36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Плавающий танк  Т-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5219640" y="5661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Легкий танк Т-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137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Times New Roman"/>
              </a:rPr>
              <a:t>Ужас на немецких солдат наводила реактивная установка прозванная солдатами «КАТЮША»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2190600" y="223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7" descr="76140857_katusha"/>
          <p:cNvPicPr/>
          <p:nvPr/>
        </p:nvPicPr>
        <p:blipFill>
          <a:blip r:embed="rId1"/>
          <a:stretch/>
        </p:blipFill>
        <p:spPr>
          <a:xfrm>
            <a:off x="1258920" y="1916280"/>
            <a:ext cx="669600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3-03-24T12:14:47Z</dcterms:modified>
  <cp:revision>10</cp:revision>
  <dc:subject/>
  <dc:title>PowerPoint Presentation</dc:title>
</cp:coreProperties>
</file>