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2F6-ACF9-4BFA-B43B-A04B6301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2C4-8C8C-4276-87E8-62A06DFE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4A3-8424-4385-ACB5-8655F50A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8B0-2A2A-4435-871F-E8788E57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53BE-2814-4C82-B56D-77A8D25B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2831-06A5-48E9-83FD-67508F5B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E649-5A21-4DE3-B77B-A629459A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7BBC-2892-43C5-8E90-98B52087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C1D8-4C32-4A73-88EE-94F81034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7073-D95D-4C0E-A4DB-563EC463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F629-F91F-42D3-A945-F4122C19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520-B0E7-41AE-93AB-F3DBECA2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585B-BB5D-4876-8351-DA0ECB97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A804-DFEA-4A23-B3F9-0EB6BAE4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C43F-21DB-4A40-A296-5C37A27B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2667-A36E-4DDF-8370-A47132EF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2B1F-A839-4C17-A40B-958DA943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220-5C7B-4C7D-964D-1A2C5EB2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25F-3864-4FC7-B09C-6264AD59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820-685C-41B6-B96B-45AA0C60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883-D0B9-4700-8154-61AD89F7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8FD-F2CA-455F-8C33-B54E73A8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4D7-3221-42E8-A71D-57C07DEE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F8C-A824-465A-887D-5BD93174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F9CB-ACC6-4D27-A1AD-D052F04F4C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3CE7-1C87-4CFD-BFAA-C979F0EE3D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o-tank.ru/" TargetMode="External"/><Relationship Id="rId2" Type="http://schemas.openxmlformats.org/officeDocument/2006/relationships/hyperlink" Target="http://pro-tank.ru/" TargetMode="External"/><Relationship Id="rId3" Type="http://schemas.openxmlformats.org/officeDocument/2006/relationships/hyperlink" Target="http://pro-tank.ru/" TargetMode="External"/><Relationship Id="rId4" Type="http://schemas.openxmlformats.org/officeDocument/2006/relationships/hyperlink" Target="http://istoriyadrevnegomira.ru/" TargetMode="External"/><Relationship Id="rId5" Type="http://schemas.openxmlformats.org/officeDocument/2006/relationships/hyperlink" Target="http://nasledie-rus.ru/" TargetMode="External"/><Relationship Id="rId6" Type="http://schemas.openxmlformats.org/officeDocument/2006/relationships/hyperlink" Target="http://31md.ru/" TargetMode="External"/><Relationship Id="rId7" Type="http://schemas.openxmlformats.org/officeDocument/2006/relationships/hyperlink" Target="http://school48.beluo.ru/" TargetMode="External"/><Relationship Id="rId8" Type="http://schemas.openxmlformats.org/officeDocument/2006/relationships/hyperlink" Target="http://torrent-games.net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279080"/>
            <a:ext cx="83757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Великая Отечественная войн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1941-1945 го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0560" y="3929040"/>
            <a:ext cx="889308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Курская дуг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0" y="6143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ведева Т.С. Учитель истории и обществознания МКОУ «Славянская сош» Омской области Шербакульского района 2013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344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12 июля 1943 года, в районе деревни Прохоровка состоялось крупнейшее в мировой истории встречное танковое сражение, в котором участвовало 1200 танков и самоходных артиллерийских установок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38960"/>
            <a:ext cx="91440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ражение под Прохоровкой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14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1273131240_kurskaya-duga"/>
          <p:cNvPicPr/>
          <p:nvPr/>
        </p:nvPicPr>
        <p:blipFill>
          <a:blip r:embed="rId1"/>
          <a:stretch/>
        </p:blipFill>
        <p:spPr>
          <a:xfrm>
            <a:off x="755640" y="1193760"/>
            <a:ext cx="7704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5 августа 1943 года –                                                                 Красная Армия освободила Орел и Белград.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 приказу И.В.Сталина в Москве был произведен первый а всю войну,  праздничный салю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190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www"/>
          <p:cNvPicPr/>
          <p:nvPr/>
        </p:nvPicPr>
        <p:blipFill>
          <a:blip r:embed="rId1"/>
          <a:stretch/>
        </p:blipFill>
        <p:spPr>
          <a:xfrm>
            <a:off x="826920" y="2421000"/>
            <a:ext cx="7620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1"/>
              </a:rPr>
              <a:t>Используемые интернет ресурсы:</a:t>
            </a: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2"/>
              </a:rPr>
              <a:t>_x000b__x000b_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3"/>
              </a:rPr>
              <a:t>http://pro-tank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4"/>
              </a:rPr>
              <a:t>http://istoriyadrevnegomira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5"/>
              </a:rPr>
              <a:t>http://nasledie-rus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6"/>
              </a:rPr>
              <a:t>http://31md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7"/>
              </a:rPr>
              <a:t>http://school48.beluo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8"/>
              </a:rPr>
              <a:t>http://torrent-games.net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1440"/>
            <a:ext cx="8712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енные поражения обескровили немецкую армию, и Гитлер приказал начать тотальную мобилизацию.                    50 дивизий были переброшены на Курскую дуг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Picture 5" descr="9125f77fd5c88fa33d4a4508edb471a7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720" y="3215880"/>
            <a:ext cx="363528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ланы сторон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2 июля 194г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" name="Picture 5" descr="113145097"/>
          <p:cNvPicPr/>
          <p:nvPr/>
        </p:nvPicPr>
        <p:blipFill>
          <a:blip r:embed="rId1"/>
          <a:stretch/>
        </p:blipFill>
        <p:spPr>
          <a:xfrm>
            <a:off x="468360" y="333360"/>
            <a:ext cx="474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3400"/>
            <a:ext cx="9144000" cy="26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лану немецкого командования, предполагалось начать наступление в 3 часа утра, за несколько дней прорвать оборону в районе города Орла и Белграда, окружить Курский выступ и превратить хорошо укрепленный район  в братскую могилу советских солда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9" name="Picture 5" descr="_01"/>
          <p:cNvPicPr/>
          <p:nvPr/>
        </p:nvPicPr>
        <p:blipFill>
          <a:blip r:embed="rId1"/>
          <a:stretch/>
        </p:blipFill>
        <p:spPr>
          <a:xfrm>
            <a:off x="2268360" y="2349360"/>
            <a:ext cx="468180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хайнц гударианiderg3c"/>
          <p:cNvPicPr/>
          <p:nvPr/>
        </p:nvPicPr>
        <p:blipFill>
          <a:blip r:embed="rId2"/>
          <a:stretch/>
        </p:blipFill>
        <p:spPr>
          <a:xfrm>
            <a:off x="179280" y="2781360"/>
            <a:ext cx="1973520" cy="27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бок1266962784_leeb"/>
          <p:cNvPicPr/>
          <p:nvPr/>
        </p:nvPicPr>
        <p:blipFill>
          <a:blip r:embed="rId3"/>
          <a:stretch/>
        </p:blipFill>
        <p:spPr>
          <a:xfrm>
            <a:off x="7020000" y="2781360"/>
            <a:ext cx="1887480" cy="2712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324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дари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236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н Б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9160"/>
            <a:ext cx="91440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риказу Гитлера, под Курск были переброшены новейшие танки, на которые была особая надеж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тигр3"/>
          <p:cNvPicPr/>
          <p:nvPr/>
        </p:nvPicPr>
        <p:blipFill>
          <a:blip r:embed="rId1"/>
          <a:stretch/>
        </p:blipFill>
        <p:spPr>
          <a:xfrm>
            <a:off x="250920" y="1773360"/>
            <a:ext cx="3560760" cy="255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пантера"/>
          <p:cNvPicPr/>
          <p:nvPr/>
        </p:nvPicPr>
        <p:blipFill>
          <a:blip r:embed="rId2"/>
          <a:stretch/>
        </p:blipFill>
        <p:spPr>
          <a:xfrm>
            <a:off x="5364000" y="1773360"/>
            <a:ext cx="3394080" cy="2525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ferd_13_100"/>
          <p:cNvPicPr/>
          <p:nvPr/>
        </p:nvPicPr>
        <p:blipFill>
          <a:blip r:embed="rId3"/>
          <a:stretch/>
        </p:blipFill>
        <p:spPr>
          <a:xfrm>
            <a:off x="2771640" y="4508640"/>
            <a:ext cx="3009960" cy="220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250920" y="4508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ролевский т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012000" y="450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- Панте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012000" y="595008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оходное орудие Фердинан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545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о техническим характеристикам русские танки были намного боеспособнее.                В первых же столкновениях, Тигры показали низкую противопожарную безопасность и получив повреждения бензобаков, горели как свечки. К тому же они имели скорость 5- 7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, а русский танк Т-34 30 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. Они были настолько тяжелы, что в случае поломки, их мог отбуксировать только второй Тигр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Немецкие танки миф Мировой войн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 плану советского генштаба, за час до немецкого наступления 19 тыс. орудий обрушили сокрушительный огонь на места скопления немецких войск и боевой техники. Ни Орел ни Белград взять немецким войскам не удалос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Picture 5" descr="zhukov"/>
          <p:cNvPicPr/>
          <p:nvPr/>
        </p:nvPicPr>
        <p:blipFill>
          <a:blip r:embed="rId1"/>
          <a:stretch/>
        </p:blipFill>
        <p:spPr>
          <a:xfrm>
            <a:off x="324000" y="2349360"/>
            <a:ext cx="2592360" cy="2246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roko"/>
          <p:cNvPicPr/>
          <p:nvPr/>
        </p:nvPicPr>
        <p:blipFill>
          <a:blip r:embed="rId2"/>
          <a:stretch/>
        </p:blipFill>
        <p:spPr>
          <a:xfrm>
            <a:off x="3635280" y="2421000"/>
            <a:ext cx="2133720" cy="299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386"/>
          <p:cNvPicPr/>
          <p:nvPr/>
        </p:nvPicPr>
        <p:blipFill>
          <a:blip r:embed="rId3"/>
          <a:stretch/>
        </p:blipFill>
        <p:spPr>
          <a:xfrm>
            <a:off x="6443640" y="2421000"/>
            <a:ext cx="2454120" cy="2246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9528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К.Жу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203640" y="558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Рокоссо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88000" y="49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Ф.Ват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расная Армия использовала тоже новые танк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7" descr="http://www.cultinfo.ru/fulltext/1/001/009/001/235216378.jpg"/>
          <p:cNvPicPr/>
          <p:nvPr/>
        </p:nvPicPr>
        <p:blipFill>
          <a:blip r:embed="rId1"/>
          <a:stretch/>
        </p:blipFill>
        <p:spPr>
          <a:xfrm>
            <a:off x="179280" y="765000"/>
            <a:ext cx="3614760" cy="2068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ttp://www.cultinfo.ru/fulltext/1/001/009/001/200517289.jpg"/>
          <p:cNvPicPr/>
          <p:nvPr/>
        </p:nvPicPr>
        <p:blipFill>
          <a:blip r:embed="rId2"/>
          <a:stretch/>
        </p:blipFill>
        <p:spPr>
          <a:xfrm>
            <a:off x="4932360" y="836640"/>
            <a:ext cx="3821040" cy="213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http://armor.kiev.ua/Tanks/WWII/T40/t40_4.jpg"/>
          <p:cNvPicPr/>
          <p:nvPr/>
        </p:nvPicPr>
        <p:blipFill>
          <a:blip r:embed="rId3"/>
          <a:stretch/>
        </p:blipFill>
        <p:spPr>
          <a:xfrm>
            <a:off x="250920" y="3716280"/>
            <a:ext cx="3506760" cy="179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http://armor.kiev.ua/Tanks/WWII/T50/T50_4.jpg"/>
          <p:cNvPicPr/>
          <p:nvPr/>
        </p:nvPicPr>
        <p:blipFill>
          <a:blip r:embed="rId4"/>
          <a:stretch/>
        </p:blipFill>
        <p:spPr>
          <a:xfrm>
            <a:off x="5435640" y="3645000"/>
            <a:ext cx="2889360" cy="1842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24000" y="299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Т-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219640" y="321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яжелый танк КВ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95280" y="57340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вающий танк  Т-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21964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гкий танк Т-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жас на немецких солдат наводила реактивная установка прозванная солдатами «КАТЮШ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76140857_katusha"/>
          <p:cNvPicPr/>
          <p:nvPr/>
        </p:nvPicPr>
        <p:blipFill>
          <a:blip r:embed="rId1"/>
          <a:stretch/>
        </p:blipFill>
        <p:spPr>
          <a:xfrm>
            <a:off x="1258920" y="1916280"/>
            <a:ext cx="6696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4T12:14:47Z</dcterms:modified>
  <cp:revision>10</cp:revision>
  <dc:subject/>
  <dc:title>PowerPoint Presentation</dc:title>
</cp:coreProperties>
</file>