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D9E1-53DA-416D-96FA-02AA3B9E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1112-9490-490B-AAA0-18F2779C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A82E-AF85-4DE1-836F-ED3AD29B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2C7B-6CB5-4A2A-A8DA-0442F071B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1454-AAFA-42AF-AE62-36D1F6ADA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6029-1CDB-4F16-B9AE-C54712EF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A289-9D61-4A9F-AB86-7517130B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143A-538B-4D03-90FC-B0D5C82B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6606-970F-4E00-B2F0-3A125ACE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AD7B-42F5-4763-9678-C1100F58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5BBF-7072-4B7F-BBCC-2581B446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D0A0-C5FD-44DF-8F1A-6693B0F2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A975-54E7-473B-9679-8E0DE441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C9CF-6C7A-4686-B092-11C4A102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24BB-9221-4A11-906A-079B44A7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6BB8-AF0D-470F-A6B1-BF25BDABA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F230-4E13-4E43-BCE1-4F62865CA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2C72-95D7-4A0E-809A-A03D150D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D8D6-6E4E-4C15-96EB-D5DF82F5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CC66-B2AA-47D6-8CB2-18AFADCD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9563-C0AF-4F2C-84FA-1A39619C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D743-6908-42CD-8A3B-94E93A05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CBC4-9022-4406-9058-4A7DC440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D05F-1CEF-4D2B-A4B3-4D5F7EC2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A0E1-9A05-4E48-9ED9-DFA3E699632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F937-84EA-4C91-9ABD-5B127EBD3E4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ro-tank.ru/" TargetMode="External"/><Relationship Id="rId2" Type="http://schemas.openxmlformats.org/officeDocument/2006/relationships/hyperlink" Target="http://pro-tank.ru/" TargetMode="External"/><Relationship Id="rId3" Type="http://schemas.openxmlformats.org/officeDocument/2006/relationships/hyperlink" Target="http://pro-tank.ru/" TargetMode="External"/><Relationship Id="rId4" Type="http://schemas.openxmlformats.org/officeDocument/2006/relationships/hyperlink" Target="http://istoriyadrevnegomira.ru/" TargetMode="External"/><Relationship Id="rId5" Type="http://schemas.openxmlformats.org/officeDocument/2006/relationships/hyperlink" Target="http://nasledie-rus.ru/" TargetMode="External"/><Relationship Id="rId6" Type="http://schemas.openxmlformats.org/officeDocument/2006/relationships/hyperlink" Target="http://31md.ru/" TargetMode="External"/><Relationship Id="rId7" Type="http://schemas.openxmlformats.org/officeDocument/2006/relationships/hyperlink" Target="http://school48.beluo.ru/" TargetMode="External"/><Relationship Id="rId8" Type="http://schemas.openxmlformats.org/officeDocument/2006/relationships/hyperlink" Target="http://torrent-games.net/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279080"/>
            <a:ext cx="837576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Великая Отечественная война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1941-1945 год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50560" y="3929040"/>
            <a:ext cx="8893080" cy="16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imes New Roman"/>
              </a:rPr>
              <a:t>Курская дуг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0" y="61437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дведева Т.С. Учитель истории и обществознания МКОУ «Славянская сош» Омской области Шербакульского района 2013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9344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12 июля 1943 года, в районе деревни Прохоровка состоялось крупнейшее в мировой истории встречное танковое сражение, в котором участвовало 1200 танков и самоходных артиллерийских установок</a:t>
            </a: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219060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38960"/>
            <a:ext cx="91440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ражение под Прохоровкой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71468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6" descr="1273131240_kurskaya-duga"/>
          <p:cNvPicPr/>
          <p:nvPr/>
        </p:nvPicPr>
        <p:blipFill>
          <a:blip r:embed="rId1"/>
          <a:stretch/>
        </p:blipFill>
        <p:spPr>
          <a:xfrm>
            <a:off x="755640" y="1193760"/>
            <a:ext cx="770400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8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5 августа 1943 года –                                                                 Красная Армия освободила Орел и Белград.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о приказу И.В.Сталина в Москве был произведен первый а всю войну,  праздничный салют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219060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6" descr="www"/>
          <p:cNvPicPr/>
          <p:nvPr/>
        </p:nvPicPr>
        <p:blipFill>
          <a:blip r:embed="rId1"/>
          <a:stretch/>
        </p:blipFill>
        <p:spPr>
          <a:xfrm>
            <a:off x="826920" y="2421000"/>
            <a:ext cx="76201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507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98d43"/>
                </a:solidFill>
                <a:uFillTx/>
                <a:latin typeface="Arial Black"/>
                <a:hlinkClick r:id="rId1"/>
              </a:rPr>
              <a:t>Используемые интернет ресурсы:</a:t>
            </a:r>
            <a:r>
              <a:rPr b="0" lang="ru-RU" sz="3600" spc="-1" strike="noStrike" u="sng">
                <a:solidFill>
                  <a:srgbClr val="f98d43"/>
                </a:solidFill>
                <a:uFillTx/>
                <a:latin typeface="Arial Black"/>
                <a:hlinkClick r:id="rId2"/>
              </a:rPr>
              <a:t>_x000b__x000b_</a:t>
            </a: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3"/>
              </a:rPr>
              <a:t>http://pro-tank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4"/>
              </a:rPr>
              <a:t>http://istoriyadrevnegomira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5"/>
              </a:rPr>
              <a:t>http://nasledie-rus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6"/>
              </a:rPr>
              <a:t>http://31md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7"/>
              </a:rPr>
              <a:t>http://school48.beluo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8"/>
              </a:rPr>
              <a:t>http://torrent-games.net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181440"/>
            <a:ext cx="87120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оенные поражения обескровили немецкую армию, и Гитлер приказал начать тотальную мобилизацию.                    50 дивизий были переброшены на Курскую дугу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5" name="Picture 5" descr="9125f77fd5c88fa33d4a4508edb471a7"/>
          <p:cNvPicPr/>
          <p:nvPr/>
        </p:nvPicPr>
        <p:blipFill>
          <a:blip r:embed="rId1"/>
          <a:stretch/>
        </p:blipFill>
        <p:spPr>
          <a:xfrm>
            <a:off x="900000" y="1557360"/>
            <a:ext cx="720108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508720" y="3215880"/>
            <a:ext cx="3635280" cy="12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Планы сторон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12 июля 194г.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7" name="Picture 5" descr="113145097"/>
          <p:cNvPicPr/>
          <p:nvPr/>
        </p:nvPicPr>
        <p:blipFill>
          <a:blip r:embed="rId1"/>
          <a:stretch/>
        </p:blipFill>
        <p:spPr>
          <a:xfrm>
            <a:off x="468360" y="333360"/>
            <a:ext cx="4745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13400"/>
            <a:ext cx="9144000" cy="265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о плану немецкого командования, предполагалось начать наступление в 3 часа утра, за несколько дней прорвать оборону в районе города Орла и Белграда, окружить Курский выступ и превратить хорошо укрепленный район  в братскую могилу советских солдат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9" name="Picture 5" descr="_01"/>
          <p:cNvPicPr/>
          <p:nvPr/>
        </p:nvPicPr>
        <p:blipFill>
          <a:blip r:embed="rId1"/>
          <a:stretch/>
        </p:blipFill>
        <p:spPr>
          <a:xfrm>
            <a:off x="2268360" y="2349360"/>
            <a:ext cx="4681800" cy="3753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lхайнц гударианiderg3c"/>
          <p:cNvPicPr/>
          <p:nvPr/>
        </p:nvPicPr>
        <p:blipFill>
          <a:blip r:embed="rId2"/>
          <a:stretch/>
        </p:blipFill>
        <p:spPr>
          <a:xfrm>
            <a:off x="179280" y="2781360"/>
            <a:ext cx="1973520" cy="273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бок1266962784_leeb"/>
          <p:cNvPicPr/>
          <p:nvPr/>
        </p:nvPicPr>
        <p:blipFill>
          <a:blip r:embed="rId3"/>
          <a:stretch/>
        </p:blipFill>
        <p:spPr>
          <a:xfrm>
            <a:off x="7020000" y="2781360"/>
            <a:ext cx="1887480" cy="2712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324000" y="5589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удари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7236000" y="5589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он Б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479160"/>
            <a:ext cx="914400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о приказу Гитлера, под Курск были переброшены новейшие танки, на которые была особая надежд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5" descr="тигр3"/>
          <p:cNvPicPr/>
          <p:nvPr/>
        </p:nvPicPr>
        <p:blipFill>
          <a:blip r:embed="rId1"/>
          <a:stretch/>
        </p:blipFill>
        <p:spPr>
          <a:xfrm>
            <a:off x="250920" y="1773360"/>
            <a:ext cx="3560760" cy="2552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пантера"/>
          <p:cNvPicPr/>
          <p:nvPr/>
        </p:nvPicPr>
        <p:blipFill>
          <a:blip r:embed="rId2"/>
          <a:stretch/>
        </p:blipFill>
        <p:spPr>
          <a:xfrm>
            <a:off x="5364000" y="1773360"/>
            <a:ext cx="3394080" cy="2525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ferd_13_100"/>
          <p:cNvPicPr/>
          <p:nvPr/>
        </p:nvPicPr>
        <p:blipFill>
          <a:blip r:embed="rId3"/>
          <a:stretch/>
        </p:blipFill>
        <p:spPr>
          <a:xfrm>
            <a:off x="2771640" y="4508640"/>
            <a:ext cx="3009960" cy="22082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250920" y="450864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оролевский тиг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6012000" y="4508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редний танк - Панте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6012000" y="5950080"/>
            <a:ext cx="31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амоходное орудие Фердинан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76200"/>
            <a:ext cx="7772400" cy="545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По техническим характеристикам русские танки были намного боеспособнее.                В первых же столкновениях, Тигры показали низкую противопожарную безопасность и получив повреждения бензобаков, горели как свечки. К тому же они имели скорость 5- 7км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/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час, а русский танк Т-34 30 км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/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час. Они были настолько тяжелы, что в случае поломки, их мог отбуксировать только второй Тигр.</a:t>
            </a:r>
            <a:br>
              <a:rPr sz="3200"/>
            </a:b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Немецкие танки миф Мировой войны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032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По плану советского генштаба, за час до немецкого наступления 19 тыс. орудий обрушили сокрушительный огонь на места скопления немецких войск и боевой техники. Ни Орел ни Белград взять немецким войскам не удалось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3" name="Picture 5" descr="zhukov"/>
          <p:cNvPicPr/>
          <p:nvPr/>
        </p:nvPicPr>
        <p:blipFill>
          <a:blip r:embed="rId1"/>
          <a:stretch/>
        </p:blipFill>
        <p:spPr>
          <a:xfrm>
            <a:off x="324000" y="2349360"/>
            <a:ext cx="2592360" cy="2246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roko"/>
          <p:cNvPicPr/>
          <p:nvPr/>
        </p:nvPicPr>
        <p:blipFill>
          <a:blip r:embed="rId2"/>
          <a:stretch/>
        </p:blipFill>
        <p:spPr>
          <a:xfrm>
            <a:off x="3635280" y="2421000"/>
            <a:ext cx="2133720" cy="2997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4386"/>
          <p:cNvPicPr/>
          <p:nvPr/>
        </p:nvPicPr>
        <p:blipFill>
          <a:blip r:embed="rId3"/>
          <a:stretch/>
        </p:blipFill>
        <p:spPr>
          <a:xfrm>
            <a:off x="6443640" y="2421000"/>
            <a:ext cx="2454120" cy="2246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395280" y="4941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.К.Жу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3203640" y="5589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.К.Рокоссовск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6588000" y="4941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.Ф.Ватут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Красная Армия использовала тоже новые танки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0" name="Picture 7" descr="http://www.cultinfo.ru/fulltext/1/001/009/001/235216378.jpg"/>
          <p:cNvPicPr/>
          <p:nvPr/>
        </p:nvPicPr>
        <p:blipFill>
          <a:blip r:embed="rId1"/>
          <a:stretch/>
        </p:blipFill>
        <p:spPr>
          <a:xfrm>
            <a:off x="179280" y="765000"/>
            <a:ext cx="3614760" cy="2068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http://www.cultinfo.ru/fulltext/1/001/009/001/200517289.jpg"/>
          <p:cNvPicPr/>
          <p:nvPr/>
        </p:nvPicPr>
        <p:blipFill>
          <a:blip r:embed="rId2"/>
          <a:stretch/>
        </p:blipFill>
        <p:spPr>
          <a:xfrm>
            <a:off x="4932360" y="836640"/>
            <a:ext cx="3821040" cy="2139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http://armor.kiev.ua/Tanks/WWII/T40/t40_4.jpg"/>
          <p:cNvPicPr/>
          <p:nvPr/>
        </p:nvPicPr>
        <p:blipFill>
          <a:blip r:embed="rId3"/>
          <a:stretch/>
        </p:blipFill>
        <p:spPr>
          <a:xfrm>
            <a:off x="250920" y="3716280"/>
            <a:ext cx="3506760" cy="1792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http://armor.kiev.ua/Tanks/WWII/T50/T50_4.jpg"/>
          <p:cNvPicPr/>
          <p:nvPr/>
        </p:nvPicPr>
        <p:blipFill>
          <a:blip r:embed="rId4"/>
          <a:stretch/>
        </p:blipFill>
        <p:spPr>
          <a:xfrm>
            <a:off x="5435640" y="3645000"/>
            <a:ext cx="2889360" cy="18428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9"/>
          <p:cNvSpPr/>
          <p:nvPr/>
        </p:nvSpPr>
        <p:spPr>
          <a:xfrm>
            <a:off x="324000" y="2997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редний танк Т-3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5219640" y="3213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яжелый танк КВ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95280" y="573408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лавающий танк  Т-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219640" y="5661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егкий танк Т-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Ужас на немецких солдат наводила реактивная установка прозванная солдатами «КАТЮША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219060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7" descr="76140857_katusha"/>
          <p:cNvPicPr/>
          <p:nvPr/>
        </p:nvPicPr>
        <p:blipFill>
          <a:blip r:embed="rId1"/>
          <a:stretch/>
        </p:blipFill>
        <p:spPr>
          <a:xfrm>
            <a:off x="1258920" y="1916280"/>
            <a:ext cx="669600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3-24T12:14:47Z</dcterms:modified>
  <cp:revision>10</cp:revision>
  <dc:subject/>
  <dc:title>PowerPoint Presentation</dc:title>
</cp:coreProperties>
</file>