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25.png" ContentType="image/pn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51B-B645-4F3F-8ADD-FFC948CC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125-F80E-45D7-9280-7170279D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4FF-1FA4-4170-8B55-0C96EF99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FCE-CC16-4995-84DF-198DAFE7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45C4-409D-4410-ABB4-A980F131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83A7-6ADA-4709-A7F2-A72233DA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CCAA-1F9B-4DEA-A92E-124382B6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9BD1-858B-4167-AC01-FE7273D7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586B-D185-40D2-B801-D60EB90D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EA91-3676-44CA-9D5C-AA53F00C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086C-75D3-4E8E-BD18-A04F0D40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C9DF-6DAA-49AE-AFF3-904EF47C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3B1F-4549-4D0B-8002-350FE6C2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B8D5-064A-45C3-AA2A-F1F2CA39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3B4E-9D48-4836-A562-A71CB246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22A0-70E1-42C1-BFC2-C38BD639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CB6C-CC3F-44F2-9585-27270A66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705-7CEA-4653-9112-A23EF884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A7C-C424-483E-A9FC-9E564A27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578-0F2F-4A31-97B2-58666AF5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CE0-F2AF-415E-8A2B-24AB7D75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23B-0FB6-4F48-8E0F-090721FB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459-B3C6-4622-A290-FC4D8819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64C-2083-441B-8B66-44299A5C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8C5B-30DC-4722-80BC-234CA37AD5A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7649-798E-4DF3-A28F-040937F733C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hyperlink" Target="http://cs10384.vkontakte.ru/u936497/-1/x_2d1b5263.jpg" TargetMode="External"/><Relationship Id="rId4" Type="http://schemas.openxmlformats.org/officeDocument/2006/relationships/hyperlink" Target="http://www.sostav.ru/articles/rus/2005/columns/rek-time/images/minin907.jpg" TargetMode="External"/><Relationship Id="rId5" Type="http://schemas.openxmlformats.org/officeDocument/2006/relationships/hyperlink" Target="http://www.pravmir.ru/wp-content/uploads/2011/11/mip-580x380.jpg" TargetMode="External"/><Relationship Id="rId6" Type="http://schemas.openxmlformats.org/officeDocument/2006/relationships/hyperlink" Target="http://history.sgu.ru/img/thumbs/x1-p6_s.jpg" TargetMode="External"/><Relationship Id="rId7" Type="http://schemas.openxmlformats.org/officeDocument/2006/relationships/hyperlink" Target="http://www.rusizn.ru/images/smuta/sm014_1.jpg" TargetMode="External"/><Relationship Id="rId8" Type="http://schemas.openxmlformats.org/officeDocument/2006/relationships/hyperlink" Target="http://sbiblio.com/biblio/archive/zanin_smuta_time_in_rus/001.jpg" TargetMode="External"/><Relationship Id="rId9" Type="http://schemas.openxmlformats.org/officeDocument/2006/relationships/hyperlink" Target="http://www.pravoslavie.ru/sas/image/100489/48957.p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pravoslavie.ru/sas/image/100489/48957.p.jpg"/>
          <p:cNvPicPr/>
          <p:nvPr/>
        </p:nvPicPr>
        <p:blipFill>
          <a:blip r:embed="rId2"/>
          <a:stretch/>
        </p:blipFill>
        <p:spPr>
          <a:xfrm>
            <a:off x="1446120" y="1773360"/>
            <a:ext cx="6340680" cy="460188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4" descr=""/>
          <p:cNvPicPr/>
          <p:nvPr/>
        </p:nvPicPr>
        <p:blipFill>
          <a:blip r:embed="rId3"/>
          <a:stretch/>
        </p:blipFill>
        <p:spPr>
          <a:xfrm>
            <a:off x="384120" y="103320"/>
            <a:ext cx="85042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3008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5 августа  Ходкевич был изгнан из Москвы. Однако не вся Москва была освобождена от захватчиков. Оставались ещё польские отряды полковников Струся и Будилы, засевшие в Китай-городе и Кремл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я, что осажденные поляки терпят страшный голод, Пожарский направил им письмо, в котором предлагал польскому рыцарству сдаться. «Ваши головы и жизнь будут сохранены вам, — писал он, — я возьму это на свою душу и упрошу согласия на это всех ратных людей». На что от польских полковников последовал высокомерный и хвастливый ответ с отказом на предложение Пожарског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Содержимое 4" descr="Lissner.jpg"/>
          <p:cNvPicPr/>
          <p:nvPr/>
        </p:nvPicPr>
        <p:blipFill>
          <a:blip r:embed="rId2"/>
          <a:stretch/>
        </p:blipFill>
        <p:spPr>
          <a:xfrm>
            <a:off x="3575160" y="642960"/>
            <a:ext cx="5283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2"/>
          <a:stretch/>
        </p:blipFill>
        <p:spPr>
          <a:xfrm>
            <a:off x="304920" y="268200"/>
            <a:ext cx="3187440" cy="719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30081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 октября 1612 года Китай-город был взят приступом русскими войсками. А на 27 октября был назначен торжественный вход в Кремль войск князей Пожарского и Трубецкого. Когда войска собрались у Лобного места, архимандрит Троице-Сергиевого монастыря Дионисий совершил торжественный молебен в честь победы ополченцев. После чего под звон колоколов победители в сопровождении народа вступили в Кремль со знаменами и хоругвями. Так завершилось очищение Москвы и Московского государства от иноземных захватч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Содержимое 4" descr="56429.jpeg"/>
          <p:cNvPicPr/>
          <p:nvPr/>
        </p:nvPicPr>
        <p:blipFill>
          <a:blip r:embed="rId3"/>
          <a:stretch/>
        </p:blipFill>
        <p:spPr>
          <a:xfrm>
            <a:off x="3643200" y="1143000"/>
            <a:ext cx="52866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274680" y="244440"/>
            <a:ext cx="3230640" cy="755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928440"/>
            <a:ext cx="3471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- самый первый в Москве! Однако, изначально его планировали установить в Нижнем Новгороде - в городе, где было собрано ополчение, "на том самом месте, где Минин представил народу все имущество своё и воспламенил тем соревнование своих сограждан", а установку приурочить к 200-летию памятных событи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 повлияла на многие сферы жизни и интерес к созданию памятника был и так велик, но после Отечественной войны, на волне подъема патриотизма, он вырос еще больш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Содержимое 4" descr="0_5dcb_b497bbfd_XL.jpg"/>
          <p:cNvPicPr/>
          <p:nvPr/>
        </p:nvPicPr>
        <p:blipFill>
          <a:blip r:embed="rId3"/>
          <a:stretch/>
        </p:blipFill>
        <p:spPr>
          <a:xfrm>
            <a:off x="4041720" y="272880"/>
            <a:ext cx="4178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30081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Установить памятник решили в Москве, на Красной площа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Содержимое 4" descr="s0806242.jpg"/>
          <p:cNvPicPr/>
          <p:nvPr/>
        </p:nvPicPr>
        <p:blipFill>
          <a:blip r:embed="rId2"/>
          <a:stretch/>
        </p:blipFill>
        <p:spPr>
          <a:xfrm>
            <a:off x="3786120" y="571680"/>
            <a:ext cx="48578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341280" y="268200"/>
            <a:ext cx="3382920" cy="1255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декабря 2004 года Госдума РФ приняла одновременно в трех чтениях поправки в Федеральный закон «О днях воинской славы (Победных днях России)». Одной из правок было введение нового праздника — Дня народного единства  4 ноября., в день освобождения Москвы от польских интервен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Содержимое 6" descr="268.jpg"/>
          <p:cNvPicPr/>
          <p:nvPr/>
        </p:nvPicPr>
        <p:blipFill>
          <a:blip r:embed="rId3"/>
          <a:stretch/>
        </p:blipFill>
        <p:spPr>
          <a:xfrm>
            <a:off x="4121280" y="179280"/>
            <a:ext cx="430848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73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300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так, в ноябре 1612 года страна была спасена. Спасена самоотверженностью людей, патриотически настроенных представителей разных сословий и народностей, сумевших преодолеть эгоизм и неприятие друг друга в борьбе против общего враг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Так было в 1612, так было через 200 лет 1812 во время борьбы с Наполеоном, так было во время Великой Отечественной войны в 1941-1945. И так должно быть всегда!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Содержимое 4" descr="3_resize.jpg"/>
          <p:cNvPicPr/>
          <p:nvPr/>
        </p:nvPicPr>
        <p:blipFill>
          <a:blip r:embed="rId3"/>
          <a:stretch/>
        </p:blipFill>
        <p:spPr>
          <a:xfrm>
            <a:off x="3575160" y="919080"/>
            <a:ext cx="51116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639880" y="493560"/>
            <a:ext cx="3340080" cy="920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85920" y="1571400"/>
            <a:ext cx="7115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лерантность означает терпимость к чужим мнениям и поступкам, способность относиться к ним без раздраж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Содержимое 4" descr="img1.gif"/>
          <p:cNvPicPr/>
          <p:nvPr/>
        </p:nvPicPr>
        <p:blipFill>
          <a:blip r:embed="rId3"/>
          <a:stretch/>
        </p:blipFill>
        <p:spPr>
          <a:xfrm>
            <a:off x="1500120" y="2714760"/>
            <a:ext cx="66596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170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300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ьте терпимее к другим людям. Запомните - не все думают и живут не так как вы, не все имеют такое же мнение как вы. И вы не можете ставить это людям в вину. Многообразие мира это прекрасно. Иначе мир был бы серым, скуч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Содержимое 8" descr="my_ediny - копия.jpg"/>
          <p:cNvPicPr/>
          <p:nvPr/>
        </p:nvPicPr>
        <p:blipFill>
          <a:blip r:embed="rId3"/>
          <a:stretch/>
        </p:blipFill>
        <p:spPr>
          <a:xfrm>
            <a:off x="3575160" y="1390680"/>
            <a:ext cx="5111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4" descr=""/>
          <p:cNvPicPr/>
          <p:nvPr/>
        </p:nvPicPr>
        <p:blipFill>
          <a:blip r:embed="rId2"/>
          <a:stretch/>
        </p:blipFill>
        <p:spPr>
          <a:xfrm>
            <a:off x="165240" y="633240"/>
            <a:ext cx="89424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85480" y="221472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ные ресур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ртрет Д. Пожарского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lemur59.ru/sites/default/files/images/1030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cs10384.vkontakte.ru/u936497/-1/x_2d1b5263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sostav.ru/articles/rus/2005/columns/rek-time/images/minin907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ъезжают в Москву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http://www.pravmir.ru/wp-content/uploads/2011/11/mip-580x380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«Изгнание польских интервентов из Московского Кремля. Автор: Лисснер Э.»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http://history.sgu.ru/img/thumbs/x1-p6_s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ервое ополчени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http://www.rusizn.ru/images/smuta/sm014_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ворянская конница XVI в. С. Герберштейн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http://sbiblio.com/biblio/archive/zanin_smuta_time_in_rus/00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аталия. </a:t>
            </a:r>
            <a:r>
              <a:rPr b="1" lang="en-US" sz="1100" spc="-1" strike="noStrike">
                <a:solidFill>
                  <a:srgbClr val="000000"/>
                </a:solidFill>
                <a:latin typeface="Book Antiqua"/>
              </a:rPr>
              <a:t>http://dugward.ru/library/miechow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ень народного единства . </a:t>
            </a:r>
            <a:r>
              <a:rPr b="1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http://www.pravoslavie.ru/sas/image/100489/48957.p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ловно радуги цвета…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uvo.do.am/foto_novosti/my_ediny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руг толерантности.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 http://www.savelki.ru/kdn_i_zp/DruzhbaNarodovV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хема толерантности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rudocs.exdat.com/pars_docs/tw_refs/260/259336/259336_html_m3f4f0f84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s015.radikal.ru/i332/1103/c8/67e43198a07d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3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19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йчикова Татьяна Виктор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СОШ №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. А.А. Перфиль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зработке презентации принимали участие учащиеся 9-11 классов, члены школьного кружка по краеведе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ознакомить учащихся с историей возникновения праздника День народного един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патриотическое воспитание школьников через осознание необходимости всеобщего единения для победы над агрессор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формирование толерантности по отношению к людям любых народов, наций, религ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2"/>
          <a:stretch/>
        </p:blipFill>
        <p:spPr>
          <a:xfrm>
            <a:off x="371520" y="19080"/>
            <a:ext cx="3060720" cy="1090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300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Государство гарантирует равенство прав и свобод человека и гражданина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Запрещаются любые формы ограничения прав граждан по признакам социальной, расовой, национальной, языковой или религиозной принадлеж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Содержимое 5" descr="67e43198a07d.jpg"/>
          <p:cNvPicPr/>
          <p:nvPr/>
        </p:nvPicPr>
        <p:blipFill>
          <a:blip r:embed="rId3"/>
          <a:stretch/>
        </p:blipFill>
        <p:spPr>
          <a:xfrm>
            <a:off x="4032360" y="272880"/>
            <a:ext cx="4197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4" descr=""/>
          <p:cNvPicPr/>
          <p:nvPr/>
        </p:nvPicPr>
        <p:blipFill>
          <a:blip r:embed="rId2"/>
          <a:stretch/>
        </p:blipFill>
        <p:spPr>
          <a:xfrm>
            <a:off x="274680" y="268200"/>
            <a:ext cx="3193920" cy="1236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 начале </a:t>
            </a:r>
            <a:r>
              <a:rPr b="1" lang="de-DE" sz="1800" spc="-1" strike="noStrike">
                <a:solidFill>
                  <a:srgbClr val="0d0d0d"/>
                </a:solidFill>
                <a:latin typeface="Book Antiqua"/>
              </a:rPr>
              <a:t>XVII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ека на российской земле царил хаос и разруха. Противостояние внутри страны приобрело трагический характер: рвались родственные связи, гибли виновные и безвинные. Усугубляли положение внешние силы, вынашивавшие планы ослабления и подчинения России</a:t>
            </a: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Содержимое 9" descr="miechow.jpg"/>
          <p:cNvPicPr/>
          <p:nvPr/>
        </p:nvPicPr>
        <p:blipFill>
          <a:blip r:embed="rId3"/>
          <a:stretch/>
        </p:blipFill>
        <p:spPr>
          <a:xfrm>
            <a:off x="3714840" y="714240"/>
            <a:ext cx="5000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16368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эти трагические месяцы огромную роль сыграли посадские и уездные люди, которые взяли инициативу освобождения России и изгнание интервентов в свои ру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Содержимое 4" descr="sm014_1.jpg"/>
          <p:cNvPicPr/>
          <p:nvPr/>
        </p:nvPicPr>
        <p:blipFill>
          <a:blip r:embed="rId3"/>
          <a:stretch/>
        </p:blipFill>
        <p:spPr>
          <a:xfrm>
            <a:off x="3786120" y="1000080"/>
            <a:ext cx="5072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611 году в Рязани под руководством Прокопия Ляпунова было создано народное ополчение. Кроме Ляпунова им руководили князь Трубецкой  и атаман Заруцк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-за противоречий между ними и предательства Заруцкого 1-е ополчение распало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4" descr="07-14.jpg"/>
          <p:cNvPicPr/>
          <p:nvPr/>
        </p:nvPicPr>
        <p:blipFill>
          <a:blip r:embed="rId2"/>
          <a:stretch/>
        </p:blipFill>
        <p:spPr>
          <a:xfrm>
            <a:off x="4071960" y="1143000"/>
            <a:ext cx="42861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3043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я, по словам современников пребывала «при последнем времени» Казалось, уже не осталось сил для ее возрож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люди вновь продемон- стрировали свою волю. Осенью 1611 года, усилиями нижегородского старосты Кузьмы Минина было создано Второе ополч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Содержимое 4" descr="minin-580x353.jpg"/>
          <p:cNvPicPr/>
          <p:nvPr/>
        </p:nvPicPr>
        <p:blipFill>
          <a:blip r:embed="rId3"/>
          <a:stretch/>
        </p:blipFill>
        <p:spPr>
          <a:xfrm>
            <a:off x="3786120" y="857160"/>
            <a:ext cx="5143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ыл найден и воевода, не запятнавший себя изменами,- князь Дмитрий Михайлович Пожарский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Содержимое 4" descr="1030.jpg"/>
          <p:cNvPicPr/>
          <p:nvPr/>
        </p:nvPicPr>
        <p:blipFill>
          <a:blip r:embed="rId2"/>
          <a:stretch/>
        </p:blipFill>
        <p:spPr>
          <a:xfrm>
            <a:off x="4000680" y="384120"/>
            <a:ext cx="4572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243240" cy="1517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августе 1612 года полки Второго ополчения подошли к Моск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десь в районе Новодевичьего монастыря им пришлось вести тяжелые бои с гетманом Ходкевич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решающий момент отрядам Второго ополчения помогли казаки Первого ополчения. Боевое содружество привело к победе над врагом и к объединению всех с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Содержимое 6" descr="1262194244_imgb.jpeg"/>
          <p:cNvPicPr/>
          <p:nvPr/>
        </p:nvPicPr>
        <p:blipFill>
          <a:blip r:embed="rId3"/>
          <a:stretch/>
        </p:blipFill>
        <p:spPr>
          <a:xfrm>
            <a:off x="3575160" y="1000080"/>
            <a:ext cx="5283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3:57:06Z</dcterms:created>
  <dc:creator>дом</dc:creator>
  <dc:description/>
  <dc:language>en-US</dc:language>
  <cp:lastModifiedBy>Мама</cp:lastModifiedBy>
  <dcterms:modified xsi:type="dcterms:W3CDTF">2012-10-29T04:23:41Z</dcterms:modified>
  <cp:revision>36</cp:revision>
  <dc:subject/>
  <dc:title>Слайд 1</dc:title>
</cp:coreProperties>
</file>