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B1D-7750-4BA8-A807-9C2BD116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14A-66BB-4BC1-BF10-0A42D05E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436-B117-4547-B291-A1941868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B4C-71B4-4461-9F7D-EE0282A3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046-3537-45BC-BFFD-11F7BD09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DD5-7857-48CB-B97C-F23C3B07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FDD-82F0-4FBD-BA31-399FB562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9BD-8100-40CF-A70E-5D12619C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9A9-793F-4A69-9D6C-7499B2A8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9B6-074D-4517-B58B-BCF7E662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493-BC40-4A47-808A-8EE16E33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601-159D-4F1B-818F-9F4DE9B0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8522-3A79-407D-A898-E23669087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040" y="2349360"/>
            <a:ext cx="8628120" cy="25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еликобритания: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анской эпохи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дерами от консервативной партии стал Бенджамин Дизраэли, либеральной – Уильям Гладс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33680" y="3213000"/>
            <a:ext cx="20383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4437000"/>
            <a:ext cx="2089080" cy="792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2920" y="5877000"/>
            <a:ext cx="2089080" cy="7920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557360"/>
            <a:ext cx="6913440" cy="100800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ирательная реформа 186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33960" y="2565360"/>
            <a:ext cx="67464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0193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чтожила « гнилые местеч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9337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оставила освободившиеся ме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пны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79736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ался имущественный цен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66100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избирателей увеличило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1484280"/>
            <a:ext cx="8424720" cy="1152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аконили право тренд-юнионов, давшее им пра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удебную защиту и проведение ста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37000"/>
            <a:ext cx="6589440" cy="115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ён закон о тайном голосовании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ах в парл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3645000"/>
            <a:ext cx="6298920" cy="10792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а школьная рефо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653000"/>
            <a:ext cx="655308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 о 54 – часовой рабочей нед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661000"/>
            <a:ext cx="6299280" cy="107964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ы советы, обладавшие вла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Arial"/>
              </a:rPr>
              <a:t>1884-1885 г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либералы провели третью избирательную реформу, по которой были уничтожены 100  « гнилых местечек» и предоставил права домовладельцам и сельским работн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4400" y="461520"/>
            <a:ext cx="7917120" cy="1124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орговля следует за флаг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59 – 160 и ответьте на вопрос: « Что означает выражение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Торговля следует за флаг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484280"/>
            <a:ext cx="8136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0 г. конгресс тренд-юниоров создал « Комитет рабочего правитель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3 г. число членов « Комитета…» составляла почти 500 тыс.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6 г. « Комитет..» был переименован 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чую                                  ( лейбористскую)  парти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 мощной была всеобщая шестинедельная стачка углекопов в 1912 г.. По результатам которой правительство приняло закон о минимуме  заработной платы для горня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ормы во имя                             « классового мир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61-162 и выясните, какие реформы принял Дэвид Ллойд Джордж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8464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943600"/>
            <a:ext cx="3382920" cy="581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. Л. Джор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95280" y="1700280"/>
            <a:ext cx="469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е за автономию Ирландии на рубеже XIX—XX вв. Предполагало собственный парламент и органы самоуправления при сохранении над островом британского суверенит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640" y="4164120"/>
            <a:ext cx="3745080" cy="22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26400" y="443520"/>
            <a:ext cx="7891200" cy="10155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Мятежный остров» получает гомр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Arial"/>
              </a:rPr>
              <a:t>Сегодня вы узнает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Почему « мастерская мира» уходит в прошл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ая форма правления сложилась в Великобр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ие реформы были проведены в этом государ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ое государство назвали                         « мятежным островом»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2060280"/>
            <a:ext cx="5712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 1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400" y="407520"/>
            <a:ext cx="8096400" cy="800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20, записи, вопросы 2,6 письме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шаблон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МОУ СОШ №20 п. Баранчинский, г. Кушва, Свердловской обл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Рисунок для фо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http://ru.wikipedia.org/wiki/%C3%EE%EC%F0%F3%EB%F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4869000"/>
            <a:ext cx="7056720" cy="158436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астерская мира» уходит в прошл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ухпартий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Эпоха реф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Торговля следует за флаго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ижение прот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ятежный остров получает гомру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К концу 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ека в Англии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аметилось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замедление темпов развития промышленности. Это было связано с вывозом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15359-large"/>
          <p:cNvPicPr/>
          <p:nvPr/>
        </p:nvPicPr>
        <p:blipFill>
          <a:blip r:embed="rId2"/>
          <a:stretch/>
        </p:blipFill>
        <p:spPr>
          <a:xfrm>
            <a:off x="324000" y="227664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Английские предприниматели и банкиры предпочитали вкладывать капиталы в страны. Где дешевле было сырьё и рабочи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395280" y="2205000"/>
            <a:ext cx="4465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Отечественная промышленность часто не имела средств для обновления устаревшего оборудования; стала снижаться конкурентноспособ-ность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Индустриализация"/>
          <p:cNvPicPr/>
          <p:nvPr/>
        </p:nvPicPr>
        <p:blipFill>
          <a:blip r:embed="rId2"/>
          <a:stretch/>
        </p:blipFill>
        <p:spPr>
          <a:xfrm>
            <a:off x="395280" y="2927520"/>
            <a:ext cx="367200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товары с клеймом «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in German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 появились на рынках всех стран и были дешевле английских. В 90-е годы роль Англии как « мастерской мира» уходит в прош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ым оставалось положение в сельском хозяйстве – фермеры не могли конкурировать  с потоком хлынувшего дешёвого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29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ухпартий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60-е годы старые партии тори и вигов стали называться консервативной и либеральной партиями. В 70-е годы в парламенте они представляли собой разграниченные лаге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65680" cy="239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74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21:02Z</dcterms:modified>
  <cp:revision>3</cp:revision>
  <dc:subject/>
  <dc:title>Заголовок слайда</dc:title>
</cp:coreProperties>
</file>