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77D-404B-44A5-97DE-184DAFC6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A2F-CBC5-47E5-94C1-902F7EDC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3810-B657-4E94-9D1D-9CA5E2D6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2D2-1CBE-43B8-84E5-E1792FC3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FC4-2E76-4E05-9600-04A45D1C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39C-1B2C-4B8D-9083-589C74DE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34E-058B-4D1D-BE38-F7083E3A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9607-E574-41A9-8685-0DEE43AB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3AC-339B-4C56-8838-1E3B0C5A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9F5-BC3B-4D22-97BF-9EE741DA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E23-C93F-493F-B581-4D0CA740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4CA-8239-4314-AB24-8B824332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AC3F-17D1-429B-9626-88183BF5B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7628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тория Нового времени 8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7040" y="2349360"/>
            <a:ext cx="8628120" cy="25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Великобритания: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анской эпохи"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дерами от консервативной партии стал Бенджамин Дизраэли, либеральной – Уильям Гладст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33680" y="3213000"/>
            <a:ext cx="2038320" cy="3024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4437000"/>
            <a:ext cx="2089080" cy="79236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ндж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зраэ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482920" y="5877000"/>
            <a:ext cx="2089080" cy="7920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ь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дс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1557360"/>
            <a:ext cx="6913440" cy="100800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ирательная реформа 1867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233960" y="2565360"/>
            <a:ext cx="674640" cy="4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0193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ичтожила « гнилые местеч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9337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оставила освободившиеся мес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пным горо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479736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ьшался имущественный цен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66100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избирателей увеличило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1484280"/>
            <a:ext cx="8424720" cy="1152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аконили право тренд-юнионов, давшее им пра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удебную защиту и проведение ста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637000"/>
            <a:ext cx="6589440" cy="115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едён закон о тайном голосовании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орах в парл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3645000"/>
            <a:ext cx="6298920" cy="10792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а школьная рефор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653000"/>
            <a:ext cx="655308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 о 54 – часовой рабочей неде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5661000"/>
            <a:ext cx="6299280" cy="107964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ы советы, обладавшие вла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ных органов в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55736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 u="sng">
                <a:solidFill>
                  <a:srgbClr val="c0504d"/>
                </a:solidFill>
                <a:uFillTx/>
                <a:latin typeface="Arial"/>
              </a:rPr>
              <a:t>1884-1885 г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либералы провели третью избирательную реформу, по которой были уничтожены 100  « гнилых местечек» и предоставил права домовладельцам и сельским работни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44400" y="461520"/>
            <a:ext cx="7917120" cy="1124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орговля следует за флаго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04640"/>
            <a:ext cx="8435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59 – 160 и ответьте на вопрос: « Что означает выражение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Торговля следует за флаг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3280" y="1484280"/>
            <a:ext cx="8136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0 г. конгресс тренд-юниоров создал « Комитет рабочего правитель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3 г. число членов « Комитета…» составляла почти 500 тыс.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6 г. « Комитет..» был переименован в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бочую                                  ( лейбористскую)  парти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60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енно мощной была всеобщая шестинедельная стачка углекопов в 1912 г.. По результатам которой правительство приняло закон о минимуме  заработной платы для горня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формы во имя                             « классового мир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4000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61-162 и выясните, какие реформы принял Дэвид Ллойд Джордж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28464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5943600"/>
            <a:ext cx="3382920" cy="58104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. Л. Джор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95280" y="1700280"/>
            <a:ext cx="469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вижение за автономию Ирландии на рубеже XIX—XX вв. Предполагало собственный парламент и органы самоуправления при сохранении над островом британского суверенит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9640" y="4164120"/>
            <a:ext cx="3745080" cy="2289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26400" y="443520"/>
            <a:ext cx="7891200" cy="10155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Мятежный остров» получает гомру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Arial"/>
              </a:rPr>
              <a:t>Сегодня вы узнает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Почему « мастерская мира» уходит в прошло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ая форма правления сложилась в Великобрита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ие реформы были проведены в этом государст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ое государство назвали                         « мятежным островом» и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907640" y="2060280"/>
            <a:ext cx="57121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ы на стр. 1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0400" y="407520"/>
            <a:ext cx="8096400" cy="800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араграф20, записи, вопросы 2,6 письмен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 шаблона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МОУ СОШ №20 п. Баранчинский, г. Кушва, Свердловской обл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Рисунок для фо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http://ru.wikipedia.org/wiki/%C3%EE%EC%F0%F3%EB%F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4869000"/>
            <a:ext cx="7056720" cy="158436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Arial"/>
              </a:rPr>
              <a:t>Работаем по плану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астерская мира» уходит в прошл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ухпартийная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Эпоха рефо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Торговля следует за флаго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ижение проте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ятежный остров получает гомру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К концу </a:t>
            </a: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XIX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ека в Англии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наметилось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замедление темпов развития промышленности. Это было связано с вывозом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15359-large"/>
          <p:cNvPicPr/>
          <p:nvPr/>
        </p:nvPicPr>
        <p:blipFill>
          <a:blip r:embed="rId2"/>
          <a:stretch/>
        </p:blipFill>
        <p:spPr>
          <a:xfrm>
            <a:off x="324000" y="2276640"/>
            <a:ext cx="4464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ce1"/>
                </a:solidFill>
                <a:latin typeface="Arial"/>
              </a:rPr>
              <a:t>Английские предприниматели и банкиры предпочитали вкладывать капиталы в страны. Где дешевле было сырьё и рабочие р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6"/>
          <p:cNvPicPr/>
          <p:nvPr/>
        </p:nvPicPr>
        <p:blipFill>
          <a:blip r:embed="rId2"/>
          <a:stretch/>
        </p:blipFill>
        <p:spPr>
          <a:xfrm>
            <a:off x="395280" y="2205000"/>
            <a:ext cx="44658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0360" y="16002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Arial"/>
              </a:rPr>
              <a:t>Отечественная промышленность часто не имела средств для обновления устаревшего оборудования; стала снижаться конкурентноспособ-ность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Индустриализация"/>
          <p:cNvPicPr/>
          <p:nvPr/>
        </p:nvPicPr>
        <p:blipFill>
          <a:blip r:embed="rId2"/>
          <a:stretch/>
        </p:blipFill>
        <p:spPr>
          <a:xfrm>
            <a:off x="395280" y="2927520"/>
            <a:ext cx="3672000" cy="245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ие товары с клеймом «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in Germany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  появились на рынках всех стран и были дешевле английских. В 90-е годы роль Англии как « мастерской мира» уходит в прошл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608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жным оставалось положение в сельском хозяйстве – фермеры не могли конкурировать  с потоком хлынувшего дешёвого продоволь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293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ухпартий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60-е годы старые партии тори и вигов стали называться консервативной и либеральной партиями. В 70-е годы в парламенте они представляли собой разграниченные лагер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65680" cy="239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3744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user</cp:lastModifiedBy>
  <dcterms:modified xsi:type="dcterms:W3CDTF">2001-12-31T23:21:02Z</dcterms:modified>
  <cp:revision>3</cp:revision>
  <dc:subject/>
  <dc:title>Заголовок слайда</dc:title>
</cp:coreProperties>
</file>