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B13-9E90-43DE-907C-795FE9B2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FCF-C20C-4498-ACD1-BC4F0C05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ACF-4538-4072-9A90-03522E1B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4EB-FB54-4B6D-8B6C-A3C0B6C3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73B-2075-4E8A-AB37-61935938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047-99A3-47AF-95E4-FE742F7E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D7B-3CDE-4C89-B3CF-C8618758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71D-21CC-4111-BBF8-6B9A819E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7E8-F9F8-4C2A-936D-ABA765B5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7FF-CB64-4556-A442-AD95D9F7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669-D25B-44DB-A7DC-0ECEA3EE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0FA-5317-4283-A769-F0EA1642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12F3-76EF-457D-99BE-AA3F4A9A1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ория Нового времени 8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7040" y="2349360"/>
            <a:ext cx="8628120" cy="25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еликобритания: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анской эпохи"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дерами от консервативной партии стал Бенджамин Дизраэли, либеральной – Уильям Гладс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33680" y="3213000"/>
            <a:ext cx="2038320" cy="3024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4437000"/>
            <a:ext cx="2089080" cy="7923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82920" y="5877000"/>
            <a:ext cx="2089080" cy="7920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с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1557360"/>
            <a:ext cx="6913440" cy="100800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ирательная реформа 1867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233960" y="2565360"/>
            <a:ext cx="67464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0193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чтожила « гнилые местеч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9337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оставила освободившиеся ме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пным го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79736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ался имущественный цен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66100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избирателей увеличило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1484280"/>
            <a:ext cx="8424720" cy="1152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аконили право тренд-юнионов, давшее им пра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удебную защиту и проведение ста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37000"/>
            <a:ext cx="6589440" cy="115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ён закон о тайном голосовании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орах в парл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3645000"/>
            <a:ext cx="6298920" cy="10792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а школьная рефо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653000"/>
            <a:ext cx="655308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 о 54 – часовой рабочей нед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5661000"/>
            <a:ext cx="6299280" cy="107964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ы советы, обладавшие вла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ых органов в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55736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Arial"/>
              </a:rPr>
              <a:t>1884-1885 г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либералы провели третью избирательную реформу, по которой были уничтожены 100  « гнилых местечек» и предоставил права домовладельцам и сельским работни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44400" y="461520"/>
            <a:ext cx="7917120" cy="1124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орговля следует за флаг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59 – 160 и ответьте на вопрос: « Что означает выражение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Торговля следует за флаг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280" y="1484280"/>
            <a:ext cx="8136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0 г. конгресс тренд-юниоров создал « Комитет рабочего правитель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3 г. число членов « Комитета…» составляла почти 500 тыс.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6 г. « Комитет..» был переименован 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бочую                                  ( лейбористскую)  парти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 мощной была всеобщая шестинедельная стачка углекопов в 1912 г.. По результатам которой правительство приняло закон о минимуме  заработной платы для горня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формы во имя                             « классового мир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40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61-162 и выясните, какие реформы принял Дэвид Ллойд Джордж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28464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943600"/>
            <a:ext cx="3382920" cy="5810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. Л. Джор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95280" y="1700280"/>
            <a:ext cx="469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ижение за автономию Ирландии на рубеже XIX—XX вв. Предполагало собственный парламент и органы самоуправления при сохранении над островом британского суверенит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9640" y="4164120"/>
            <a:ext cx="3745080" cy="228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26400" y="443520"/>
            <a:ext cx="7891200" cy="10155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Мятежный остров» получает гомр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Arial"/>
              </a:rPr>
              <a:t>Сегодня вы узнает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Почему « мастерская мира» уходит в прошло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ая форма правления сложилась в Великобрит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ие реформы были проведены в этом государ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ое государство назвали                         « мятежным островом»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7640" y="2060280"/>
            <a:ext cx="5712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на стр. 1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0400" y="407520"/>
            <a:ext cx="8096400" cy="800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араграф20, записи, вопросы 2,6 письмен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шаблона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МОУ СОШ №20 п. Баранчинский, г. Кушва, Свердловской обл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Рисунок для фо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http://ru.wikipedia.org/wiki/%C3%EE%EC%F0%F3%EB%F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4869000"/>
            <a:ext cx="7056720" cy="158436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Работаем по план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астерская мира» уходит в прошл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ухпартийн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Эпоха реф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Торговля следует за флаго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ижение прот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ятежный остров получает гомру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К концу 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ека в Англии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наметилось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замедление темпов развития промышленности. Это было связано с вывозом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15359-large"/>
          <p:cNvPicPr/>
          <p:nvPr/>
        </p:nvPicPr>
        <p:blipFill>
          <a:blip r:embed="rId2"/>
          <a:stretch/>
        </p:blipFill>
        <p:spPr>
          <a:xfrm>
            <a:off x="324000" y="2276640"/>
            <a:ext cx="446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ce1"/>
                </a:solidFill>
                <a:latin typeface="Arial"/>
              </a:rPr>
              <a:t>Английские предприниматели и банкиры предпочитали вкладывать капиталы в страны. Где дешевле было сырьё и рабочие р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6"/>
          <p:cNvPicPr/>
          <p:nvPr/>
        </p:nvPicPr>
        <p:blipFill>
          <a:blip r:embed="rId2"/>
          <a:stretch/>
        </p:blipFill>
        <p:spPr>
          <a:xfrm>
            <a:off x="395280" y="2205000"/>
            <a:ext cx="4465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036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"/>
              </a:rPr>
              <a:t>Отечественная промышленность часто не имела средств для обновления устаревшего оборудования; стала снижаться конкурентноспособ-ность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Индустриализация"/>
          <p:cNvPicPr/>
          <p:nvPr/>
        </p:nvPicPr>
        <p:blipFill>
          <a:blip r:embed="rId2"/>
          <a:stretch/>
        </p:blipFill>
        <p:spPr>
          <a:xfrm>
            <a:off x="395280" y="2927520"/>
            <a:ext cx="3672000" cy="245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ие товары с клеймом «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in Germany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  появились на рынках всех стран и были дешевле английских. В 90-е годы роль Англии как « мастерской мира» уходит в прошл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608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ым оставалось положение в сельском хозяйстве – фермеры не могли конкурировать  с потоком хлынувшего дешёвого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293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ухпартий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60-е годы старые партии тори и вигов стали называться консервативной и либеральной партиями. В 70-е годы в парламенте они представляли собой разграниченные лаге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65680" cy="239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3744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21:02Z</dcterms:modified>
  <cp:revision>3</cp:revision>
  <dc:subject/>
  <dc:title>Заголовок слайда</dc:title>
</cp:coreProperties>
</file>