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C09E-85C0-4505-9767-931D450D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39AA-F534-46D4-8257-8453DBDB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A606-D4C2-40CF-9261-41C3D0A9E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C2D0-03C0-4695-A1FC-A5AFEC46F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FA1F-D021-46F2-B464-0B1D9442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594C-392E-4FB6-82E2-9C7F5C8A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69E6-FC39-44D1-AC02-57F40916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F38A-CF16-43CF-A94B-F3A75FB9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4C79-5849-4B6D-81FE-1BA80173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5A18-A78D-4632-B02C-E3C2E52A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DF64-F534-404F-9673-5E4023F2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D1E6-C3A1-405E-83D0-DED73A84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6343-A3A4-4ED3-AB4A-974F8934F8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7628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стория Нового времени 8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7040" y="2349360"/>
            <a:ext cx="8628120" cy="257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 Великобритания: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нец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кторианской эпохи"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дерами от консервативной партии стал Бенджамин Дизраэли, либеральной – Уильям Гладст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2206800" cy="2952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533680" y="3213000"/>
            <a:ext cx="2038320" cy="3024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5280" y="4437000"/>
            <a:ext cx="2089080" cy="79236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нджам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зраэ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2482920" y="5877000"/>
            <a:ext cx="2089080" cy="7920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илья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дст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1258920" y="1557360"/>
            <a:ext cx="6913440" cy="100800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бирательная реформа 1867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4233960" y="2565360"/>
            <a:ext cx="674640" cy="471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301932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ничтожила « гнилые местеч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393372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оставила освободившиеся мес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упным город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479736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меньшался имущественный цен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566100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исло избирателей увеличилос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1484280"/>
            <a:ext cx="8424720" cy="11527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законили право тренд-юнионов, давшее им прав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удебную защиту и проведение стач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2637000"/>
            <a:ext cx="6589440" cy="1152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ведён закон о тайном голосовании 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борах в парла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3645000"/>
            <a:ext cx="6298920" cy="107928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дена школьная рефор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4653000"/>
            <a:ext cx="6553080" cy="12240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 о 54 – часовой рабочей неде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5661000"/>
            <a:ext cx="6299280" cy="107964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зданы советы, обладавшие вла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ных органов в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24000" y="1557360"/>
            <a:ext cx="4824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en-US" sz="2800" spc="-1" strike="noStrike" u="sng">
                <a:solidFill>
                  <a:srgbClr val="c0504d"/>
                </a:solidFill>
                <a:uFillTx/>
                <a:latin typeface="Arial"/>
              </a:rPr>
              <a:t>1884-1885 г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либералы провели третью избирательную реформу, по которой были уничтожены 100  « гнилых местечек» и предоставил права домовладельцам и сельским работник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3200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44400" y="461520"/>
            <a:ext cx="7917120" cy="11242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Торговля следует за флагом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2204640"/>
            <a:ext cx="84358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читайте материал на стр. 159 – 160 и ответьте на вопрос: « Что означает выражение      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Торговля следует за флагом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03280" y="1484280"/>
            <a:ext cx="81360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0 г. конгресс тренд-юниоров создал « Комитет рабочего правительст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3 г. число членов « Комитета…» составляла почти 500 тыс. челов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6 г. « Комитет..» был переименован в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бочую                                  ( лейбористскую)  партию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356000" y="1599840"/>
            <a:ext cx="46087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обенно мощной была всеобщая шестинедельная стачка углекопов в 1912 г.. По результатам которой правительство приняло закон о минимуме  заработной платы для горня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417672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формы во имя                             « классового мир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140000" y="1628640"/>
            <a:ext cx="467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читайте материал на стр. 161-162 и выясните, какие реформы принял Дэвид Ллойд Джордж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3284640" cy="460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4360" y="5943600"/>
            <a:ext cx="3382920" cy="581040"/>
          </a:xfrm>
          <a:prstGeom prst="rect">
            <a:avLst/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. Л. Джор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95280" y="1700280"/>
            <a:ext cx="4691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вижение за автономию Ирландии на рубеже XIX—XX вв. Предполагало собственный парламент и органы самоуправления при сохранении над островом британского суверените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6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39640" y="4164120"/>
            <a:ext cx="3745080" cy="2289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626400" y="443520"/>
            <a:ext cx="7891200" cy="101556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Мятежный остров» получает гомру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ece1"/>
                </a:solidFill>
                <a:latin typeface="Arial"/>
              </a:rPr>
              <a:t>Сегодня вы узнаете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Почему « мастерская мира» уходит в прошло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ая форма правления сложилась в Великобритан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ие реформы были проведены в этом государств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ое государство назвали                         « мятежным островом» и поч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907640" y="2060280"/>
            <a:ext cx="57121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просы на стр. 16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0400" y="407520"/>
            <a:ext cx="8096400" cy="8002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араграф20, записи, вопросы 2,6 письмен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206064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чник шаблона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тарников Виталий Викторович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физики МОУ СОШ №20 п. Баранчинский, г. Кушва, Свердловской обл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pedsovet.su/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Рисунок для фон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17986.globalmarket.com.ua/data/530378_3.jpg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http://ru.wikipedia.org/wiki/%C3%EE%EC%F0%F3%EB%F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74680"/>
            <a:ext cx="82296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спользованные ресур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4869000"/>
            <a:ext cx="7056720" cy="158436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вер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eece1"/>
                </a:solidFill>
                <a:latin typeface="Arial"/>
              </a:rPr>
              <a:t>Работаем по плану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Мастерская мира» уходит в прошл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Двухпартийная систе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Эпоха рефор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Торговля следует за флагом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Движение проте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Мятежный остров получает гомрул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39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К концу </a:t>
            </a: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XIX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века в Англии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наметилось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замедление темпов развития промышленности. Это было связано с вывозом капит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15359-large"/>
          <p:cNvPicPr/>
          <p:nvPr/>
        </p:nvPicPr>
        <p:blipFill>
          <a:blip r:embed="rId2"/>
          <a:stretch/>
        </p:blipFill>
        <p:spPr>
          <a:xfrm>
            <a:off x="324000" y="2276640"/>
            <a:ext cx="44640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ce1"/>
                </a:solidFill>
                <a:latin typeface="Arial"/>
              </a:rPr>
              <a:t>Английские предприниматели и банкиры предпочитали вкладывать капиталы в страны. Где дешевле было сырьё и рабочие ру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6"/>
          <p:cNvPicPr/>
          <p:nvPr/>
        </p:nvPicPr>
        <p:blipFill>
          <a:blip r:embed="rId2"/>
          <a:stretch/>
        </p:blipFill>
        <p:spPr>
          <a:xfrm>
            <a:off x="395280" y="2205000"/>
            <a:ext cx="446580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140360" y="1600200"/>
            <a:ext cx="475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ece1"/>
                </a:solidFill>
                <a:latin typeface="Arial"/>
              </a:rPr>
              <a:t>Отечественная промышленность часто не имела средств для обновления устаревшего оборудования; стала снижаться конкурентноспособ-ность това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Индустриализация"/>
          <p:cNvPicPr/>
          <p:nvPr/>
        </p:nvPicPr>
        <p:blipFill>
          <a:blip r:embed="rId2"/>
          <a:stretch/>
        </p:blipFill>
        <p:spPr>
          <a:xfrm>
            <a:off x="395280" y="2927520"/>
            <a:ext cx="3672000" cy="2454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мецкие товары с клеймом «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de in Germany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»  появились на рынках всех стран и были дешевле английских. В 90-е годы роль Англии как « мастерской мира» уходит в прошл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460836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ожным оставалось положение в сельском хозяйстве – фермеры не могли конкурировать  с потоком хлынувшего дешёвого продовольств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4176720" cy="2931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ухпартий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60-е годы старые партии тори и вигов стали называться консервативной и либеральной партиями. В 70-е годы в парламенте они представляли собой разграниченные лагер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865680" cy="2398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11280" y="4005360"/>
            <a:ext cx="374472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8:27:45Z</dcterms:created>
  <dc:creator>ViTark</dc:creator>
  <dc:description/>
  <dc:language>en-US</dc:language>
  <cp:lastModifiedBy>user</cp:lastModifiedBy>
  <dcterms:modified xsi:type="dcterms:W3CDTF">2001-12-31T23:21:02Z</dcterms:modified>
  <cp:revision>3</cp:revision>
  <dc:subject/>
  <dc:title>Заголовок слайда</dc:title>
</cp:coreProperties>
</file>