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3597-4853-4DC0-8C51-D9716414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0575-8274-44C8-8271-9AE4C50BE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E8AF-4348-4FAE-9CE6-23A6F012C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A388-DF28-4813-9022-8AD4434AE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68F9-1C96-475F-ADFA-4CC787A3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727A-9ECF-4CC4-9B19-5A515740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EDE7-5257-4ABB-BF1D-C9FB4669E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0B86-2296-4B5D-A550-26D93706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9071-6D67-45D7-B4FE-6F8F61EE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C8D9-C290-48B8-81C8-B60235DED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8AF2-3960-410F-BFB6-F436E0F7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C208-C79E-4A0C-908D-F6C66302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09C1-2A44-4647-B37A-E3ED696B1C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95280" y="476280"/>
            <a:ext cx="820908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стория Нового времени 8 клас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57040" y="2349360"/>
            <a:ext cx="8628120" cy="257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 Великобритания: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нец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i="1" lang="en-US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икторианской эпохи"</a:t>
            </a:r>
            <a:endParaRPr b="1" i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идерами от консервативной партии стал Бенджамин Дизраэли, либеральной – Уильям Гладстон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1484280"/>
            <a:ext cx="2206800" cy="29527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533680" y="3213000"/>
            <a:ext cx="2038320" cy="30243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95280" y="4437000"/>
            <a:ext cx="2089080" cy="79236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енджам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израэ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/>
          <p:nvPr/>
        </p:nvSpPr>
        <p:spPr>
          <a:xfrm>
            <a:off x="2482920" y="5877000"/>
            <a:ext cx="2089080" cy="792000"/>
          </a:xfrm>
          <a:prstGeom prst="rect">
            <a:avLst/>
          </a:prstGeom>
          <a:solidFill>
            <a:srgbClr val="ffcc99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ильям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ладст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/>
          <p:nvPr/>
        </p:nvSpPr>
        <p:spPr>
          <a:xfrm>
            <a:off x="1258920" y="1557360"/>
            <a:ext cx="6913440" cy="1008000"/>
          </a:xfrm>
          <a:prstGeom prst="bevel">
            <a:avLst>
              <a:gd name="adj" fmla="val 12500"/>
            </a:avLst>
          </a:prstGeom>
          <a:solidFill>
            <a:srgbClr val="99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збирательная реформа 1867 г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/>
          <p:nvPr/>
        </p:nvSpPr>
        <p:spPr>
          <a:xfrm>
            <a:off x="4233960" y="2565360"/>
            <a:ext cx="674640" cy="471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301932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ничтожила « гнилые местеч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393372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доставила освободившиеся мест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рупным города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/>
          <p:nvPr/>
        </p:nvSpPr>
        <p:spPr>
          <a:xfrm>
            <a:off x="755640" y="479736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меньшался имущественный цен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/>
          <p:nvPr/>
        </p:nvSpPr>
        <p:spPr>
          <a:xfrm>
            <a:off x="755640" y="5661000"/>
            <a:ext cx="7993080" cy="81756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Число избирателей увеличилос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/>
          <p:nvPr/>
        </p:nvSpPr>
        <p:spPr>
          <a:xfrm>
            <a:off x="358920" y="1484280"/>
            <a:ext cx="8424720" cy="115272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законили право тренд-юнионов, давшее им право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судебную защиту и проведение стач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2637000"/>
            <a:ext cx="6589440" cy="1152360"/>
          </a:xfrm>
          <a:prstGeom prst="rect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ведён закон о тайном голосовании н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борах в парла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/>
          <p:nvPr/>
        </p:nvSpPr>
        <p:spPr>
          <a:xfrm>
            <a:off x="2556000" y="3645000"/>
            <a:ext cx="6298920" cy="107928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ведена школьная рефор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4653000"/>
            <a:ext cx="6553080" cy="1224000"/>
          </a:xfrm>
          <a:prstGeom prst="rect">
            <a:avLst/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он о 54 – часовой рабочей недел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5661000"/>
            <a:ext cx="6299280" cy="107964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зданы советы, обладавшие властью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естных органов власт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Эпоха реформ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924000" y="1557360"/>
            <a:ext cx="482436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</a:t>
            </a:r>
            <a:r>
              <a:rPr b="1" lang="en-US" sz="2800" spc="-1" strike="noStrike" u="sng">
                <a:solidFill>
                  <a:srgbClr val="c0504d"/>
                </a:solidFill>
                <a:uFillTx/>
                <a:latin typeface="Arial"/>
              </a:rPr>
              <a:t>1884-1885 гг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. либералы провели третью избирательную реформу, по которой были уничтожены 100  « гнилых местечек» и предоставил права домовладельцам и сельским работника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539640" y="1700280"/>
            <a:ext cx="320040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644400" y="461520"/>
            <a:ext cx="7917120" cy="11242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Торговля следует за флагом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56840" y="2204640"/>
            <a:ext cx="843588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читайте материал на стр. 159 – 160 и ответьте на вопрос: « Что означает выражение                           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« Торговля следует за флагом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03280" y="1484280"/>
            <a:ext cx="813600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0 г. конгресс тренд-юниоров создал « Комитет рабочего правительств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3 г. число членов « Комитета…» составляла почти 500 тыс. челов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 1906 г. « Комитет..» был переименован в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Рабочую                                  ( лейбористскую)  партию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ижение протес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356000" y="1599840"/>
            <a:ext cx="460872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собенно мощной была всеобщая шестинедельная стачка углекопов в 1912 г.. По результатам которой правительство приняло закон о минимуме  заработной платы для горняк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417672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Реформы во имя                             « классового мира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140000" y="1628640"/>
            <a:ext cx="4679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рочитайте материал на стр. 161-162 и выясните, какие реформы принял Дэвид Ллойд Джордж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3284640" cy="46083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4360" y="5943600"/>
            <a:ext cx="3382920" cy="581040"/>
          </a:xfrm>
          <a:prstGeom prst="rect">
            <a:avLst/>
          </a:prstGeom>
          <a:solidFill>
            <a:srgbClr val="ffcc99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. Л. Джорд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995280" y="1700280"/>
            <a:ext cx="4691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движение за автономию Ирландии на рубеже XIX—XX вв. Предполагало собственный парламент и органы самоуправления при сохранении над островом британского суверените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6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39640" y="4164120"/>
            <a:ext cx="3745080" cy="22892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626400" y="443520"/>
            <a:ext cx="7891200" cy="101556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 Мятежный остров» получает гомруль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eece1"/>
                </a:solidFill>
                <a:latin typeface="Arial"/>
              </a:rPr>
              <a:t>Сегодня вы узнаете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Почему « мастерская мира» уходит в прошло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ая форма правления сложилась в Великобритани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ие реформы были проведены в этом государстве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Какое государство назвали                         « мятежным островом» и почему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907640" y="2060280"/>
            <a:ext cx="5712120" cy="20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Вопросы на стр. 16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0400" y="407520"/>
            <a:ext cx="8096400" cy="8002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дведём итог урок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Параграф20, записи, вопросы 2,6 письмен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206064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чник шаблона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тарников Виталий Викторович</a:t>
            </a:r>
            <a:br>
              <a:rPr sz="2400"/>
            </a:b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физики МОУ СОШ №20 п. Баранчинский, г. Кушва, Свердловской обл.</a:t>
            </a:r>
            <a:br>
              <a:rPr sz="2400"/>
            </a:b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pedsovet.su/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Рисунок для фона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17986.globalmarket.com.ua/data/530378_3.jpg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http://ru.wikipedia.org/wiki/%C3%EE%EC%F0%F3%EB%F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74680"/>
            <a:ext cx="8229600" cy="11430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Использованные ресурс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/>
          <p:nvPr/>
        </p:nvSpPr>
        <p:spPr>
          <a:xfrm>
            <a:off x="1908000" y="4869000"/>
            <a:ext cx="7056720" cy="1584360"/>
          </a:xfrm>
          <a:prstGeom prst="rect">
            <a:avLst/>
          </a:prstGeom>
          <a:solidFill>
            <a:srgbClr val="99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Антоненкова Анжелика Викто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Учитель истории МОУ Будинской ООШ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вер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eece1"/>
                </a:solidFill>
                <a:latin typeface="Arial"/>
              </a:rPr>
              <a:t>Работаем по плану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Мастерская мира» уходит в прошло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Двухпартийная систем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Эпоха рефор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Торговля следует за флагом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Движение протест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eeece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« Мятежный остров получает гомруль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427280" y="1600200"/>
            <a:ext cx="4392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К концу </a:t>
            </a:r>
            <a:r>
              <a:rPr b="1" lang="en-US" sz="3200" spc="-1" strike="noStrike">
                <a:solidFill>
                  <a:srgbClr val="eeece1"/>
                </a:solidFill>
                <a:latin typeface="Arial"/>
              </a:rPr>
              <a:t>XIX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века в Англии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    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наметилось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eeece1"/>
                </a:solidFill>
                <a:latin typeface="Arial"/>
              </a:rPr>
              <a:t>замедление темпов развития промышленности. Это было связано с вывозом капитала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15359-large"/>
          <p:cNvPicPr/>
          <p:nvPr/>
        </p:nvPicPr>
        <p:blipFill>
          <a:blip r:embed="rId2"/>
          <a:stretch/>
        </p:blipFill>
        <p:spPr>
          <a:xfrm>
            <a:off x="324000" y="2276640"/>
            <a:ext cx="4464000" cy="27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ece1"/>
                </a:solidFill>
                <a:latin typeface="Arial"/>
              </a:rPr>
              <a:t>Английские предприниматели и банкиры предпочитали вкладывать капиталы в страны. Где дешевле было сырьё и рабочие рук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6"/>
          <p:cNvPicPr/>
          <p:nvPr/>
        </p:nvPicPr>
        <p:blipFill>
          <a:blip r:embed="rId2"/>
          <a:stretch/>
        </p:blipFill>
        <p:spPr>
          <a:xfrm>
            <a:off x="395280" y="2205000"/>
            <a:ext cx="446580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140360" y="1600200"/>
            <a:ext cx="475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eeece1"/>
                </a:solidFill>
                <a:latin typeface="Arial"/>
              </a:rPr>
              <a:t>Отечественная промышленность часто не имела средств для обновления устаревшего оборудования; стала снижаться конкурентноспособ-ность товар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Индустриализация"/>
          <p:cNvPicPr/>
          <p:nvPr/>
        </p:nvPicPr>
        <p:blipFill>
          <a:blip r:embed="rId2"/>
          <a:stretch/>
        </p:blipFill>
        <p:spPr>
          <a:xfrm>
            <a:off x="395280" y="2927520"/>
            <a:ext cx="3672000" cy="2454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мецкие товары с клеймом «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de in Germany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»  появились на рынках всех стран и были дешевле английских. В 90-е годы роль Англии как « мастерской мира» уходит в прошлое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250920" y="2060640"/>
            <a:ext cx="4608360" cy="35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ложным оставалось положение в сельском хозяйстве – фермеры не могли конкурировать  с потоком хлынувшего дешёвого продовольств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95280" y="2276640"/>
            <a:ext cx="4176720" cy="29318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24000" y="333360"/>
            <a:ext cx="8569080" cy="107964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« Мастерская мира» уходит в прошло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gradFill rotWithShape="0">
            <a:gsLst>
              <a:gs pos="0">
                <a:srgbClr val="467546"/>
              </a:gs>
              <a:gs pos="50000">
                <a:srgbClr val="99ff99"/>
              </a:gs>
              <a:gs pos="100000">
                <a:srgbClr val="467546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вухпартийная систе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48320" y="1599840"/>
            <a:ext cx="41716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60-е годы старые партии тори и вигов стали называться консервативной и либеральной партиями. В 70-е годы в парламенте они представляли собой разграниченные лагер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3865680" cy="23986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611280" y="4005360"/>
            <a:ext cx="3744720" cy="25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1T18:27:45Z</dcterms:created>
  <dc:creator>ViTark</dc:creator>
  <dc:description/>
  <dc:language>en-US</dc:language>
  <cp:lastModifiedBy>user</cp:lastModifiedBy>
  <dcterms:modified xsi:type="dcterms:W3CDTF">2001-12-31T23:21:02Z</dcterms:modified>
  <cp:revision>3</cp:revision>
  <dc:subject/>
  <dc:title>Заголовок слайда</dc:title>
</cp:coreProperties>
</file>