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064E-DAFF-48C6-8C79-DC0D14B43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295B-F1C2-4303-972D-68BC9F94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3819-CE69-44AD-8764-0FB62A4BF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0BD6-373B-4D96-BAE3-6B1F7B4C2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97C8-3832-428D-92AF-E0E72A78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A517-8263-4EF2-94EF-B53744F8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B781-EFF2-407F-A6BA-6DFC174B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BC8F-319B-47C6-B908-9C2D944C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50C3-3C10-4D16-B8BB-4EEA7FEB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33E4-5197-4835-A799-D3F929A8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ABE7-DF8F-41B2-9B79-4954F47E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DAE8-62B2-45CB-A04A-4DFDB54C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>
            <a:alpha val="9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7282-4305-44C7-88FF-A70EDACC1D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592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Constantia"/>
              </a:rPr>
              <a:t>ОРУЖЕЙНАЯ ПАЛАТА.</a:t>
            </a:r>
            <a:br>
              <a:rPr sz="4400"/>
            </a:br>
            <a:r>
              <a:rPr b="1" lang="ru-RU" sz="4400" spc="-1" strike="noStrike">
                <a:solidFill>
                  <a:srgbClr val="cc0000"/>
                </a:solidFill>
                <a:latin typeface="Constantia"/>
              </a:rPr>
              <a:t>( КУЛЬТУРА</a:t>
            </a:r>
            <a:r>
              <a:rPr b="1" lang="en-US" sz="4400" spc="-1" strike="noStrike">
                <a:solidFill>
                  <a:srgbClr val="cc0000"/>
                </a:solidFill>
                <a:latin typeface="Constantia"/>
              </a:rPr>
              <a:t> </a:t>
            </a:r>
            <a:r>
              <a:rPr b="1" lang="ru-RU" sz="4400" spc="-1" strike="noStrike">
                <a:solidFill>
                  <a:srgbClr val="cc0000"/>
                </a:solidFill>
                <a:latin typeface="Constantia"/>
              </a:rPr>
              <a:t>РУСИ )</a:t>
            </a:r>
            <a:br>
              <a:rPr sz="4400"/>
            </a:br>
            <a:br>
              <a:rPr sz="4400"/>
            </a:b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МКОУ СОШ № 10 п. Раздольное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учитель обществознания и географии Быкова Н.Д.</a:t>
            </a:r>
            <a:r>
              <a:rPr b="1" lang="en-US" sz="4400" spc="-1" strike="noStrike">
                <a:solidFill>
                  <a:srgbClr val="cc0000"/>
                </a:solidFill>
                <a:latin typeface="Constant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5000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21452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КОВШ ЦАРЯ МИХАИЛА ФЕДОРОВИЧА.  Мастерские Московского Кремля 1624 г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Золотой ковш – русская парадная посуда. Во время торжественных пиров из ковшей пили медовый напиток. Выкован из листа золота, украшен драгоценными камня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214280" y="357120"/>
            <a:ext cx="6072480" cy="3571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82904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КАФТАН И КАМЗОЛ ПАРАДНЫЕ. 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XVII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 в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В 1700 г. специальным указом Петр-1 обязал русское дворянство носить платье западноевропейского образца. Данный  костюм принадлежал 15-летнему Петру-</a:t>
            </a:r>
            <a:r>
              <a:rPr b="0" lang="en-US" sz="2400" spc="-1" strike="noStrike">
                <a:solidFill>
                  <a:srgbClr val="7030a0"/>
                </a:solidFill>
                <a:latin typeface="Georgia"/>
              </a:rPr>
              <a:t>II</a:t>
            </a: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 . Украшено серебряной нить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533920" y="642960"/>
            <a:ext cx="3610080" cy="50482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450072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Ковчег-складень с иконой «Богоматерь умиление». </a:t>
            </a:r>
            <a:r>
              <a:rPr b="1" lang="en-US" sz="2200" spc="-1" strike="noStrike">
                <a:solidFill>
                  <a:srgbClr val="7030a0"/>
                </a:solidFill>
                <a:latin typeface="Georgia"/>
              </a:rPr>
              <a:t>XVII </a:t>
            </a: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 в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Принадлежал складень думному дьяку Посольского приказа Ивану Грязеву. Золотой оклад иконы украшен рельефным растительным орнаментом, драгоценными камня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1428840" y="0"/>
            <a:ext cx="6929280" cy="43578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3290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ШЛЕМ БУЛАТНЫЙ («ШАПКА ИЕРИХОНСКАЯ») 1621 г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Шлем выполнен знаменитым кремлевским златокузнецом, оружейником Никитой Давыдовым для царя Михаила Романова. Стальная поверхность шлема украшена золотым узором. Декорации составляют алмаз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5000760" y="500040"/>
            <a:ext cx="3571920" cy="51624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14240" y="274680"/>
            <a:ext cx="3929040" cy="536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ПАРАДНОЕ ХОЛОДНОЕ ОРУЖИЕ. КИНЖАЛЫ .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XVII 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в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Это работа восточных мастеров. Клинки кинжалов из булатной стали украшены чернью. Ножны выполнены из золота, серебра, черного дерева. Украшены драгоценными камн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5000760" y="285840"/>
            <a:ext cx="3619440" cy="60008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35780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СУПОВА  ЧАША. 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XVIII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в. </a:t>
            </a: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Массивная суповая чаша с поддоном выполнена петербургскими мастерами для дворцового столового сервиза. Чеканные гирлянды из листьев и цветов образуют картуши, литые фигурки. Завершает крышку чаши литой букет цветов и фрук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857240" y="428760"/>
            <a:ext cx="5381640" cy="38671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50028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ЛЕТНЯЯ КОЛЯСКА «ГОНДОЛА» 1770 г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Принадлежала Екатерине-</a:t>
            </a:r>
            <a:r>
              <a:rPr b="0" lang="en-US" sz="2200" spc="-1" strike="noStrike">
                <a:solidFill>
                  <a:srgbClr val="7030a0"/>
                </a:solidFill>
                <a:latin typeface="Georgia"/>
              </a:rPr>
              <a:t>II</a:t>
            </a: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. Это одни из лучших экипажей  в собрании Оружейной палаты. Элегантная. Изящная карета почти сплошь покрыта декоративной резьбой по  дереву и позолотой. На золоченом кузове кареты роспись, выполненная мастером школы французского художника Антуана Ватто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3571920" y="857160"/>
            <a:ext cx="5143320" cy="42721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спользуемый материал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Открытки,  издательство «Изобразительное искусство»,  Москва 1976 г., автор-составитель Н.Вьюе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5000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7030a0"/>
                </a:solidFill>
                <a:latin typeface="Georgia"/>
                <a:ea typeface="Times New Roman"/>
              </a:rPr>
              <a:t>Государственная Оружейная палата  - один из старейших музеев нашей страны. Коллекция ее состоит из предметов декоративно-прикладного искусства </a:t>
            </a:r>
            <a:r>
              <a:rPr b="1" lang="en-US" sz="2500" spc="-1" strike="noStrike">
                <a:solidFill>
                  <a:srgbClr val="7030a0"/>
                </a:solidFill>
                <a:latin typeface="Georgia"/>
                <a:ea typeface="Times New Roman"/>
              </a:rPr>
              <a:t>X-XIX </a:t>
            </a:r>
            <a:r>
              <a:rPr b="1" lang="ru-RU" sz="2500" spc="-1" strike="noStrike">
                <a:solidFill>
                  <a:srgbClr val="7030a0"/>
                </a:solidFill>
                <a:latin typeface="Georgia"/>
                <a:ea typeface="Times New Roman"/>
              </a:rPr>
              <a:t>веков работы лучших русских и иностранных мастеро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857160" y="2928960"/>
            <a:ext cx="7215120" cy="34290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9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28400" y="285480"/>
            <a:ext cx="3857400" cy="5840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030a0"/>
                </a:solidFill>
                <a:latin typeface="Georgia"/>
              </a:rPr>
              <a:t>ШАПКА МОНОМАХА. </a:t>
            </a:r>
            <a:r>
              <a:rPr b="1" lang="en-US" sz="1900" spc="-1" strike="noStrike">
                <a:solidFill>
                  <a:srgbClr val="7030a0"/>
                </a:solidFill>
                <a:latin typeface="Georgia"/>
              </a:rPr>
              <a:t>XIII-XIV</a:t>
            </a:r>
            <a:r>
              <a:rPr b="1" lang="ru-RU" sz="1900" spc="-1" strike="noStrike">
                <a:solidFill>
                  <a:srgbClr val="7030a0"/>
                </a:solidFill>
                <a:latin typeface="Georgia"/>
              </a:rPr>
              <a:t> вв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030a0"/>
                </a:solidFill>
                <a:latin typeface="Georgia"/>
              </a:rPr>
              <a:t>   </a:t>
            </a:r>
            <a:r>
              <a:rPr b="1" lang="ru-RU" sz="1900" spc="-1" strike="noStrike">
                <a:solidFill>
                  <a:srgbClr val="7030a0"/>
                </a:solidFill>
                <a:latin typeface="Georgia"/>
              </a:rPr>
              <a:t>О событиях, связанных с созданием централизованного государства и ростом его политического могущества, свидетельствует  шапка Мономаха. Это наследственный венец русских царей. Изготовлена шапка на Востоке. Золотую тулью  покрывает ажурный сканый узор. Драгоценные камни и соболий окол дополняют  великолепие царского венц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357800" y="1357200"/>
            <a:ext cx="4429080" cy="43768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4357800" y="357120"/>
            <a:ext cx="4071960" cy="4572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"/>
          <p:cNvSpPr/>
          <p:nvPr/>
        </p:nvSpPr>
        <p:spPr>
          <a:xfrm>
            <a:off x="4481640" y="-4582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400" y="356760"/>
            <a:ext cx="3786120" cy="600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Трон царя Бориса Годунова. Конец 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XV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 века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   </a:t>
            </a: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Трон был привезен в Россию в числе других богатых даров царю Борису Годунову от иранского шаха Аббаса-</a:t>
            </a:r>
            <a:r>
              <a:rPr b="0" lang="en-US" sz="2000" spc="-1" strike="noStrike">
                <a:solidFill>
                  <a:srgbClr val="7030a0"/>
                </a:solidFill>
                <a:latin typeface="Georgia"/>
              </a:rPr>
              <a:t>I</a:t>
            </a: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. Форма трона типична для Востока. Деревянный остов облицован золотыми пластинками,  с травным узором, драгоценные камни – бирюза, турмалин, белый и черный жемчуг в большом обилии для его украш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5000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6760" y="274320"/>
            <a:ext cx="378612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Georgia"/>
              </a:rPr>
              <a:t>БЛЮДО ЦАРИЦЫ МАРИИ ТЕМРЮКОВНЫ. Мастерские Московского Кремля </a:t>
            </a:r>
            <a:r>
              <a:rPr b="1" lang="en-US" sz="2000" spc="-1" strike="noStrike">
                <a:solidFill>
                  <a:srgbClr val="7030a0"/>
                </a:solidFill>
                <a:latin typeface="Georgia"/>
              </a:rPr>
              <a:t>XVI </a:t>
            </a:r>
            <a:r>
              <a:rPr b="1" lang="ru-RU" sz="2000" spc="-1" strike="noStrike">
                <a:solidFill>
                  <a:srgbClr val="7030a0"/>
                </a:solidFill>
                <a:latin typeface="Georgia"/>
              </a:rPr>
              <a:t>в.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Блюдо было свадебным подарком царя Ивана Грозного молодой жене,  черкесской княжне. По древнему обряду на Руси невесте подносили на блюде женский головной убор – кику. Массивное блюдо выковано из куска золота весом около трех кг. Тонкий графический узор оттеняет простоту и благородство формы блюд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429080" y="714240"/>
            <a:ext cx="4286160" cy="49294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757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СЕДЛО. </a:t>
            </a:r>
            <a:r>
              <a:rPr b="1" lang="en-US" sz="2200" spc="-1" strike="noStrike">
                <a:solidFill>
                  <a:srgbClr val="7030a0"/>
                </a:solidFill>
                <a:latin typeface="Georgia"/>
              </a:rPr>
              <a:t>XVI </a:t>
            </a: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в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Седло подарено царю Федору Иоанновичу иранским шахом Аббасом </a:t>
            </a:r>
            <a:r>
              <a:rPr b="0" lang="en-US" sz="2200" spc="-1" strike="noStrike">
                <a:solidFill>
                  <a:srgbClr val="7030a0"/>
                </a:solidFill>
                <a:latin typeface="Georgia"/>
              </a:rPr>
              <a:t>I</a:t>
            </a: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 в 1590 г. Седло в золотой оправе обтянуто бархатом. Затканным золотом. Луки седла усыпаны рубинами, изумрудами,  нежно-голубой бирюзой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357720" y="571680"/>
            <a:ext cx="5500440" cy="4752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7192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ДОСПЕХ РЫЦАРСКИЙ ТУРНИРНЫЙ.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 XVI 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в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Металлические пластинчатые доспехи на Руси практического применения не имели. Привезенные из Европы как диковинка, они украшали залы в царских дворцах и боярских палатах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  Доспех закрывает все тело воина, оставляя лишь узкие прорези для глаз и рта. Все детали выкованы из железа, соединены  кожаными ремн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5143680" y="428760"/>
            <a:ext cx="3609720" cy="59292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54356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Ч А Ш А. конец </a:t>
            </a:r>
            <a:r>
              <a:rPr b="1" lang="en-US" sz="2200" spc="-1" strike="noStrike">
                <a:solidFill>
                  <a:srgbClr val="7030a0"/>
                </a:solidFill>
                <a:latin typeface="Georgia"/>
              </a:rPr>
              <a:t>XVII </a:t>
            </a: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в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В </a:t>
            </a:r>
            <a:r>
              <a:rPr b="0" lang="en-US" sz="2200" spc="-1" strike="noStrike">
                <a:solidFill>
                  <a:srgbClr val="7030a0"/>
                </a:solidFill>
                <a:latin typeface="Georgia"/>
              </a:rPr>
              <a:t>XVII</a:t>
            </a: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 в. Своими искусными расписными эмалями прославился далекий северный город Сольвычегодск. Мастера украшали  эмалью  предметы быта: чаши, тарелки, стаканы, шкатулки, ларцы. Поверхность металлического предмета покрывалась  белоснежной эмалью, на которую наносился тонкой штриховкой многоцветный эмалевый узор. Любимыми мотивами росписи были крупные яркие цвет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143680" y="714240"/>
            <a:ext cx="3643200" cy="4500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00640" cy="565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ГРЕБЕНЬ И ФУТЛЯР. 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XVII 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 в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Сделан гребень из слоновой кости и горного хрусталя, оправа из серебра с позолотой. Футляр из зеленого бархата украшен вышивкой. Стилизованный цветочный орнамент  выполнен тонкой золоченой ниткой, по краю футляра проложен шнур из крученой серебряной ни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5214960" y="642960"/>
            <a:ext cx="3448080" cy="50101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11-20T17:11:19Z</dcterms:modified>
  <cp:revision>12</cp:revision>
  <dc:subject/>
  <dc:title>ОРУЖЕЙНАЯ ПАЛАТА. ( КУЛЬТУРА РУСИ В XVII веке) </dc:title>
</cp:coreProperties>
</file>