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B61-8C73-4A31-93E6-246080FF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919-E75E-4DF9-9E44-8BD292CA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F305-D6CC-452D-9608-151301AD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F78-FA3F-43DE-8863-D96E94D2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90A-FBBA-4D5C-8CD6-9FFCDF8B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FA1-5FB4-4A27-9D96-E2AA37D8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1EF-47E9-44FA-AE03-3DCA5483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E31-FC22-4718-B7ED-E1ACD9F2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B0D-C361-4B9B-B754-88F3C633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98E-D083-412E-87BB-C00202E4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9EA-ADFB-46D0-9BAE-4432E99E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B86-7518-45D5-AD48-DE102500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675D-5DD0-4033-8C62-7A76CCA653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ОРУЖЕЙНАЯ ПАЛАТА.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( КУЛЬТУРА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onstantia"/>
              </a:rPr>
              <a:t>РУСИ )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КОУ СОШ № 10 п. Раздольное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учитель обществознания и географии Быкова Н.Д.</a:t>
            </a:r>
            <a:r>
              <a:rPr b="1" lang="en-US" sz="4400" spc="-1" strike="noStrike">
                <a:solidFill>
                  <a:srgbClr val="cc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14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Ш ЦАРЯ МИХАИЛА ФЕДОРОВИЧА.  Мастерские Московского Кремля 1624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Золотой ковш – русская парадная посуда. Во время торжественных пиров из ковшей пили медовый напиток. Выкован из листа золота, украшен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14280" y="357120"/>
            <a:ext cx="607248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2904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КАФТАН И КАМЗОЛ ПАРАДНЫЕ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В 1700 г. специальным указом Петр-1 обязал русское дворянство носить платье западноевропейского образца. Данный  костюм принадлежал 15-летнему Петру-</a:t>
            </a:r>
            <a:r>
              <a:rPr b="0" lang="en-US" sz="24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. Украшено серебряной ни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33920" y="642960"/>
            <a:ext cx="3610080" cy="5048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500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Ковчег-складень с иконой «Богоматерь умиление»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 складень думному дьяку Посольского приказа Ивану Грязеву. Золотой оклад иконы украшен рельефным растительным орнаментом, драгоценными камн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28840" y="0"/>
            <a:ext cx="6929280" cy="43578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290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ШЛЕМ БУЛАТНЫЙ («ШАПКА ИЕРИХОНСКАЯ») 1621 г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Шлем выполнен знаменитым кремлевским златокузнецом, оружейником Никитой Давыдовым для царя Михаила Романова. Стальная поверхность шлема украшена золотым узором. Декорации составляют алма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3571920" cy="5162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392904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ПАРАДНОЕ ХОЛОДНОЕ ОРУЖИЕ. КИНЖАЛЫ 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Это работа восточных мастеров. Клинки кинжалов из булатной стали украшены чернью. Ножны выполнены из золота, серебра, черного дерева. Украшены драгоценными ка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00760" y="285840"/>
            <a:ext cx="3619440" cy="6000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57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СУПОВА  ЧАША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I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 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ассивная суповая чаша с поддоном выполнена петербургскими мастерами для дворцового столового сервиза. Чеканные гирлянды из листьев и цветов образуют картуши, литые фигурки. Завершает крышку чаши литой букет цветов и фрук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857240" y="428760"/>
            <a:ext cx="5381640" cy="3867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ЛЕТНЯЯ КОЛЯСКА «ГОНДОЛА» 1770 г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Принадлежала Екатерине-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. Это одни из лучших экипажей  в собрании Оружейной палаты. Элегантная. Изящная карета почти сплошь покрыта декоративной резьбой по  дереву и позолотой. На золоченом кузове кареты роспись, выполненная мастером школы французского художника Антуана Ватто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571920" y="857160"/>
            <a:ext cx="5143320" cy="4272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мый материал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Открытки,  издательство «Изобразительное искусство»,  Москва 1976 г., автор-составитель Н.Вью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Государственная Оружейная палата  - один из старейших музеев нашей страны. Коллекция ее состоит из предметов декоративно-прикладного искусства </a:t>
            </a:r>
            <a:r>
              <a:rPr b="1" lang="en-US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X-XIX </a:t>
            </a:r>
            <a:r>
              <a:rPr b="1" lang="ru-RU" sz="2500" spc="-1" strike="noStrike">
                <a:solidFill>
                  <a:srgbClr val="7030a0"/>
                </a:solidFill>
                <a:latin typeface="Georgia"/>
                <a:ea typeface="Times New Roman"/>
              </a:rPr>
              <a:t>веков работы лучших русских и иностранных мастер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857160" y="292896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400" y="285480"/>
            <a:ext cx="3857400" cy="584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ШАПКА МОНОМАХА. </a:t>
            </a:r>
            <a:r>
              <a:rPr b="1" lang="en-US" sz="1900" spc="-1" strike="noStrike">
                <a:solidFill>
                  <a:srgbClr val="7030a0"/>
                </a:solidFill>
                <a:latin typeface="Georgia"/>
              </a:rPr>
              <a:t>XIII-XIV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в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1" lang="ru-RU" sz="1900" spc="-1" strike="noStrike">
                <a:solidFill>
                  <a:srgbClr val="7030a0"/>
                </a:solidFill>
                <a:latin typeface="Georgia"/>
              </a:rPr>
              <a:t>О событиях, связанных с созданием централизованного государства и ростом его политического могущества, свидетельствует  шапка Мономаха. Это наследственный венец русских царей. Изготовлена шапка на Востоке. Золотую тулью  покрывает ажурный сканый узор. Драгоценные камни и соболий окол дополняют  великолепие царского венц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429080" cy="4376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07196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Трон царя Бориса Годунова. Конец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ек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Трон был привезен в Россию в числе других богатых даров царю Борису Годунову от иранского шаха Аббаса-</a:t>
            </a:r>
            <a:r>
              <a:rPr b="0" lang="en-US" sz="20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. Форма трона типична для Востока. Деревянный остов облицован золотыми пластинками,  с травным узором, драгоценные камни – бирюза, турмалин, белый и черный жемчуг в большом обилии для его укра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378612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БЛЮДО ЦАРИЦЫ МАРИИ ТЕМРЮКОВНЫ. Мастерские Московского Кремля </a:t>
            </a:r>
            <a:r>
              <a:rPr b="1" lang="en-US" sz="20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Блюдо было свадебным подарком царя Ивана Грозного молодой жене,  черкесской княжне. По древнему обряду на Руси невесте подносили на блюде женский головной убор – кику. Массивное блюдо выковано из куска золота весом около трех кг. Тонкий графический узор оттеняет простоту и благородство формы блюд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429080" y="714240"/>
            <a:ext cx="4286160" cy="4929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57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СЕДЛО.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Седло подарено царю Федору Иоанновичу иранским шахом Аббасом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 1590 г. Седло в золотой оправе обтянуто бархатом. Затканным золотом. Луки седла усыпаны рубинами, изумрудами,  нежно-голубой бирюзой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357720" y="571680"/>
            <a:ext cx="5500440" cy="47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ДОСПЕХ РЫЦАРСКИЙ ТУРНИРНЫЙ.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 XV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Металлические пластинчатые доспехи на Руси практического применения не имели. Привезенные из Европы как диковинка, они украшали залы в царских дворцах и боярских палатах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Доспех закрывает все тело воина, оставляя лишь узкие прорези для глаз и рта. Все детали выкованы из железа, соединены  кожаными ремн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143680" y="428760"/>
            <a:ext cx="3609720" cy="5929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356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Ч А Ш А. конец </a:t>
            </a:r>
            <a:r>
              <a:rPr b="1" lang="en-US" sz="22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200" spc="-1" strike="noStrike">
                <a:solidFill>
                  <a:srgbClr val="7030a0"/>
                </a:solidFill>
                <a:latin typeface="Georgia"/>
              </a:rPr>
              <a:t>в.</a:t>
            </a:r>
            <a:br>
              <a:rPr sz="2200"/>
            </a:b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В </a:t>
            </a:r>
            <a:r>
              <a:rPr b="0" lang="en-US" sz="2200" spc="-1" strike="noStrike">
                <a:solidFill>
                  <a:srgbClr val="7030a0"/>
                </a:solidFill>
                <a:latin typeface="Georgia"/>
              </a:rPr>
              <a:t>XVII</a:t>
            </a: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 в. Своими искусными расписными эмалями прославился далекий северный город Сольвычегодск. Мастера украшали  эмалью  предметы быта: чаши, тарелки, стаканы, шкатулки, ларцы. Поверхность металлического предмета покрывалась  белоснежной эмалью, на которую наносился тонкой штриховкой многоцветный эмалевый узор. Любимыми мотивами росписи были крупные яркие цве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143680" y="714240"/>
            <a:ext cx="3643200" cy="4500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064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ГРЕБЕНЬ И ФУТЛЯР. </a:t>
            </a:r>
            <a:r>
              <a:rPr b="1" lang="en-US" sz="2400" spc="-1" strike="noStrike">
                <a:solidFill>
                  <a:srgbClr val="7030a0"/>
                </a:solidFill>
                <a:latin typeface="Georgia"/>
              </a:rPr>
              <a:t>XVII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 в.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Сделан гребень из слоновой кости и горного хрусталя, оправа из серебра с позолотой. Футляр из зеленого бархата украшен вышивкой. Стилизованный цветочный орнамент  выполнен тонкой золоченой ниткой, по краю футляра проложен шнур из крученой серебряной ни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214960" y="642960"/>
            <a:ext cx="3448080" cy="5010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11-20T17:11:19Z</dcterms:modified>
  <cp:revision>12</cp:revision>
  <dc:subject/>
  <dc:title>ОРУЖЕЙНАЯ ПАЛАТА. ( КУЛЬТУРА РУСИ В XVII веке) </dc:title>
</cp:coreProperties>
</file>