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FBD-BF7B-4259-8CC9-02A5C0CF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7B2-7DCA-469A-98D2-2BC191CA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E72-0DF7-45D9-A475-C8094547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30A-A808-4AE0-90F2-364F5A42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E49-A57D-48A3-A12E-C1329400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4F7-285D-4FFE-9981-FD04F2B9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E5D-8440-44E4-B5AF-88908DA1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DEC-8D16-4752-83A2-935BE3FD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30D-C51C-4998-BC65-A62C9461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9A2-4DDC-40FF-8084-7C560041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16F-5434-4692-9AEE-7C3F5D27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C98-A8F6-4D01-AFC5-2156614F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AEB5-D0EC-4689-A150-35EF6ED0B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ОРУЖЕЙНАЯ ПАЛАТА.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( КУЛЬТУРА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РУСИ )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КОУ СОШ № 10 п. Раздольное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учитель обществознания и географии Быкова Н.Д.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14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Ш ЦАРЯ МИХАИЛА ФЕДОРОВИЧА.  Мастерские Московского Кремля 1624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Золотой ковш – русская парадная посуда. Во время торжественных пиров из ковшей пили медовый напиток. Выкован из листа золота, украшен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0724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29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КАФТАН И КАМЗОЛ ПАРАДНЫЕ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В 1700 г. специальным указом Петр-1 обязал русское дворянство носить платье западноевропейского образца. Данный  костюм принадлежал 15-летнему Петру-</a:t>
            </a:r>
            <a:r>
              <a:rPr b="0" lang="en-US" sz="24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. Украшено серебряной ни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33920" y="642960"/>
            <a:ext cx="3610080" cy="5048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500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чег-складень с иконой «Богоматерь умиление»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 складень думному дьяку Посольского приказа Ивану Грязеву. Золотой оклад иконы украшен рельефным растительным орнаментом,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28840" y="0"/>
            <a:ext cx="692928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290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ШЛЕМ БУЛАТНЫЙ («ШАПКА ИЕРИХОНСКАЯ») 1621 г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Шлем выполнен знаменитым кремлевским златокузнецом, оружейником Никитой Давыдовым для царя Михаила Романова. Стальная поверхность шлема украшена золотым узором. Декорации составляют алм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3571920" cy="5162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392904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ПАРАДНОЕ ХОЛОДНОЕ ОРУЖИЕ. КИНЖАЛЫ 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Это работа восточных мастеров. Клинки кинжалов из булатной стали украшены чернью. Ножны выполнены из золота, серебра, черного дерева. Украшены драгоценными ка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00760" y="285840"/>
            <a:ext cx="3619440" cy="6000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57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СУПОВА  ЧАША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 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ассивная суповая чаша с поддоном выполнена петербургскими мастерами для дворцового столового сервиза. Чеканные гирлянды из листьев и цветов образуют картуши, литые фигурки. Завершает крышку чаши литой букет цветов и фр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57240" y="428760"/>
            <a:ext cx="5381640" cy="3867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ЛЕТНЯЯ КОЛЯСКА «ГОНДОЛА» 1770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а Екатерине-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. Это одни из лучших экипажей  в собрании Оружейной палаты. Элегантная. Изящная карета почти сплошь покрыта декоративной резьбой по  дереву и позолотой. На золоченом кузове кареты роспись, выполненная мастером школы французского художника Антуана Ватто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571920" y="857160"/>
            <a:ext cx="5143320" cy="4272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й материал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ткрытки,  издательство «Изобразительное искусство»,  Москва 1976 г., автор-составитель Н.Вью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Государственная Оружейная палата  - один из старейших музеев нашей страны. Коллекция ее состоит из предметов декоративно-прикладного искусства </a:t>
            </a:r>
            <a:r>
              <a:rPr b="1" lang="en-US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X-XIX </a:t>
            </a: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веков работы лучших русских и иностранных мастер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857160" y="292896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00" y="285480"/>
            <a:ext cx="3857400" cy="584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ШАПКА МОНОМАХА. </a:t>
            </a:r>
            <a:r>
              <a:rPr b="1" lang="en-US" sz="1900" spc="-1" strike="noStrike">
                <a:solidFill>
                  <a:srgbClr val="7030a0"/>
                </a:solidFill>
                <a:latin typeface="Georgia"/>
              </a:rPr>
              <a:t>XIII-XIV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в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О событиях, связанных с созданием централизованного государства и ростом его политического могущества, свидетельствует  шапка Мономаха. Это наследственный венец русских царей. Изготовлена шапка на Востоке. Золотую тулью  покрывает ажурный сканый узор. Драгоценные камни и соболий окол дополняют  великолепие царского венц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4376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07196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Трон царя Бориса Годунова. Конец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ек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Трон был привезен в Россию в числе других богатых даров царю Борису Годунову от иранского шаха Аббаса-</a:t>
            </a:r>
            <a:r>
              <a:rPr b="0" lang="en-US" sz="20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. Форма трона типична для Востока. Деревянный остов облицован золотыми пластинками,  с травным узором, драгоценные камни – бирюза, турмалин, белый и черный жемчуг в большом обилии для его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37861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БЛЮДО ЦАРИЦЫ МАРИИ ТЕМРЮКОВНЫ. Мастерские Московского Кремля </a:t>
            </a: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людо было свадебным подарком царя Ивана Грозного молодой жене,  черкесской княжне. По древнему обряду на Руси невесте подносили на блюде женский головной убор – кику. Массивное блюдо выковано из куска золота весом около трех кг. Тонкий графический узор оттеняет простоту и благородство формы блю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429080" y="714240"/>
            <a:ext cx="4286160" cy="4929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57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СЕДЛО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Седло подарено царю Федору Иоанновичу иранским шахом Аббасом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 1590 г. Седло в золотой оправе обтянуто бархатом. Затканным золотом. Луки седла усыпаны рубинами, изумрудами,  нежно-голубой бирюзой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357720" y="571680"/>
            <a:ext cx="5500440" cy="47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ДОСПЕХ РЫЦАРСКИЙ ТУРНИРНЫЙ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 XV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еталлические пластинчатые доспехи на Руси практического применения не имели. Привезенные из Европы как диковинка, они украшали залы в царских дворцах и боярских палатах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Доспех закрывает все тело воина, оставляя лишь узкие прорези для глаз и рта. Все детали выкованы из железа, соединены  кожаными ре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43680" y="428760"/>
            <a:ext cx="3609720" cy="5929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356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Ч А Ш А. конец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В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. Своими искусными расписными эмалями прославился далекий северный город Сольвычегодск. Мастера украшали  эмалью  предметы быта: чаши, тарелки, стаканы, шкатулки, ларцы. Поверхность металлического предмета покрывалась  белоснежной эмалью, на которую наносился тонкой штриховкой многоцветный эмалевый узор. Любимыми мотивами росписи были крупные яркие цве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143680" y="714240"/>
            <a:ext cx="364320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ГРЕБЕНЬ И ФУТЛЯР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Сделан гребень из слоновой кости и горного хрусталя, оправа из серебра с позолотой. Футляр из зеленого бархата украшен вышивкой. Стилизованный цветочный орнамент  выполнен тонкой золоченой ниткой, по краю футляра проложен шнур из крученой серебряной ни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214960" y="642960"/>
            <a:ext cx="3448080" cy="5010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11-20T17:11:19Z</dcterms:modified>
  <cp:revision>12</cp:revision>
  <dc:subject/>
  <dc:title>ОРУЖЕЙНАЯ ПАЛАТА. ( КУЛЬТУРА РУСИ В XVII веке) </dc:title>
</cp:coreProperties>
</file>