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9E27-C100-4FA4-8A43-7DA5C685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B5F7-B6AC-4C1D-BF10-2E7B6C95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9E60-7C2E-407D-B197-C6C40C24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0E47-3EC2-4DA4-8689-8447D9A1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7364-F9E0-4A4D-8D76-883D1A7B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42B7-3E8C-43E4-9EF3-7EDAA0BE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158B-667A-413E-830F-F31D6BF0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F00B-76FF-46C7-9AD1-E94F93F3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2DFF-ED0E-4B5B-A104-8056530A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CD58-89F3-459A-A699-0995A654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E5C1-086C-4718-8FB4-E9E40466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7C97-C0D2-4DD4-AA88-F9A14185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592B-F0CB-4A6E-AB78-35934E17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3966-0F5F-409B-AF52-7FC6B8B1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AD9B-D702-479B-B0D2-6E2C82C1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15E3-11AC-4E96-B2A3-B1A210A8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C21D-EF14-4831-B8DA-43A0716E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A602-7E43-48CF-8DE9-19655785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8E0A-51A5-45BD-8983-04FFCDB1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372E-C803-498B-9C7A-7FE8AE09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9DAB-70F6-4E5A-9BCE-C618FFAA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ED3E-0E1A-4ADA-9490-126E0B19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67D3-360E-456F-9E48-73C934EB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2190-9221-414F-B4A5-4E3A2FFB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76B5-B3F2-4C4F-8B16-7E13543B39D7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5210-871B-4E94-B2EE-235D1EA314CA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0/310/1420310/f_5710274.jpg" TargetMode="External"/><Relationship Id="rId2" Type="http://schemas.openxmlformats.org/officeDocument/2006/relationships/hyperlink" Target="http://www.demoscope.ru/weekly/2002/085/img/litta.jpg" TargetMode="External"/><Relationship Id="rId3" Type="http://schemas.openxmlformats.org/officeDocument/2006/relationships/hyperlink" Target="http://cravingideas.blogs.com/photos/uncategorized/mona_lisa_1.jpg" TargetMode="External"/><Relationship Id="rId4" Type="http://schemas.openxmlformats.org/officeDocument/2006/relationships/hyperlink" Target="http://www.abc-people.com/data/leonardov/vecherya1.jpg" TargetMode="External"/><Relationship Id="rId5" Type="http://schemas.openxmlformats.org/officeDocument/2006/relationships/hyperlink" Target="http://waking-up.org/wp-content/uploads/2011/06/Michelangelo_portrait.jpg" TargetMode="External"/><Relationship Id="rId6" Type="http://schemas.openxmlformats.org/officeDocument/2006/relationships/hyperlink" Target="http://3-21vzlet.ru/wp-content/uploads/2011/08/david.jpg" TargetMode="External"/><Relationship Id="rId7" Type="http://schemas.openxmlformats.org/officeDocument/2006/relationships/hyperlink" Target="http://www.centre.smr.ru/images/pics/pic0116/pic0116_1024.jpg" TargetMode="External"/><Relationship Id="rId8" Type="http://schemas.openxmlformats.org/officeDocument/2006/relationships/hyperlink" Target="http://www.histoiredelart.net/artistes/XVI/tableaux_raphael/Raphael-Autoportrait-1506.jpg" TargetMode="External"/><Relationship Id="rId9" Type="http://schemas.openxmlformats.org/officeDocument/2006/relationships/hyperlink" Target="http://www.legacyofthecauldron.com/Raphael_ConestabileSQ.jpg" TargetMode="External"/><Relationship Id="rId10" Type="http://schemas.openxmlformats.org/officeDocument/2006/relationships/hyperlink" Target="http://img0.liveinternet.ru/images/attach/c/3/83/293/83293330_Rafael_017__Sikstinskaya_madonna.jpg" TargetMode="External"/><Relationship Id="rId11" Type="http://schemas.openxmlformats.org/officeDocument/2006/relationships/hyperlink" Target="http://www.usc.edu/schools/annenberg/asc/projects/comm544/library/images/008.jpg" TargetMode="External"/><Relationship Id="rId12" Type="http://schemas.openxmlformats.org/officeDocument/2006/relationships/hyperlink" Target="http://www.ibiblio.org/wm/paint/auth/bruegel/dance.jpg" TargetMode="External"/><Relationship Id="rId13" Type="http://schemas.openxmlformats.org/officeDocument/2006/relationships/hyperlink" Target="http://de.academic.ru/pictures/dewiki/80/Pieter_Bruegel_the_Elder-_The_Corn_Harvest_(August).JPG" TargetMode="External"/><Relationship Id="rId14" Type="http://schemas.openxmlformats.org/officeDocument/2006/relationships/hyperlink" Target="http://www.math.nus.edu.sg/~matmcinn/picture/Brueghel_the_elder_-_Hunters_in_the_snow.jpg" TargetMode="External"/><Relationship Id="rId15" Type="http://schemas.openxmlformats.org/officeDocument/2006/relationships/hyperlink" Target="http://img-fotki.yandex.ru/get/4711/53496785.93/0_78eee_36d30baa_XL" TargetMode="External"/><Relationship Id="rId16" Type="http://schemas.openxmlformats.org/officeDocument/2006/relationships/hyperlink" Target="http://www.artholland.ru/art/r/rembrand/img/94.jpg" TargetMode="External"/><Relationship Id="rId17" Type="http://schemas.openxmlformats.org/officeDocument/2006/relationships/hyperlink" Target="http://blog.artnn.ru/images_2006/vozvraschenie_bludnogo_syna_rembrandt_1669.jpg" TargetMode="External"/><Relationship Id="rId18" Type="http://schemas.openxmlformats.org/officeDocument/2006/relationships/hyperlink" Target="http://www.bibliotekar.ru/Kdurer/index.files/image001.jpg" TargetMode="External"/><Relationship Id="rId19" Type="http://schemas.openxmlformats.org/officeDocument/2006/relationships/hyperlink" Target="http://www.zavtra.ru/cgi/veil/data/zavtra/11/906/81.jpg" TargetMode="External"/><Relationship Id="rId20" Type="http://schemas.openxmlformats.org/officeDocument/2006/relationships/hyperlink" Target="http://www.lib.unc.edu/coursepages/reli/images/Durer_Erasmus.jpg" TargetMode="External"/><Relationship Id="rId21" Type="http://schemas.openxmlformats.org/officeDocument/2006/relationships/hyperlink" Target="http://s05.radikal.ru/i178/0908/02/4c6013b5b4b3.jpg" TargetMode="External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71600" y="457200"/>
            <a:ext cx="72388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Book Antiqua"/>
              </a:rPr>
              <a:t>Мир художественной культуры                                   Эпохи Возрождения</a:t>
            </a:r>
            <a:r>
              <a:rPr b="1" lang="en-US" sz="6000" spc="-1" strike="noStrike">
                <a:solidFill>
                  <a:srgbClr val="336666"/>
                </a:solidFill>
                <a:latin typeface="Book Antiqua"/>
              </a:rPr>
              <a:t> </a:t>
            </a:r>
            <a:endParaRPr b="0" lang="en-US" sz="6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280" y="4495680"/>
            <a:ext cx="2448000" cy="1836720"/>
          </a:xfrm>
          <a:prstGeom prst="rect">
            <a:avLst/>
          </a:prstGeom>
          <a:ln w="9360">
            <a:solidFill>
              <a:srgbClr val="3366cc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438280" y="3809880"/>
            <a:ext cx="6507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Учитель истории и обществознания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анюшин Михаил Евгеньевич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МБОУ Ичалковская СОШ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Перевозский район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Нижегородская область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Рафаэль Санти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(1483-1520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3889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05320" y="685800"/>
            <a:ext cx="5437080" cy="5486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280" y="205740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адонна  Конестабиле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768840" y="228600"/>
            <a:ext cx="5062320" cy="6400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" y="2133720"/>
            <a:ext cx="320040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икстинская мадонн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Картинная галерея, Дрезден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итер Брейгель Старший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          (1525/1530-156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32280" y="1523880"/>
            <a:ext cx="40035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47920" y="1592280"/>
            <a:ext cx="7238880" cy="5054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Крестьянский танец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истории искусства, Ве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7172280" cy="4924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Жатв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Метрополитен, Нью-Йорк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7219800" cy="5069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Охотники на снегу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истории искусства, Ве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Рембрандт Харменс ван Рейн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          (1606-166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24360" y="1523880"/>
            <a:ext cx="4147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86200" y="304920"/>
            <a:ext cx="4921200" cy="6286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205740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ортрет старика в красном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5127840" cy="6315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4920" y="213372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Возвращение блудного сын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Леонардо да Винчи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452-151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754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Альбрехт Дюрер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471-1528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11560" y="1219320"/>
            <a:ext cx="39290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46112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280" y="2133720"/>
            <a:ext cx="39625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Четыре апокалиптических всадник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равюра из серии «Апокалипсис»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091040" y="304920"/>
            <a:ext cx="4825800" cy="6248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2280" y="2209680"/>
            <a:ext cx="3962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Эразм Роттердамский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равюра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Ганс Гольбейн Младший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(1497-1543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79640" y="1143000"/>
            <a:ext cx="4005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46680" y="304920"/>
            <a:ext cx="5005080" cy="6248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920" y="205740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Портрет Уильяма Уорхэм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Лувр, Париж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4889520" cy="6410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8600" y="2209680"/>
            <a:ext cx="3429000" cy="30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Портрет члена семьи Ведигов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Музей Метрополитен,   Нью-Йорк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Диего Веласкес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599-1660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43293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135240" y="304920"/>
            <a:ext cx="5819760" cy="6248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2280" y="2362320"/>
            <a:ext cx="289584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Завтрак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47920" y="1654200"/>
            <a:ext cx="7543800" cy="4903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ряхи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Прадо, Мадрид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685800"/>
            <a:ext cx="7467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1. Рембрандт и Рафаэль были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путешественниками, открывшими новые земли                                                                         2) художниками эпохи Возрождения                  3) учёными и философами                                   4) драматургам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3809880"/>
            <a:ext cx="7543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2. Создатель статуи «Давид»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) Леонардо да Винчи                                                2) Микеланджело Буонарроти                                 3) Альбрехт Дюрер                                                    4) Томас Мор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0574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48006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4940280" cy="6350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2133720"/>
            <a:ext cx="36576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адонна Литта  (Мадонна с младенцем)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47920" y="685800"/>
            <a:ext cx="7467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3. Картину «Возвращение блудного сына» написал художник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) Леонардо да Винчи                                                                         2) Альбрехт Дюрер                                                 3) Рафаэль Санти                                                    4) Рембрандт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3657600"/>
            <a:ext cx="7543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4. Изображение сюжетов из жизни простых крестьян и горожан характеризует искусство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тальянского Возрождения                                                2) Северного Возрождения                                    3) готическое                                                             4) антично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27432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50292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685800"/>
            <a:ext cx="7696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5. Ранее всего эпоха Возрождения началась в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талии                                                                         2) Испании                                                                   3) Германии                                                                 4) Голланди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3200400"/>
            <a:ext cx="7543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6. Отличительной чертой искусства эпохи Возрождения было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спользование цветомузыки                                                2) использование библейских сюжетов                                    3) использование достижений античной культуры                                                                   4) отсутствие портретного сходства в изображении людей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29528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876920"/>
            <a:ext cx="990720" cy="304560"/>
          </a:xfrm>
          <a:custGeom>
            <a:avLst/>
            <a:gdLst>
              <a:gd name="textAreaLeft" fmla="*/ 154800 w 990720"/>
              <a:gd name="textAreaRight" fmla="*/ 866880 w 9907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1522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В1. Установите соответствие между автором и произведением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397160"/>
          <a:ext cx="8077320" cy="345600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р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едение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Леонардо да Винчи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«Портрет старика в красном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Питер Брейгель Старший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«Четыре всадника Апокалипсиса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Альбрехт Дюрер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«Тайная вечеря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«Крестьянский танец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209680" y="5257800"/>
          <a:ext cx="6096240" cy="1270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533520" y="5334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Ответ: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162920" y="594360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124080" y="5943600"/>
            <a:ext cx="2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105520" y="594360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523880" y="533520"/>
            <a:ext cx="716292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Литератур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Юдовская А.Я., Баранов П.А., Ванюшкина Л.М. Новая история, 1500-1800, 7 класс. М.: «Просвещение», 2009г.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Соловьёв К.А. Универсальные поурочные разработки по Новой истории, 1500-1800гг., 7 класс. М.: «Вако», 2009г.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Волкова К.В. Контрольно-измерительные материалы. История Нового времени: 7 класс. М.: «Вако», 2011г.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33520" y="152280"/>
            <a:ext cx="8381880" cy="68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Интернет ресурсы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"/>
              </a:rPr>
              <a:t>http://img1.liveinternet.ru/images/foto/b/0/310/1420310/f_571027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"/>
              </a:rPr>
              <a:t>http://www.demoscope.ru/weekly/2002/085/img/litta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Мадонна Литт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3"/>
              </a:rPr>
              <a:t>http://cravingideas.blogs.com/photos/uncategorized/mona_lisa_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Мона Лиз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4"/>
              </a:rPr>
              <a:t>http://www.abc-people.com/data/leonardov/vecherya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Тайная вечеря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5"/>
              </a:rPr>
              <a:t>http://waking-up.org/wp-content/uploads/2011/06/Michelangelo_portrait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6"/>
              </a:rPr>
              <a:t>http://3-21vzlet.ru/wp-content/uploads/2011/08/david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 - Давид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7"/>
              </a:rPr>
              <a:t>http://www.centre.smr.ru/images/pics/pic0116/pic0116_102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 - Сотворение Адам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8"/>
              </a:rPr>
              <a:t>http://www.histoiredelart.net/artistes/XVI/tableaux_raphael/Raphael-Autoportrait-1506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9"/>
              </a:rPr>
              <a:t>http://www.legacyofthecauldron.com/Raphael_ConestabileSQ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Мадонна Конестабиле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0"/>
              </a:rPr>
              <a:t>http://img0.liveinternet.ru/images/attach/c/3/83/293/83293330_Rafael_017__Sikstinskaya_madonna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Сикстинская мадонн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 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1"/>
              </a:rPr>
              <a:t>http://www.usc.edu/schools/annenberg/asc/projects/comm544/library/images/008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2"/>
              </a:rPr>
              <a:t>http://www.ibiblio.org/wm/paint/auth/bruegel/dance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 – Крестьянский танец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3"/>
              </a:rPr>
              <a:t>http://de.academic.ru/pictures/dewiki/80/Pieter_Bruegel_the_Elder-_The_Corn_Harvest_(August)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– Питер Брейгель Старший – Жатв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4"/>
              </a:rPr>
              <a:t>http://www.math.nus.edu.sg/~matmcinn/picture/Brueghel_the_elder_-_Hunters_in_the_snow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 – Охотники на снегу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5"/>
              </a:rPr>
              <a:t>http://img-fotki.yandex.ru/get/4711/53496785.93/0_78eee_36d30baa_XL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6"/>
              </a:rPr>
              <a:t>http://www.artholland.ru/art/r/rembrand/img/9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 - Портрет старика в красном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7"/>
              </a:rPr>
              <a:t>http://blog.artnn.ru/images_2006/vozvraschenie_bludnogo_syna_rembrandt_1669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 - Возвращение блудного сын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8"/>
              </a:rPr>
              <a:t>http://www.bibliotekar.ru/Kdurer/index.files/image00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9"/>
              </a:rPr>
              <a:t>http://www.zavtra.ru/cgi/veil/data/zavtra/11/906/8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Четыре апокалиптических всадник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0"/>
              </a:rPr>
              <a:t>http://www.lib.unc.edu/coursepages/reli/images/Durer_Erasmus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Эразм Роттердамск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1"/>
              </a:rPr>
              <a:t>http://s05.radikal.ru/i178/0908/02/4c6013b5b4b3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Ганс Гольбейн Младш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img0.liveinternet.ru/images/attach/c/1/53/851/53851773_3warham.jpg - Ганс Гольбейн Младший – Портрет Уильяма Уорхэм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wga.hu/art/h/holbein/hans_y/1535/1wedigh.jpg - Ганс Гольбейн - Портрет члена семьи Ведигов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img0.liveinternet.ru/images/attach/c/4/79/902/79902068_SelfPortrait_1643.jpg - Диего Веласкес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art-pics.ru/pics/1636/%C4%E8%E5%E3%EE%20%C2%E5%EB%E0%F1%EA%E5%F1-%C7%E0%E2%F2%F0%E0%EA.jpg – Диего Веласкес – Завтрак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varvar.ru/arhiv/gallery/baroque/velazquez/images/velazquez20.jpg - Диего Веласкес - Пряхи.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4865400" cy="6352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2209680"/>
            <a:ext cx="3657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она Лиза  (Джоконда)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Лувр, Париж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1704960"/>
            <a:ext cx="8686800" cy="4722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Тайная вечеря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Санта-Мария делле Грацие, Милан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80880"/>
            <a:ext cx="7467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икеланджело Буонарроти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        (1475-1564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894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6524640" cy="541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280" y="2362320"/>
            <a:ext cx="22860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Давид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Академия, Флоренция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763120" cy="4141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23880" y="152280"/>
            <a:ext cx="716292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отворение Адам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Фрагмент росписи свода Сикстинской капеллы, Ватикан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52480" y="380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тихотворение из Цикла сонетов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057400"/>
            <a:ext cx="79246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Кто создал всё, кто сотворил и части –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И после выбрал лучшую из них,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Чтоб здесь явить нам чудо дел своих,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Достойное его высокой власти…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10-26T08:58:2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