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46F-813A-4548-8B66-77D5D41D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931-F806-4960-BABF-ADB40950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9EE-320C-4F58-A683-D39B13BF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AC6-2F14-49BC-BB7E-0AC5F83E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9807-ADC6-4D8E-B86E-B6FFC41B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9FC0-CE31-4E73-A287-8A9672F6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1391-4BED-4365-8B74-DAB97F7A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9596-406F-4550-8523-64999B71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8CF6-B06D-4782-897A-97B31DCC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00C1-4B6E-4B7B-AC20-D786C94A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2749-6CF1-42F3-A2BB-A8CD7E51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6F4-A28A-48DD-BC37-7DEFB7E1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436A-DFD4-4820-8B85-41ECE565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2FB0-3839-439B-AEF8-44A108C3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5561-CB5D-4C60-B8CC-43470843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AAFE-6070-4E0F-9E62-E1ACE319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D9EE-B13F-4910-8AD6-A38FD8D2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F33-D9A8-4CD7-A120-4B1F1C50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5B4-625B-423D-A5DA-70B11A82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0A9-231F-408F-AA6B-66DFB6AF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7BC-40FD-4F67-B6ED-E6042C22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C9F-B45B-4240-802C-923A38CB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BA5-8D55-40B1-BC93-9FD9E63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742-1AE5-4B9D-A136-F05D6BA5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8EEE-3821-4EE1-87D7-D0B22BB7BF6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B8AB-C4FC-4436-B4A2-011EB4B0B7F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0/310/1420310/f_5710274.jpg" TargetMode="External"/><Relationship Id="rId2" Type="http://schemas.openxmlformats.org/officeDocument/2006/relationships/hyperlink" Target="http://www.demoscope.ru/weekly/2002/085/img/litta.jpg" TargetMode="External"/><Relationship Id="rId3" Type="http://schemas.openxmlformats.org/officeDocument/2006/relationships/hyperlink" Target="http://cravingideas.blogs.com/photos/uncategorized/mona_lisa_1.jpg" TargetMode="External"/><Relationship Id="rId4" Type="http://schemas.openxmlformats.org/officeDocument/2006/relationships/hyperlink" Target="http://www.abc-people.com/data/leonardov/vecherya1.jpg" TargetMode="External"/><Relationship Id="rId5" Type="http://schemas.openxmlformats.org/officeDocument/2006/relationships/hyperlink" Target="http://waking-up.org/wp-content/uploads/2011/06/Michelangelo_portrait.jpg" TargetMode="External"/><Relationship Id="rId6" Type="http://schemas.openxmlformats.org/officeDocument/2006/relationships/hyperlink" Target="http://3-21vzlet.ru/wp-content/uploads/2011/08/david.jpg" TargetMode="External"/><Relationship Id="rId7" Type="http://schemas.openxmlformats.org/officeDocument/2006/relationships/hyperlink" Target="http://www.centre.smr.ru/images/pics/pic0116/pic0116_1024.jpg" TargetMode="External"/><Relationship Id="rId8" Type="http://schemas.openxmlformats.org/officeDocument/2006/relationships/hyperlink" Target="http://www.histoiredelart.net/artistes/XVI/tableaux_raphael/Raphael-Autoportrait-1506.jpg" TargetMode="External"/><Relationship Id="rId9" Type="http://schemas.openxmlformats.org/officeDocument/2006/relationships/hyperlink" Target="http://www.legacyofthecauldron.com/Raphael_ConestabileSQ.jpg" TargetMode="External"/><Relationship Id="rId10" Type="http://schemas.openxmlformats.org/officeDocument/2006/relationships/hyperlink" Target="http://img0.liveinternet.ru/images/attach/c/3/83/293/83293330_Rafael_017__Sikstinskaya_madonna.jpg" TargetMode="External"/><Relationship Id="rId11" Type="http://schemas.openxmlformats.org/officeDocument/2006/relationships/hyperlink" Target="http://www.usc.edu/schools/annenberg/asc/projects/comm544/library/images/008.jpg" TargetMode="External"/><Relationship Id="rId12" Type="http://schemas.openxmlformats.org/officeDocument/2006/relationships/hyperlink" Target="http://www.ibiblio.org/wm/paint/auth/bruegel/dance.jpg" TargetMode="External"/><Relationship Id="rId13" Type="http://schemas.openxmlformats.org/officeDocument/2006/relationships/hyperlink" Target="http://de.academic.ru/pictures/dewiki/80/Pieter_Bruegel_the_Elder-_The_Corn_Harvest_(August).JPG" TargetMode="External"/><Relationship Id="rId14" Type="http://schemas.openxmlformats.org/officeDocument/2006/relationships/hyperlink" Target="http://www.math.nus.edu.sg/~matmcinn/picture/Brueghel_the_elder_-_Hunters_in_the_snow.jpg" TargetMode="External"/><Relationship Id="rId15" Type="http://schemas.openxmlformats.org/officeDocument/2006/relationships/hyperlink" Target="http://img-fotki.yandex.ru/get/4711/53496785.93/0_78eee_36d30baa_XL" TargetMode="External"/><Relationship Id="rId16" Type="http://schemas.openxmlformats.org/officeDocument/2006/relationships/hyperlink" Target="http://www.artholland.ru/art/r/rembrand/img/94.jpg" TargetMode="External"/><Relationship Id="rId17" Type="http://schemas.openxmlformats.org/officeDocument/2006/relationships/hyperlink" Target="http://blog.artnn.ru/images_2006/vozvraschenie_bludnogo_syna_rembrandt_1669.jpg" TargetMode="External"/><Relationship Id="rId18" Type="http://schemas.openxmlformats.org/officeDocument/2006/relationships/hyperlink" Target="http://www.bibliotekar.ru/Kdurer/index.files/image001.jpg" TargetMode="External"/><Relationship Id="rId19" Type="http://schemas.openxmlformats.org/officeDocument/2006/relationships/hyperlink" Target="http://www.zavtra.ru/cgi/veil/data/zavtra/11/906/81.jpg" TargetMode="External"/><Relationship Id="rId20" Type="http://schemas.openxmlformats.org/officeDocument/2006/relationships/hyperlink" Target="http://www.lib.unc.edu/coursepages/reli/images/Durer_Erasmus.jpg" TargetMode="External"/><Relationship Id="rId21" Type="http://schemas.openxmlformats.org/officeDocument/2006/relationships/hyperlink" Target="http://s05.radikal.ru/i178/0908/02/4c6013b5b4b3.jpg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457200"/>
            <a:ext cx="7238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Book Antiqua"/>
              </a:rPr>
              <a:t>Мир художественной культуры                                   Эпохи Возрождения</a:t>
            </a:r>
            <a:r>
              <a:rPr b="1" lang="en-US" sz="60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448000" cy="183672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809880"/>
            <a:ext cx="6507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Учитель истории и обществозна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анюшин Михаил Евгеньевич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БОУ Ичалковская СОШ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Перевозский райо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Нижегородская облас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афаэль Сан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83-152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5437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 Конестабиле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68840" y="228600"/>
            <a:ext cx="506232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133720"/>
            <a:ext cx="32004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икстинская мадон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Картинная галерея, Дрезде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итер Брейгель Старший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          (1525/1530-15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2280" y="1523880"/>
            <a:ext cx="4003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59228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Крестьянский танец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717228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Жатв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Метрополитен, Нью-Йор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219800" cy="506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Охотники на снегу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ембрандт Харменс ван Рейн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  (1606-16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523880"/>
            <a:ext cx="414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21200" cy="628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ортрет старика в красном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27840" cy="631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213372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Возвращение блудного сы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Леонардо да Винчи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52-151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5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Альбрехт Дюрер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71-1528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19320"/>
            <a:ext cx="392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461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2133720"/>
            <a:ext cx="396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Четыре апокалиптических всадник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 из серии «Апокалипсис»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1040" y="304920"/>
            <a:ext cx="482580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2209680"/>
            <a:ext cx="3962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Эразм Роттердамский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Ганс Гольбейн Младший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97-1543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79640" y="1143000"/>
            <a:ext cx="400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46680" y="304920"/>
            <a:ext cx="500508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05740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Уильяма Уорхэм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889520" cy="641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09680"/>
            <a:ext cx="3429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члена семьи Ведигов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узей Метрополитен,   Нью-Йорк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иего Веласкес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599-166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329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5240" y="304920"/>
            <a:ext cx="5819760" cy="624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2362320"/>
            <a:ext cx="28958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Завтрак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654200"/>
            <a:ext cx="7543800" cy="490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ряхи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Прадо, Мадри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1. Рембрандт и Рафаэль бы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путешественниками, открывшими новые земли                                                                         2) художниками эпохи Возрождения                  3) учёными и философами                                   4) драматургам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98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2. Создатель статуи «Давид»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2) Микеланджело Буонарроти                                 3) Альбрехт Дюрер                                                    4) Томас Мо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940280" cy="635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133720"/>
            <a:ext cx="3657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Литта  (Мадонна с младенцем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3. Картину «Возвращение блудного сына» написал художник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                         2) Альбрехт Дюрер                                                 3) Рафаэль Санти                                                    4) Рембранд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4. Изображение сюжетов из жизни простых крестьян и горожан характеризует искусств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ьянского Возрождения                                                2) Северного Возрождения                                    3) готическое                                                             4) античн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029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858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5. Ранее всего эпоха Возрождения началась 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ии                                                                         2) Испании                                                                   3) Германии                                                                 4) Голланд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00400"/>
            <a:ext cx="7543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6. Отличительной чертой искусства эпохи Возрождения бы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спользование цветомузыки                                                2) использование библейских сюжетов                                    3) использование достижений античной культуры                                                                   4) отсутствие портретного сходства в изображении люде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8769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52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1. Установите соответствие между автором и произведение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97160"/>
          <a:ext cx="8077320" cy="345600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Леонардо да Винч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«Портрет старика в красном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итер Брейгель Старший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Четыре всадника Апокалипсиса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Альбрехт Дюре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Тайная вечеря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«Крестьянский танец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257800"/>
          <a:ext cx="6096240" cy="1270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629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594360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533520"/>
            <a:ext cx="71629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Литератур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Юдовская А.Я., Баранов П.А., Ванюшкина Л.М. Новая история, 1500-1800, 7 класс. М.: «Просвещение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оловьёв К.А. Универсальные поурочные разработки по Новой истории, 1500-1800гг., 7 класс. М.: «Вако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Волкова К.В. Контрольно-измерительные материалы. История Нового времени: 7 класс. М.: «Вако», 2011г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52280"/>
            <a:ext cx="8381880" cy="68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Интернет ресурсы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"/>
              </a:rPr>
              <a:t>http://img1.liveinternet.ru/images/foto/b/0/310/1420310/f_571027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"/>
              </a:rPr>
              <a:t>http://www.demoscope.ru/weekly/2002/085/img/litt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адонна Литт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3"/>
              </a:rPr>
              <a:t>http://cravingideas.blogs.com/photos/uncategorized/mona_lisa_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она Лиз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4"/>
              </a:rPr>
              <a:t>http://www.abc-people.com/data/leonardov/vecherya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Тайная вечеря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5"/>
              </a:rPr>
              <a:t>http://waking-up.org/wp-content/uploads/2011/06/Michelangelo_portrait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6"/>
              </a:rPr>
              <a:t>http://3-21vzlet.ru/wp-content/uploads/2011/08/david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Давид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7"/>
              </a:rPr>
              <a:t>http://www.centre.smr.ru/images/pics/pic0116/pic0116_102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Сотворение Ада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8"/>
              </a:rPr>
              <a:t>http://www.histoiredelart.net/artistes/XVI/tableaux_raphael/Raphael-Autoportrait-1506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9"/>
              </a:rPr>
              <a:t>http://www.legacyofthecauldron.com/Raphael_ConestabileSQ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Мадонна Конестабиле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0"/>
              </a:rPr>
              <a:t>http://img0.liveinternet.ru/images/attach/c/3/83/293/83293330_Rafael_017__Sikstinskaya_madonn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Сикстинская мадон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 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1"/>
              </a:rPr>
              <a:t>http://www.usc.edu/schools/annenberg/asc/projects/comm544/library/images/008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2"/>
              </a:rPr>
              <a:t>http://www.ibiblio.org/wm/paint/auth/bruegel/dance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Крестьянский танец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3"/>
              </a:rPr>
              <a:t>http://de.academic.ru/pictures/dewiki/80/Pieter_Bruegel_the_Elder-_The_Corn_Harvest_(August)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– Питер Брейгель Старший – Жатв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4"/>
              </a:rPr>
              <a:t>http://www.math.nus.edu.sg/~matmcinn/picture/Brueghel_the_elder_-_Hunters_in_the_snow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Охотники на снегу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5"/>
              </a:rPr>
              <a:t>http://img-fotki.yandex.ru/get/4711/53496785.93/0_78eee_36d30baa_XL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6"/>
              </a:rPr>
              <a:t>http://www.artholland.ru/art/r/rembrand/img/9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Портрет старика в красном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7"/>
              </a:rPr>
              <a:t>http://blog.artnn.ru/images_2006/vozvraschenie_bludnogo_syna_rembrandt_1669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Возвращение блудного сы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8"/>
              </a:rPr>
              <a:t>http://www.bibliotekar.ru/Kdurer/index.files/image00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9"/>
              </a:rPr>
              <a:t>http://www.zavtra.ru/cgi/veil/data/zavtra/11/906/8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Четыре апокалиптических всадник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0"/>
              </a:rPr>
              <a:t>http://www.lib.unc.edu/coursepages/reli/images/Durer_Erasmus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Эразм Роттердамск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1"/>
              </a:rPr>
              <a:t>http://s05.radikal.ru/i178/0908/02/4c6013b5b4b3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Ганс Гольбейн Млад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1/53/851/53851773_3warham.jpg - Ганс Гольбейн Младший – Портрет Уильяма Уорхэ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wga.hu/art/h/holbein/hans_y/1535/1wedigh.jpg - Ганс Гольбейн - Портрет члена семьи Ведигов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4/79/902/79902068_SelfPortrait_1643.jpg - Диего Веласкес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art-pics.ru/pics/1636/%C4%E8%E5%E3%EE%20%C2%E5%EB%E0%F1%EA%E5%F1-%C7%E0%E2%F2%F0%E0%EA.jpg – Диего Веласкес – Завтрак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varvar.ru/arhiv/gallery/baroque/velazquez/images/velazquez20.jpg - Диего Веласкес - Пряхи.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65400" cy="63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09680"/>
            <a:ext cx="3657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она Лиза  (Джоконда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Тайная вечеря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анта-Мария делле Грацие, Мила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икеланджело Буонарро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(1475-1564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894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524640" cy="541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362320"/>
            <a:ext cx="2286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авид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Академия, Флоренция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414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152280"/>
            <a:ext cx="7162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отворение Адам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Фрагмент росписи свода Сикстинской капеллы, Ватика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тихотворение из Цикла сонетов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Кто создал всё, кто сотворил и части –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И после выбрал лучшую из н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Чтоб здесь явить нам чудо дел сво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Достойное его высокой власти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0-26T08:58:2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