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4C4-1A7E-46B3-B8DC-0CB2638F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B0A-4C10-4529-972F-394E8081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B8A-C5BE-4C06-A514-6ECF68F9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5FB8-5B15-4AD1-99CE-48B889C9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CDC-779B-4487-BB69-8122F56F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276-82DD-4F8B-9B98-A56450DF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6A0-6EC6-48C7-853A-FAA4FF05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70B4-DF80-420B-AA8E-E343786C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B84A-BC6C-4C8D-8273-48F7356B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25A-885A-4CA6-8239-0A857C28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CF8-B5A5-4096-A69D-D74DB33F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D1D-7CE4-453A-A5DC-1D8B3CEB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8CB5-C855-41E9-B6A8-E72124DBE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4;&#1074;&#1080;&#1078;&#1077;&#1085;&#1080;&#1077;_&#1085;&#1077;&#1089;&#1086;&#1090;&#1088;&#1091;&#1076;&#1085;&#1080;&#1095;&#1077;&#1089;&#1090;&#1074;&#1072;" TargetMode="External"/><Relationship Id="rId3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4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5" Type="http://schemas.openxmlformats.org/officeDocument/2006/relationships/hyperlink" Target="http://ru.wikipedia.org/wiki/&#1063;&#1072;&#1085;_&#1050;&#1072;&#1081;&#1096;&#1080;" TargetMode="External"/><Relationship Id="rId6" Type="http://schemas.openxmlformats.org/officeDocument/2006/relationships/hyperlink" Target="http://ru.wikipedia.org/wiki/&#1063;&#1072;&#1085;_&#1050;&#1072;&#1081;&#1096;&#1080;" TargetMode="External"/><Relationship Id="rId7" Type="http://schemas.openxmlformats.org/officeDocument/2006/relationships/hyperlink" Target="http://ru.wikipedia.org/wiki/&#1063;&#1072;&#1085;_&#1050;&#1072;&#1081;&#1096;&#1080;" TargetMode="External"/><Relationship Id="rId8" Type="http://schemas.openxmlformats.org/officeDocument/2006/relationships/hyperlink" Target="http://ru.wikipedia.org/wiki/&#1063;&#1072;&#1085;_&#1050;&#1072;&#1081;&#1096;&#1080;" TargetMode="External"/><Relationship Id="rId9" Type="http://schemas.openxmlformats.org/officeDocument/2006/relationships/hyperlink" Target="http://ru.wikipedia.org/wiki/&#1063;&#1072;&#1085;_&#1050;&#1072;&#1081;&#1096;&#1080;" TargetMode="External"/><Relationship Id="rId10" Type="http://schemas.openxmlformats.org/officeDocument/2006/relationships/hyperlink" Target="http://ru.wikipedia.org/wiki/&#1063;&#1072;&#1085;_&#1050;&#1072;&#1081;&#1096;&#1080;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Восток в первой половине XX 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и стран Востока проблемы модернизации были решены  к началу XX века только Японией. Этот процесс начался с реставрации Мейдзи, усиления власти феодальных клики осуществления реформ по европейскому ти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File:Satsuma-samurai-during-boshin-war-period.jpg"/>
          <p:cNvPicPr/>
          <p:nvPr/>
        </p:nvPicPr>
        <p:blipFill>
          <a:blip r:embed="rId2"/>
          <a:stretch/>
        </p:blipFill>
        <p:spPr>
          <a:xfrm>
            <a:off x="0" y="2057400"/>
            <a:ext cx="4416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формы помог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ежать революции и пораб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ончили с изоляциониз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вели страну на путь капиталистическ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648320"/>
            <a:ext cx="85341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понский дух + европейское зн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пония повторила европейский путь модернизации, связанный с внешней экспансией и милитаризацией. Сначала начала борьбу за колонии на материке и развязала 5 войн за 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File:RUSSOJAPANESEWARIMAGE.jpg"/>
          <p:cNvPicPr/>
          <p:nvPr/>
        </p:nvPicPr>
        <p:blipFill>
          <a:blip r:embed="rId2"/>
          <a:stretch/>
        </p:blipFill>
        <p:spPr>
          <a:xfrm>
            <a:off x="304920" y="1600200"/>
            <a:ext cx="3886200" cy="509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6324480"/>
            <a:ext cx="3962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о – Япон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яя экспансия, милитаризация подталкивали Японию к тоталитаризму. Он приобрёл своеобразную форму традиционного императорского режима и военно – регулируемого капитал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File:Kamidaigo05 1024.jpg"/>
          <p:cNvPicPr/>
          <p:nvPr/>
        </p:nvPicPr>
        <p:blipFill>
          <a:blip r:embed="rId2"/>
          <a:stretch/>
        </p:blipFill>
        <p:spPr>
          <a:xfrm>
            <a:off x="307800" y="1981080"/>
            <a:ext cx="4264200" cy="3198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5181480"/>
            <a:ext cx="4343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нтоистский х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еобразие японской модернизации состояло в том, что они приняли европейский пример развития с сочетанием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File:Skyscrapers Shinjuku 2007 rev.jpg"/>
          <p:cNvPicPr/>
          <p:nvPr/>
        </p:nvPicPr>
        <p:blipFill>
          <a:blip r:embed="rId2"/>
          <a:stretch/>
        </p:blipFill>
        <p:spPr>
          <a:xfrm>
            <a:off x="0" y="1219320"/>
            <a:ext cx="4343400" cy="2941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2640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ю первую половину XX столетия Китай вёл войны на своей территории. Путь от традиционного Китая до современного реформируемого Китая занял целое столетие. Здесь более жёстко и открыто проявила себя альтернатива: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реформа и револю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ая ступень развития Китая связана с целым рядом исторических личностей: Кан Ювэй, Сунь Ятсон, Цы Си, Юань Шикай, Чан Кайш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File:Kang-youwei2-large.jpg"/>
          <p:cNvPicPr/>
          <p:nvPr/>
        </p:nvPicPr>
        <p:blipFill>
          <a:blip r:embed="rId2"/>
          <a:stretch/>
        </p:blipFill>
        <p:spPr>
          <a:xfrm>
            <a:off x="152280" y="1249200"/>
            <a:ext cx="1494000" cy="217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File:Xh3.jpg"/>
          <p:cNvPicPr/>
          <p:nvPr/>
        </p:nvPicPr>
        <p:blipFill>
          <a:blip r:embed="rId3"/>
          <a:stretch/>
        </p:blipFill>
        <p:spPr>
          <a:xfrm>
            <a:off x="0" y="4267080"/>
            <a:ext cx="1550880" cy="1971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Цыси"/>
          <p:cNvPicPr/>
          <p:nvPr/>
        </p:nvPicPr>
        <p:blipFill>
          <a:blip r:embed="rId4"/>
          <a:stretch/>
        </p:blipFill>
        <p:spPr>
          <a:xfrm>
            <a:off x="1447920" y="2971800"/>
            <a:ext cx="1566720" cy="204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Цзян Цзеши"/>
          <p:cNvPicPr/>
          <p:nvPr/>
        </p:nvPicPr>
        <p:blipFill>
          <a:blip r:embed="rId5"/>
          <a:stretch/>
        </p:blipFill>
        <p:spPr>
          <a:xfrm>
            <a:off x="2819520" y="1447920"/>
            <a:ext cx="15494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Мао Цзэдун"/>
          <p:cNvPicPr/>
          <p:nvPr/>
        </p:nvPicPr>
        <p:blipFill>
          <a:blip r:embed="rId6"/>
          <a:stretch/>
        </p:blipFill>
        <p:spPr>
          <a:xfrm>
            <a:off x="2894040" y="3886200"/>
            <a:ext cx="16779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62520" y="1523520"/>
            <a:ext cx="4952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е попытки реформ в Китае связаны с именем Кана Ювэя                  (« Сто дней реформ») были пресечены в результате переворота 1898 года. Восстание было жестоко подавл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Kang-youwei2-large.jpg"/>
          <p:cNvPicPr/>
          <p:nvPr/>
        </p:nvPicPr>
        <p:blipFill>
          <a:blip r:embed="rId2"/>
          <a:stretch/>
        </p:blipFill>
        <p:spPr>
          <a:xfrm>
            <a:off x="533520" y="1676520"/>
            <a:ext cx="3290760" cy="4800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5943600"/>
            <a:ext cx="3429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 Ювэ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67080" y="1523520"/>
            <a:ext cx="472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 руководством Сунь Ятсена в 1905 г. объединились несколько буржуазно – демократических и националистических организаций. Их программой стали три принципа:                              «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национализм – народовластие – народное благосостоя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File:Xh3.jpg"/>
          <p:cNvPicPr/>
          <p:nvPr/>
        </p:nvPicPr>
        <p:blipFill>
          <a:blip r:embed="rId2"/>
          <a:stretch/>
        </p:blipFill>
        <p:spPr>
          <a:xfrm>
            <a:off x="85680" y="1447920"/>
            <a:ext cx="4006800" cy="509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280" y="624852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нь Ят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ытки императрицы Цы СИ провести реформы в 1906- 1908 гг. вновь были прерваны смертью императрийцы и последовавшим захватом власти дворцовой кликой, поместивших на престол императора         Пу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Цыси"/>
          <p:cNvPicPr/>
          <p:nvPr/>
        </p:nvPicPr>
        <p:blipFill>
          <a:blip r:embed="rId2"/>
          <a:stretch/>
        </p:blipFill>
        <p:spPr>
          <a:xfrm>
            <a:off x="457200" y="1447920"/>
            <a:ext cx="3798720" cy="4952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ператрица Цы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ла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радиции и модерниз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Ки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Инд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ржуазная революция длилась 1 год. Делегаты революции провозгласили образование Китайской республики и избрали президентом Сунь Ятсена. В Пекина вся власть перешла генералу Юань Шикаю, который добился отречения от престола Цинской династии, но установил свою личную дикт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Юань Шикай"/>
          <p:cNvPicPr/>
          <p:nvPr/>
        </p:nvPicPr>
        <p:blipFill>
          <a:blip r:embed="rId2"/>
          <a:stretch/>
        </p:blipFill>
        <p:spPr>
          <a:xfrm>
            <a:off x="457200" y="1623960"/>
            <a:ext cx="3641760" cy="492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ань Ши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14440" y="15998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ной 1925 г. в Китае началась революция. Генерал Чан Кайши руководил правительством. В 1926 – 1928 гг. совершил поход по северным провинциям, завершив объединение, он начал капиталистическую модернизацию по западноевропейской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Цзян Цзеши"/>
          <p:cNvPicPr/>
          <p:nvPr/>
        </p:nvPicPr>
        <p:blipFill>
          <a:blip r:embed="rId2"/>
          <a:stretch/>
        </p:blipFill>
        <p:spPr>
          <a:xfrm>
            <a:off x="304920" y="1547640"/>
            <a:ext cx="3601800" cy="508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н Кайш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зян Цзеш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33560" y="152352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течение десятилетия до японской агрессии Голимидан провёл в Китае существенные пре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е?  ( стр. 115 – найдите и зачитайт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59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адение Японии на Китай в 1937 году заставило Чан Кайши и Мао Цзэдуна преодолеть вражду и объединиться против японской агрессии. В итоге были остановлены военные действия, советы преобразованы в административные орг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File:Bundesarchiv Bild 183-U1002-502, Japanisch-Chinesischer Krieg.jpg"/>
          <p:cNvPicPr/>
          <p:nvPr/>
        </p:nvPicPr>
        <p:blipFill>
          <a:blip r:embed="rId2"/>
          <a:stretch/>
        </p:blipFill>
        <p:spPr>
          <a:xfrm>
            <a:off x="152280" y="2133720"/>
            <a:ext cx="4572000" cy="3195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8600" y="5257800"/>
            <a:ext cx="4495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поно – Китай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1939 – 1945 г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66720" y="1523880"/>
            <a:ext cx="4876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 Первой мировой войны Англия, стремясь удержать контроль над Индией, расширила права органов самоуправления, но ужесточила наказания  за политическую деятельность. Во главе освободительного движения встал М.Ганди, выдвинувший лозунг: «заполоним собой тюрьм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1904 г. он основал в Южной Африке общину и начал выпускать газету «Индийское мнение»,объединившую  патрио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3948120" cy="4800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8600" y="594360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хандас Карамчанд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Гандиз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социально-политическое и религиозно-философское учение, разработанное Махатмой Ганди, ставшее идеологией индийского национально-освободительн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Основные принципы ганд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ижение независимости мирными, ненасильственными средствами, путём вовлечения в борьбу широких народных масс (Сатьяграх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старины, апелляция к религиозным чувствам народных м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с кастовы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верждение возможности достижения классового мира и разрешения конфликтов между классами путём арбитража, исходя из концепции об опеке крестьян помещиками, а рабочих — капитали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патриархальных отношений, призывы к возрождению сельской общины, кустарного ремесла в Индии и особенно ручного прядения и т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240" y="1523520"/>
            <a:ext cx="5334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07 г.Ганди выдвинул идею «сатьяграхи» -ненасильственной борьбы.   Он был арестован, но ряд расистских законов англичане отмен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5 г.Ганди вернулся в Индию. Он заявил, что касты не вытекают из основ религии и призвал индийцев объеди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9 г.в Индии прошли акции неповиновения. Британия ввела чрезвычайное поло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3440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ндия: кампания ненасильственного сопроти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1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19-1922 г. – протест против принятия одного из репрессивных законов. Он призывал закрывать лавки, прекратить всякую трудовую деятельность. Английские власти ответили жестоким насилием. Провести политику бойк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2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28-1933 гг. - уклонение от уплаты налогов в Английскую казну. Индийский национальный конгресс и Мусульманская лига совместно руководили кампанией. В 1947 г. Великобритания приняла решение о предоставлени Индии независ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67080" y="1447560"/>
            <a:ext cx="4724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27 г.начала работать комиссия по расширению прав комитетов самоуправления, но индийцев в нее не допустили. В ответ началась всеобщая забастовка. Ганди потребовал снижения налога на соль. В 1930 г. Ганди и его сторонники двинулись в глубь страны призывая добывать соль самостоятельно. Индийцы отказались приобретать английские товары и экономика страны была парализ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280" y="2033640"/>
            <a:ext cx="4038840" cy="279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52280" y="4800600"/>
            <a:ext cx="4114800" cy="825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Соляной поход» 12 марта – 5 апреля 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странам Азии и Африки в начале XX века обычно относили понятие                  « Восток» ( отсталый Восток»,                       « передовой Запад») В начале века обнажился большой разрыв между динамичным научно – техническим и социальным развитие стран Запада и застойным состоянием азиатских и африкански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дведём итог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Параграф 12, записи,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u.wikipedia.org/wiki/%D0%94%D0%B2%D0%B8%D0%B6%D0%B5%D0%BD%D0%B8%D0%B5_%D0%BD%D0%B5%D1%81%D0%BE%D1%82%D1%80%D1%83%D0%B4%D0%BD%D0%B8%D1%87%D0%B5%D1%81%D1%82%D0%B2%D0%B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/wiki/%D0%93%D0%B0%D0%BD%D0%B4%D0%B8,_%D0%9C%D0%BE%D1%85%D0%B0%D0%BD%D0%B4%D0%B0%D1%81_%D0%9A%D0%B0%D1%80%D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%D0%BC%D1%87%D0%B0%D0%BD%D0%B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u.wikipedia.org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iki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%D0%A7%D0%B0%D0%BD_%D0%9A%D0%B0%D0%B9%D1%88%D0%B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5029200"/>
            <a:ext cx="75438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600200"/>
            <a:ext cx="6858000" cy="99072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можно объяс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талость и застойность Вост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2590920"/>
            <a:ext cx="547920" cy="685800"/>
          </a:xfrm>
          <a:prstGeom prst="downArrow">
            <a:avLst>
              <a:gd name="adj1" fmla="val 50000"/>
              <a:gd name="adj2" fmla="val 31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276720"/>
            <a:ext cx="7696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противление традиционных обще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шним влия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960" y="4495680"/>
            <a:ext cx="7696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ка колониальных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кемалистская революция в Турции 1918-1923 гг. способствовала тому, что Турция стала светским государством, избавилась от халифата и шариата, стала на путь капиталистическ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ile:Turkish War of Independence5part.jpg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6104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итае Синьхайская революция 1911-1912 гг. решила только одну важную задачу – свержение манчьжурской  династии, но не решила проблему объединения Кит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File:Xinhai Revolution in Shanghai.jpg"/>
          <p:cNvPicPr/>
          <p:nvPr/>
        </p:nvPicPr>
        <p:blipFill>
          <a:blip r:embed="rId2"/>
          <a:stretch/>
        </p:blipFill>
        <p:spPr>
          <a:xfrm>
            <a:off x="1219320" y="1295280"/>
            <a:ext cx="6086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20-1930 гг. Япония, Китай и Индия шли разными путями развития, решали разные задачи, но у них была одна обща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ваться из зависим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тал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ь на ускоренный путь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Модернизац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это процесс распространения тех типов социальной, экономической и политической системы, которые развивались в Западной Европе и Северной Америке с XVII по XX век, а затем распространились на другие европейские стр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600200"/>
            <a:ext cx="75438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ств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 осуществления модер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581280"/>
            <a:ext cx="335268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3657600"/>
            <a:ext cx="335304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волю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25T06:50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