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20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3B9A-C9C9-495D-95F5-1707DA771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9C78-52F1-4B50-8667-0422F7001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7E6C-2234-47B0-AA96-FF0BF7678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4772-119A-4035-BBA0-955B47EB8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5A79-6D33-4D54-9107-B882572C5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1B1F-CBD2-4717-80E0-5DE39A0BC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F89C-96E9-4F00-8BAC-691FE7F2D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C0E4-7AC9-4195-B4C3-BC33CDD91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B74E-218B-4A94-8EC1-1AB6933A0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05C1-1F23-4BE4-A571-36ABED3C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1D8F-9E58-4CA1-9644-6DB7E300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03C4-E3B3-48BF-A059-3B3CA54D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8EE8D-85D6-46F6-B877-23A89ECC3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44;&#1074;&#1080;&#1078;&#1077;&#1085;&#1080;&#1077;_&#1085;&#1077;&#1089;&#1086;&#1090;&#1088;&#1091;&#1076;&#1085;&#1080;&#1095;&#1077;&#1089;&#1090;&#1074;&#1072;" TargetMode="External"/><Relationship Id="rId3" Type="http://schemas.openxmlformats.org/officeDocument/2006/relationships/hyperlink" Target="http://ru.wikipedia.org/wiki/&#1043;&#1072;&#1085;&#1076;&#1080;,_&#1052;&#1086;&#1093;&#1072;&#1085;&#1076;&#1072;&#1089;_&#1050;&#1072;&#1088;%D0%&#1084;&#1095;&#1072;&#1085;&#1076;" TargetMode="External"/><Relationship Id="rId4" Type="http://schemas.openxmlformats.org/officeDocument/2006/relationships/hyperlink" Target="http://ru.wikipedia.org/wiki/&#1043;&#1072;&#1085;&#1076;&#1080;,_&#1052;&#1086;&#1093;&#1072;&#1085;&#1076;&#1072;&#1089;_&#1050;&#1072;&#1088;%D0%&#1084;&#1095;&#1072;&#1085;&#1076;" TargetMode="External"/><Relationship Id="rId5" Type="http://schemas.openxmlformats.org/officeDocument/2006/relationships/hyperlink" Target="http://ru.wikipedia.org/wiki/&#1063;&#1072;&#1085;_&#1050;&#1072;&#1081;&#1096;&#1080;" TargetMode="External"/><Relationship Id="rId6" Type="http://schemas.openxmlformats.org/officeDocument/2006/relationships/hyperlink" Target="http://ru.wikipedia.org/wiki/&#1063;&#1072;&#1085;_&#1050;&#1072;&#1081;&#1096;&#1080;" TargetMode="External"/><Relationship Id="rId7" Type="http://schemas.openxmlformats.org/officeDocument/2006/relationships/hyperlink" Target="http://ru.wikipedia.org/wiki/&#1063;&#1072;&#1085;_&#1050;&#1072;&#1081;&#1096;&#1080;" TargetMode="External"/><Relationship Id="rId8" Type="http://schemas.openxmlformats.org/officeDocument/2006/relationships/hyperlink" Target="http://ru.wikipedia.org/wiki/&#1063;&#1072;&#1085;_&#1050;&#1072;&#1081;&#1096;&#1080;" TargetMode="External"/><Relationship Id="rId9" Type="http://schemas.openxmlformats.org/officeDocument/2006/relationships/hyperlink" Target="http://ru.wikipedia.org/wiki/&#1063;&#1072;&#1085;_&#1050;&#1072;&#1081;&#1096;&#1080;" TargetMode="External"/><Relationship Id="rId10" Type="http://schemas.openxmlformats.org/officeDocument/2006/relationships/hyperlink" Target="http://ru.wikipedia.org/wiki/&#1063;&#1072;&#1085;_&#1050;&#1072;&#1081;&#1096;&#1080;" TargetMode="External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 Восток в первой половине XX ве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Япо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реди стран Востока проблемы модернизации были решены  к началу XX века только Японией. Этот процесс начался с реставрации Мейдзи, усиления власти феодальных клики осуществления реформ по европейскому тип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File:Satsuma-samurai-during-boshin-war-period.jpg"/>
          <p:cNvPicPr/>
          <p:nvPr/>
        </p:nvPicPr>
        <p:blipFill>
          <a:blip r:embed="rId2"/>
          <a:stretch/>
        </p:blipFill>
        <p:spPr>
          <a:xfrm>
            <a:off x="0" y="2057400"/>
            <a:ext cx="4416480" cy="34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Япо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еформы помог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збежать революции и порабо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кончили с изоляциониз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вели страну на путь капиталистического разви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4648320"/>
            <a:ext cx="853416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Японский дух + европейское зн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= развит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Япо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4343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Япония повторила европейский путь модернизации, связанный с внешней экспансией и милитаризацией. Сначала начала борьбу за колонии на материке и развязала 5 войн за 40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File:RUSSOJAPANESEWARIMAGE.jpg"/>
          <p:cNvPicPr/>
          <p:nvPr/>
        </p:nvPicPr>
        <p:blipFill>
          <a:blip r:embed="rId2"/>
          <a:stretch/>
        </p:blipFill>
        <p:spPr>
          <a:xfrm>
            <a:off x="304920" y="1600200"/>
            <a:ext cx="3886200" cy="50958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28600" y="6324480"/>
            <a:ext cx="3962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усско – Японская вой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Япо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нешняя экспансия, милитаризация подталкивали Японию к тоталитаризму. Он приобрёл своеобразную форму традиционного императорского режима и военно – регулируемого капитализ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File:Kamidaigo05 1024.jpg"/>
          <p:cNvPicPr/>
          <p:nvPr/>
        </p:nvPicPr>
        <p:blipFill>
          <a:blip r:embed="rId2"/>
          <a:stretch/>
        </p:blipFill>
        <p:spPr>
          <a:xfrm>
            <a:off x="307800" y="1981080"/>
            <a:ext cx="4264200" cy="31989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28600" y="5181480"/>
            <a:ext cx="434340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интоистский хр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Япо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воеобразие японской модернизации состояло в том, что они приняли европейский пример развития с сочетанием традиц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File:Skyscrapers Shinjuku 2007 rev.jpg"/>
          <p:cNvPicPr/>
          <p:nvPr/>
        </p:nvPicPr>
        <p:blipFill>
          <a:blip r:embed="rId2"/>
          <a:stretch/>
        </p:blipFill>
        <p:spPr>
          <a:xfrm>
            <a:off x="0" y="1219320"/>
            <a:ext cx="4343400" cy="29415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2209680" y="3429000"/>
            <a:ext cx="26402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сю первую половину XX столетия Китай вёл войны на своей территории. Путь от традиционного Китая до современного реформируемого Китая занял целое столетие. Здесь более жёстко и открыто проявила себя альтернатива: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реформа и револю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34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торическая ступень развития Китая связана с целым рядом исторических личностей: Кан Ювэй, Сунь Ятсон, Цы Си, Юань Шикай, Чан Кайши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File:Kang-youwei2-large.jpg"/>
          <p:cNvPicPr/>
          <p:nvPr/>
        </p:nvPicPr>
        <p:blipFill>
          <a:blip r:embed="rId2"/>
          <a:stretch/>
        </p:blipFill>
        <p:spPr>
          <a:xfrm>
            <a:off x="152280" y="1249200"/>
            <a:ext cx="1494000" cy="2179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File:Xh3.jpg"/>
          <p:cNvPicPr/>
          <p:nvPr/>
        </p:nvPicPr>
        <p:blipFill>
          <a:blip r:embed="rId3"/>
          <a:stretch/>
        </p:blipFill>
        <p:spPr>
          <a:xfrm>
            <a:off x="0" y="4267080"/>
            <a:ext cx="1550880" cy="1971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Цыси"/>
          <p:cNvPicPr/>
          <p:nvPr/>
        </p:nvPicPr>
        <p:blipFill>
          <a:blip r:embed="rId4"/>
          <a:stretch/>
        </p:blipFill>
        <p:spPr>
          <a:xfrm>
            <a:off x="1447920" y="2971800"/>
            <a:ext cx="1566720" cy="2043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Цзян Цзеши"/>
          <p:cNvPicPr/>
          <p:nvPr/>
        </p:nvPicPr>
        <p:blipFill>
          <a:blip r:embed="rId5"/>
          <a:stretch/>
        </p:blipFill>
        <p:spPr>
          <a:xfrm>
            <a:off x="2819520" y="1447920"/>
            <a:ext cx="1549440" cy="2185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Мао Цзэдун"/>
          <p:cNvPicPr/>
          <p:nvPr/>
        </p:nvPicPr>
        <p:blipFill>
          <a:blip r:embed="rId6"/>
          <a:stretch/>
        </p:blipFill>
        <p:spPr>
          <a:xfrm>
            <a:off x="2894040" y="3886200"/>
            <a:ext cx="167796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62520" y="1523520"/>
            <a:ext cx="4952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вые попытки реформ в Китае связаны с именем Кана Ювэя                  (« Сто дней реформ») были пресечены в результате переворота 1898 года. Восстание было жестоко подавле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Kang-youwei2-large.jpg"/>
          <p:cNvPicPr/>
          <p:nvPr/>
        </p:nvPicPr>
        <p:blipFill>
          <a:blip r:embed="rId2"/>
          <a:stretch/>
        </p:blipFill>
        <p:spPr>
          <a:xfrm>
            <a:off x="533520" y="1676520"/>
            <a:ext cx="3290760" cy="48006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33520" y="5943600"/>
            <a:ext cx="34290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н Ювэ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267080" y="1523520"/>
            <a:ext cx="47246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 руководством Сунь Ятсена в 1905 г. объединились несколько буржуазно – демократических и националистических организаций. Их программой стали три принципа:                              «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национализм – народовластие – народное благосостоя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File:Xh3.jpg"/>
          <p:cNvPicPr/>
          <p:nvPr/>
        </p:nvPicPr>
        <p:blipFill>
          <a:blip r:embed="rId2"/>
          <a:stretch/>
        </p:blipFill>
        <p:spPr>
          <a:xfrm>
            <a:off x="85680" y="1447920"/>
            <a:ext cx="4006800" cy="50958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52280" y="6248520"/>
            <a:ext cx="39625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унь Ятс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4343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пытки императрицы Цы СИ провести реформы в 1906- 1908 гг. вновь были прерваны смертью императрийцы и последовавшим захватом власти дворцовой кликой, поместивших на престол императора         Пу 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Цыси"/>
          <p:cNvPicPr/>
          <p:nvPr/>
        </p:nvPicPr>
        <p:blipFill>
          <a:blip r:embed="rId2"/>
          <a:stretch/>
        </p:blipFill>
        <p:spPr>
          <a:xfrm>
            <a:off x="457200" y="1447920"/>
            <a:ext cx="3798720" cy="49528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04920" y="6095880"/>
            <a:ext cx="396216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ператрица Цы 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План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"/>
              </a:rPr>
              <a:t>Традиции и модернизац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"/>
              </a:rPr>
              <a:t>Япо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"/>
              </a:rPr>
              <a:t>Кита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"/>
              </a:rPr>
              <a:t>Инд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267080" y="1600200"/>
            <a:ext cx="4724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уржуазная революция длилась 1 год. Делегаты революции провозгласили образование Китайской республики и избрали президентом Сунь Ятсена. В Пекина вся власть перешла генералу Юань Шикаю, который добился отречения от престола Цинской династии, но установил свою личную диктату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Юань Шикай"/>
          <p:cNvPicPr/>
          <p:nvPr/>
        </p:nvPicPr>
        <p:blipFill>
          <a:blip r:embed="rId2"/>
          <a:stretch/>
        </p:blipFill>
        <p:spPr>
          <a:xfrm>
            <a:off x="457200" y="1623960"/>
            <a:ext cx="3641760" cy="4929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04920" y="6095880"/>
            <a:ext cx="396216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Юань Шик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114440" y="1599840"/>
            <a:ext cx="4800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есной 1925 г. в Китае началась революция. Генерал Чан Кайши руководил правительством. В 1926 – 1928 гг. совершил поход по северным провинциям, завершив объединение, он начал капиталистическую модернизацию по западноевропейской мод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Цзян Цзеши"/>
          <p:cNvPicPr/>
          <p:nvPr/>
        </p:nvPicPr>
        <p:blipFill>
          <a:blip r:embed="rId2"/>
          <a:stretch/>
        </p:blipFill>
        <p:spPr>
          <a:xfrm>
            <a:off x="304920" y="1547640"/>
            <a:ext cx="3601800" cy="5081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04920" y="6095880"/>
            <a:ext cx="396216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ан Кайши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Цзян Цзеш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733560" y="1523520"/>
            <a:ext cx="5257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течение десятилетия до японской агрессии Голимидан провёл в Китае существенные преобразов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ие?  ( стр. 115 – найдите и зачитайте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762120" y="1523880"/>
            <a:ext cx="25984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80060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падение Японии на Китай в 1937 году заставило Чан Кайши и Мао Цзэдуна преодолеть вражду и объединиться против японской агрессии. В итоге были остановлены военные действия, советы преобразованы в административные орга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File:Bundesarchiv Bild 183-U1002-502, Japanisch-Chinesischer Krieg.jpg"/>
          <p:cNvPicPr/>
          <p:nvPr/>
        </p:nvPicPr>
        <p:blipFill>
          <a:blip r:embed="rId2"/>
          <a:stretch/>
        </p:blipFill>
        <p:spPr>
          <a:xfrm>
            <a:off x="152280" y="2133720"/>
            <a:ext cx="4572000" cy="3195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28600" y="5257800"/>
            <a:ext cx="44956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поно – Китайская вой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 1939 – 1945 гг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Инд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266720" y="1523880"/>
            <a:ext cx="48769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сле Первой мировой войны Англия, стремясь удержать контроль над Индией, расширила права органов самоуправления, но ужесточила наказания  за политическую деятельность. Во главе освободительного движения встал М.Ганди, выдвинувший лозунг: «заполоним собой тюрьмы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1904 г. он основал в Южной Африке общину и начал выпускать газету «Индийское мнение»,объединившую  патрио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28600" y="1676520"/>
            <a:ext cx="3948120" cy="48006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28600" y="5943600"/>
            <a:ext cx="40384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хандас Карамчанд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ан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Инд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Гандизм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 социально-политическое и религиозно-философское учение, разработанное Махатмой Ганди, ставшее идеологией индийского национально-освободительного дви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Инд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Основные принципы гандизм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стижение независимости мирными, ненасильственными средствами, путём вовлечения в борьбу широких народных масс (Сатьяграх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деализация старины, апелляция к религиозным чувствам народных мас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орьба с кастовым неравен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тверждение возможности достижения классового мира и разрешения конфликтов между классами путём арбитража, исходя из концепции об опеке крестьян помещиками, а рабочих — капиталис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деализация патриархальных отношений, призывы к возрождению сельской общины, кустарного ремесла в Индии и особенно ручного прядения и т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Инд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657240" y="1523520"/>
            <a:ext cx="5334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1907 г.Ганди выдвинул идею «сатьяграхи» -ненасильственной борьбы.   Он был арестован, но ряд расистских законов англичане отмени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1915 г.Ганди вернулся в Индию. Он заявил, что касты не вытекают из основ религии и призвал индийцев объедини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1919 г.в Индии прошли акции неповиновения. Британия ввела чрезвычайное полож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52280" y="1523880"/>
            <a:ext cx="34401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Индия: кампания ненасильственного сопротив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43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1 эта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19-1922 г. – протест против принятия одного из репрессивных законов. Он призывал закрывать лавки, прекратить всякую трудовую деятельность. Английские власти ответили жестоким насилием. Провести политику бойк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2 эта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928-1933 гг. - уклонение от уплаты налогов в Английскую казну. Индийский национальный конгресс и Мусульманская лига совместно руководили кампанией. В 1947 г. Великобритания приняла решение о предоставлени Индии независим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267080" y="1447560"/>
            <a:ext cx="47246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1927 г.начала работать комиссия по расширению прав комитетов самоуправления, но индийцев в нее не допустили. В ответ началась всеобщая забастовка. Ганди потребовал снижения налога на соль. В 1930 г. Ганди и его сторонники двинулись в глубь страны призывая добывать соль самостоятельно. Индийцы отказались приобретать английские товары и экономика страны была парализов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52280" y="2033640"/>
            <a:ext cx="4038840" cy="2790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68" name=""/>
          <p:cNvSpPr/>
          <p:nvPr/>
        </p:nvSpPr>
        <p:spPr>
          <a:xfrm>
            <a:off x="152280" y="4800600"/>
            <a:ext cx="4114800" cy="82548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5400000"/>
          </a:gra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Соляной поход» 12 марта – 5 апреля 1930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"/>
              </a:rPr>
              <a:t>Традиции и модерниз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 странам Азии и Африки в начале XX века обычно относили понятие                  « Восток» ( отсталый Восток»,                       « передовой Запад») В начале века обнажился большой разрыв между динамичным научно – техническим и социальным развитие стран Запада и застойным состоянием азиатских и африканских стр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Подведём итог уро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ы на стр. 1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Параграф 12, записи, вопро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ru.wikipedia.org/wiki/%D0%94%D0%B2%D0%B8%D0%B6%D0%B5%D0%BD%D0%B8%D0%B5_%D0%BD%D0%B5%D1%81%D0%BE%D1%82%D1%80%D1%83%D0%B4%D0%BD%D0%B8%D1%87%D0%B5%D1%81%D1%82%D0%B2%D0%B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ru.wikipedia.org/wiki/%D0%93%D0%B0%D0%BD%D0%B4%D0%B8,_%D0%9C%D0%BE%D1%85%D0%B0%D0%BD%D0%B4%D0%B0%D1%81_%D0%9A%D0%B0%D1%80%D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%D0%BC%D1%87%D0%B0%D0%BD%D0%B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:/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ru.wikipedia.org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iki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/%D0%A7%D0%B0%D0%BD_%D0%9A%D0%B0%D0%B9%D1%88%D0%B8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447920" y="5029200"/>
            <a:ext cx="754380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читель истории МОУ Будинской ОО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вер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"/>
              </a:rPr>
              <a:t>Традиции и модерниз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1600200"/>
            <a:ext cx="6858000" cy="990720"/>
          </a:xfrm>
          <a:prstGeom prst="rect">
            <a:avLst/>
          </a:prstGeom>
          <a:solidFill>
            <a:srgbClr val="00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ем можно объясн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сталость и застойность Восто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2590920"/>
            <a:ext cx="547920" cy="685800"/>
          </a:xfrm>
          <a:prstGeom prst="downArrow">
            <a:avLst>
              <a:gd name="adj1" fmla="val 50000"/>
              <a:gd name="adj2" fmla="val 3129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3276720"/>
            <a:ext cx="769644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противление традиционных общест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нешним влиян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23960" y="4495680"/>
            <a:ext cx="769608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литика колониальных держ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"/>
              </a:rPr>
              <a:t>Традиции и модерниз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лько кемалистская революция в Турции 1918-1923 гг. способствовала тому, что Турция стала светским государством, избавилась от халифата и шариата, стала на путь капиталистического разви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File:Turkish War of Independence5part.jpg"/>
          <p:cNvPicPr/>
          <p:nvPr/>
        </p:nvPicPr>
        <p:blipFill>
          <a:blip r:embed="rId2"/>
          <a:stretch/>
        </p:blipFill>
        <p:spPr>
          <a:xfrm>
            <a:off x="0" y="175248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"/>
              </a:rPr>
              <a:t>Традиции и модерниз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6104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Китае Синьхайская революция 1911-1912 гг. решила только одну важную задачу – свержение манчьжурской  династии, но не решила проблему объединения Кита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File:Xinhai Revolution in Shanghai.jpg"/>
          <p:cNvPicPr/>
          <p:nvPr/>
        </p:nvPicPr>
        <p:blipFill>
          <a:blip r:embed="rId2"/>
          <a:stretch/>
        </p:blipFill>
        <p:spPr>
          <a:xfrm>
            <a:off x="1219320" y="1295280"/>
            <a:ext cx="60865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"/>
              </a:rPr>
              <a:t>Традиции и модерниз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1920-1930 гг. Япония, Китай и Индия шли разными путями развития, решали разные задачи, но у них была одна общая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задач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рваться из зависимост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стал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ть на ускоренный путь разви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"/>
              </a:rPr>
              <a:t>Традиции и модерниз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Модернизаци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это процесс распространения тех типов социальной, экономической и политической системы, которые развивались в Западной Европе и Северной Америке с XVII по XX век, а затем распространились на другие европейские стра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"/>
              </a:rPr>
              <a:t>Традиции и модерниз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1600200"/>
            <a:ext cx="754380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редства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тоды осуществления модерн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29400" y="2743200"/>
            <a:ext cx="914400" cy="838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33720" y="2743200"/>
            <a:ext cx="914400" cy="838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3581280"/>
            <a:ext cx="3352680" cy="121932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фор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410080" y="3657600"/>
            <a:ext cx="3353040" cy="121932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волю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ма</cp:lastModifiedBy>
  <dcterms:modified xsi:type="dcterms:W3CDTF">2012-09-25T06:50:3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