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D460-662B-4DC7-8C6D-7A0322B5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C36B-C39C-4519-BB84-91B7FEE9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39F2-9DAC-47A4-A9DE-ACA26CD2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C50-6BB9-4B1E-BDE6-13C5B892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6D0-6991-418C-875A-1AD986F2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C202-3F62-42CC-A932-FA6E72B1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BE96-616D-4C18-BB5D-5DB61800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2527-57A0-421A-99CB-D31A16D7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F7E-115A-445E-B3DF-A07A76F0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B7FD-3BC1-4FA9-AB2B-7CFB8110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A681-0D0E-41B7-9D3F-665B45D3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920A-0897-40C2-A30C-043066B2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5A00-6141-4F44-9D1D-89E89E04A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291280" y="469800"/>
            <a:ext cx="4346280" cy="22798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694480" y="2646360"/>
            <a:ext cx="3290760" cy="300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5000400" cy="6086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56760"/>
            <a:ext cx="45007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евание арабами византийских областей и Ирана сопровождалось перераспределением земельного фонда. К завоевателям перешл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ранских царей, и земли убитых в сражениях иранских дехканов. Но некоторые подчинившиеся арабам иранские и византийские землевладельцы сохранили свои вла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2624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8320" cy="6491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027880" y="5929200"/>
            <a:ext cx="56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звращение с работы дехкан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мейство Али — зятя Мухаммеда — получило поместья  царей в Ираке. Сыновья халифов Абу Бакра и Омара стали тоже крупнейшими землевладельцами в Ираке, а мекканские Омейяды получили огромные владения в Сир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04840" y="642960"/>
            <a:ext cx="4233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2920" y="642960"/>
            <a:ext cx="40384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а присвоенных землях арабские землевладельцы сохранили уже существовавшую до прихода арабов систему феодальной эксплуатации местных крестьян. Но многие «сподвижники пророка», став землевладельцами, эксплуатировали и в земледелии и в ремесле тысячи захваченных во время войн пленников-раб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071960" y="1500120"/>
            <a:ext cx="4827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00040"/>
            <a:ext cx="4114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Сподвижнику пророка»   ибн Ауфу принадлежало 30 тыс. рабов;   ибн Абу Суфьян, впоследствии халиф, на своих полях и в садах в одном только Хиджазе эксплуатировал 4 тыс. рабов; наместник Басры Мугира ибн Шуба требовал от своих рабов-ремесленников, поселённых в Медине и в других местах, по 2 дирхема ежеднев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4005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429080" y="428760"/>
            <a:ext cx="4500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 из рабов Мугиры, перс-христианин Абу Лулуа, по ремеслу плотник и каменотёс, принёс однажды халифу Омару жалобу на своего господина и на его непосильные требования. Омар ничем не помог Абу Лулуа и тот, доведённый до отчаяния, на другой день убил халифа в мечети кинжал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 644г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4253040" cy="5823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71680" y="62866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Халиф 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28800" y="2000160"/>
            <a:ext cx="7278480" cy="4541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142920" y="14292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 начала VIII в. завоеватели сохраняли в захваченных областях местные порядки и прежних византийских и иранских чиновников. Поэтому первоначально всё делопроизводство велось в Сирии и Палестине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на греческом язык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в Египте — на греческом и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копт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а в Иране и Ираке — на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среднеперсид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5962680" cy="486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-360" y="214200"/>
            <a:ext cx="82580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лам распространялся постепенно. Новообращённым  халифы предоставляли различные льготы, но до середины IX в. в Халифате сохранялась широкая веротерпимость по отношению к христианам, иудеям и зороастрийц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5857920" y="2357280"/>
            <a:ext cx="292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ля ислама этого периода особенно характерной являлась обращённая к народным массам проповедь смирения, терпения и довольства своим жреб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я со второй половины IX в. «правоверный» ислам становился всё более нетерпимым по отношению к христианам и иуде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. стр.7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бзац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357800" y="154080"/>
            <a:ext cx="435744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786040"/>
            <a:ext cx="27860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Распад Халифа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285840"/>
            <a:ext cx="8786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ремление крупных феодалов к политической самостоятельности привело к образованию местных наследственных эмиратов, превращавшихся постепенно в самостоятельные госуда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86040" y="2357280"/>
            <a:ext cx="63579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39640" y="449280"/>
            <a:ext cx="4248360" cy="6027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64000" y="1599840"/>
            <a:ext cx="3322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нова Валентина Михайловна, учитель истории ЦО №775 г.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5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866448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очтите пункт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«Распад Арабского халифата»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 выпишите причины распа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4920" y="620640"/>
            <a:ext cx="8302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gumer.info/bibliotek_Buks/History/enc_detvs/14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lackwarlock.com/t2971-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alitva.ru/2010/01/page/7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tito0107.livejournal.com/64236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500040"/>
            <a:ext cx="40384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смерти Мухаммеда в Медине (летом 632 г.) халифом («заместителем» пророка), в результате долгих споров между мухаджирами и ансарами, был избран Абу Бакр, купец, старый друг, тесть и сподвижник Мухамм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143240" y="357120"/>
            <a:ext cx="457200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105520" y="1000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алифская власть досталась Абу Бакру (632—634) в то время, когда объединение Аравии ещё не было закончено. Сразу же после смерти Мухаммеда восстали многие арабские племена. Абу Бакр жестоко подавил все эти восст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2360" y="103320"/>
            <a:ext cx="4676760" cy="556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85840" y="610236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амме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ещают беду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ле его смерти халифом стал другой сподвижник Мухаммеда — Омар (634—64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000680" y="444600"/>
            <a:ext cx="478620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Уже при первом халифе началось завоевательное движение араб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2920" y="1928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лительная война между двумя великими державами того времени —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Византией и Ира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продолжавшаяся с 602 по 628 г., истощила их силы, что способствовало успеху араб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0040" y="1352520"/>
            <a:ext cx="37861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4200" y="285480"/>
            <a:ext cx="3786480" cy="61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К 640 г. арабы завоевали почти всю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Палестину и Сири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Много мирных жителей было захвачено в рабство. Но многие города  сдались завоевателям лишь на основании договоров, которые гарантировали христианам и иудеям свободу культа и личную свободу под условием признания власти арабо-мусульманского государства и уплаты пода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000680" y="287280"/>
            <a:ext cx="471456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33200" y="130320"/>
            <a:ext cx="5077080" cy="651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57520" y="49968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онцу 642 г. Арабы завоевал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Егип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заняв важнейший портовый город Александрию, в 637 г. взяли и разрушили столицу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р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— Ктесифон, а к 651 г. завершили завоевание Ирана, несмотря на упорное сопротивление его нас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3760" y="6445080"/>
            <a:ext cx="91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б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оева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тупают во дворец персидских шахиншахов в Ктесиф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-282600" y="0"/>
            <a:ext cx="942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30T10:18:53Z</dcterms:modified>
  <cp:revision>13</cp:revision>
  <dc:subject/>
  <dc:title>Слайд 1</dc:title>
</cp:coreProperties>
</file>