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6735-FBF7-45FC-9B56-5390773E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C4B7-508D-4974-BAD5-91E43093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692E-89AE-49A8-A698-040D3FE7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6803-2C61-4E1F-9B4E-36399F16F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EF9C-3605-49BD-89B5-AB3C8ED12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27D0-4E04-42B7-A1DF-9F3F6456A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757-8813-441C-B50A-56A52D41D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9737-001A-431E-A53F-91BA9F736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C28-64AD-40DF-8265-854F2984C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A42E-D324-4ED5-BA53-488B36C89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64D2-5971-4AB6-BC43-DEB6A74AD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7B71-715B-4EA4-9A34-F37C041D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59E6-A28B-4D84-A5F9-F314785AFC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Прямоугольник 3" descr=""/>
          <p:cNvPicPr/>
          <p:nvPr/>
        </p:nvPicPr>
        <p:blipFill>
          <a:blip r:embed="rId1"/>
          <a:stretch/>
        </p:blipFill>
        <p:spPr>
          <a:xfrm>
            <a:off x="5291280" y="469800"/>
            <a:ext cx="4346280" cy="227988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4" descr=""/>
          <p:cNvPicPr/>
          <p:nvPr/>
        </p:nvPicPr>
        <p:blipFill>
          <a:blip r:embed="rId2"/>
          <a:stretch/>
        </p:blipFill>
        <p:spPr>
          <a:xfrm>
            <a:off x="5694480" y="2646360"/>
            <a:ext cx="3290760" cy="3005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" descr=""/>
          <p:cNvPicPr/>
          <p:nvPr/>
        </p:nvPicPr>
        <p:blipFill>
          <a:blip r:embed="rId3"/>
          <a:stretch/>
        </p:blipFill>
        <p:spPr>
          <a:xfrm>
            <a:off x="285840" y="357120"/>
            <a:ext cx="5000400" cy="60865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0" y="356760"/>
            <a:ext cx="4500720" cy="57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Завоевание арабами византийских областей и Ирана сопровождалось перераспределением земельного фонда. К завоевателям перешли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емли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ранских царей, и земли убитых в сражениях иранских дехканов. Но некоторые подчинившиеся арабам иранские и византийские землевладельцы сохранили свои влад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4572000" y="0"/>
            <a:ext cx="4262400" cy="657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8320" cy="649116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2"/>
          <p:cNvSpPr/>
          <p:nvPr/>
        </p:nvSpPr>
        <p:spPr>
          <a:xfrm>
            <a:off x="2027880" y="5929200"/>
            <a:ext cx="565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Возвращение с работы дехкани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емейство Али — зятя Мухаммеда — получило поместья  царей в Ираке. Сыновья халифов Абу Бакра и Омара стали тоже крупнейшими землевладельцами в Ираке, а мекканские Омейяды получили огромные владения в Сири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204840" y="642960"/>
            <a:ext cx="42339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42920" y="642960"/>
            <a:ext cx="403848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На присвоенных землях арабские землевладельцы сохранили уже существовавшую до прихода арабов систему феодальной эксплуатации местных крестьян. Но многие «сподвижники пророка», став землевладельцами, эксплуатировали и в земледелии и в ремесле тысячи захваченных во время войн пленников-раб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071960" y="1500120"/>
            <a:ext cx="482760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500040"/>
            <a:ext cx="411480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«Сподвижнику пророка»   ибн Ауфу принадлежало 30 тыс. рабов;   ибн Абу Суфьян, впоследствии халиф, на своих полях и в садах в одном только Хиджазе эксплуатировал 4 тыс. рабов; наместник Басры Мугира ибн Шуба требовал от своих рабов-ремесленников, поселённых в Медине и в других местах, по 2 дирхема ежедневно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5000760" y="500040"/>
            <a:ext cx="400500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429080" y="428760"/>
            <a:ext cx="450072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дин из рабов Мугиры, перс-христианин Абу Лулуа, по ремеслу плотник и каменотёс, принёс однажды халифу Омару жалобу на своего господина и на его непосильные требования. Омар ничем не помог Абу Лулуа и тот, доведённый до отчаяния, на другой день убил халифа в мечети кинжалом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(в 644г.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76040" y="231840"/>
            <a:ext cx="4253040" cy="5823000"/>
          </a:xfrm>
          <a:prstGeom prst="rect">
            <a:avLst/>
          </a:prstGeom>
          <a:ln w="0">
            <a:noFill/>
          </a:ln>
        </p:spPr>
      </p:pic>
      <p:sp>
        <p:nvSpPr>
          <p:cNvPr id="75" name="TextBox 5"/>
          <p:cNvSpPr/>
          <p:nvPr/>
        </p:nvSpPr>
        <p:spPr>
          <a:xfrm>
            <a:off x="571680" y="62866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Халиф Ом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20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28800" y="2000160"/>
            <a:ext cx="7278480" cy="4541760"/>
          </a:xfrm>
          <a:prstGeom prst="rect">
            <a:avLst/>
          </a:prstGeom>
          <a:ln w="0">
            <a:noFill/>
          </a:ln>
        </p:spPr>
      </p:pic>
      <p:sp>
        <p:nvSpPr>
          <p:cNvPr id="77" name="Прямоугольник 2"/>
          <p:cNvSpPr/>
          <p:nvPr/>
        </p:nvSpPr>
        <p:spPr>
          <a:xfrm>
            <a:off x="142920" y="142920"/>
            <a:ext cx="8715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о начала VIII в. завоеватели сохраняли в захваченных областях местные порядки и прежних византийских и иранских чиновников. Поэтому первоначально всё делопроизводство велось в Сирии и Палестине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на греческом языке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в Египте — на греческом и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копт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, а в Иране и Ираке — на </a:t>
            </a:r>
            <a:r>
              <a:rPr b="1" lang="en-US" sz="2400" spc="-1" strike="noStrike">
                <a:solidFill>
                  <a:srgbClr val="c00000"/>
                </a:solidFill>
                <a:latin typeface="Calibri"/>
              </a:rPr>
              <a:t>среднеперсидском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0" y="1995480"/>
            <a:ext cx="5962680" cy="4862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-360" y="214200"/>
            <a:ext cx="8258040" cy="21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слам распространялся постепенно. Новообращённым  халифы предоставляли различные льготы, но до середины IX в. в Халифате сохранялась широкая веротерпимость по отношению к христианам, иудеям и зороастрийцам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0"/>
          <p:cNvSpPr/>
          <p:nvPr/>
        </p:nvSpPr>
        <p:spPr>
          <a:xfrm>
            <a:off x="5857920" y="2357280"/>
            <a:ext cx="29289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Для ислама этого периода особенно характерной являлась обращённая к народным массам проповедь смирения, терпения и довольства своим жреб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чиная со второй половины IX в. «правоверный» ислам становился всё более нетерпимым по отношению к христианам и иудеям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м. стр.73,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абзац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4357800" y="154080"/>
            <a:ext cx="4357440" cy="670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2786040"/>
            <a:ext cx="2786040" cy="29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libri"/>
              </a:rPr>
              <a:t>Распад Халифата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120" y="285840"/>
            <a:ext cx="878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Стремление крупных феодалов к политической самостоятельности привело к образованию местных наследственных эмиратов, превращавшихся постепенно в самостоятельные государств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2786040" y="2357280"/>
            <a:ext cx="6357960" cy="43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39640" y="449280"/>
            <a:ext cx="4248360" cy="6027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19280" y="274320"/>
            <a:ext cx="5267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Авто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5364000" y="1599840"/>
            <a:ext cx="332280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основа Валентина Михайловна, учитель истории ЦО №775 г.Москв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05508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8664480" cy="42861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Прочтите пункт </a:t>
            </a:r>
            <a:br>
              <a:rPr sz="4000"/>
            </a:br>
            <a:r>
              <a:rPr b="1" lang="en-US" sz="4000" spc="-1" strike="noStrike">
                <a:solidFill>
                  <a:srgbClr val="c00000"/>
                </a:solidFill>
                <a:latin typeface="Calibri"/>
              </a:rPr>
              <a:t>«Распад Арабского халифата»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и выпишите причины распад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394920" y="620640"/>
            <a:ext cx="83026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gumer.info/bibliotek_Buks/History/enc_detvs/14.ph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blackwarlock.com/t2971-top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kalitva.ru/2010/01/page/7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tito0107.livejournal.com/64236.htm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meleey.ucoz.ru/news/arabskij_khalifat/2012-08-18-14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500040"/>
            <a:ext cx="403848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смерти Мухаммеда в Медине (летом 632 г.) халифом («заместителем» пророка), в результате долгих споров между мухаджирами и ансарами, был избран Абу Бакр, купец, старый друг, тесть и сподвижник Мухамме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4143240" y="357120"/>
            <a:ext cx="4572000" cy="61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5105520" y="1000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Халифская власть досталась Абу Бакру (632—634) в то время, когда объединение Аравии ещё не было закончено. Сразу же после смерти Мухаммеда восстали многие арабские племена. Абу Бакр жестоко подавил все эти восстания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2360" y="103320"/>
            <a:ext cx="4676760" cy="5568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285840" y="6102360"/>
            <a:ext cx="514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хаммед и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б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ак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сещают бедуин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4288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После его смерти халифом стал другой сподвижник Мухаммеда — Омар (634—644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4000680" y="444600"/>
            <a:ext cx="4786200" cy="61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Уже при первом халифе началось завоевательное движение араб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42920" y="192888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лительная война между двумя великими державами того времени — </a:t>
            </a: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Византией и Ираном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, продолжавшаяся с 602 по 628 г., истощила их силы, что способствовало успеху арабо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00040" y="1352520"/>
            <a:ext cx="378612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214200" y="285480"/>
            <a:ext cx="3786480" cy="61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 640 г. арабы завоевали почти всю </a:t>
            </a:r>
            <a:r>
              <a:rPr b="1" lang="en-US" sz="2600" spc="-1" strike="noStrike">
                <a:solidFill>
                  <a:srgbClr val="c00000"/>
                </a:solidFill>
                <a:latin typeface="Calibri"/>
              </a:rPr>
              <a:t>Палестину и Сирию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. Много мирных жителей было захвачено в рабство. Но многие города  сдались завоевателям лишь на основании договоров, которые гарантировали христианам и иудеям свободу культа и личную свободу под условием признания власти арабо-мусульманского государства и уплаты податей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4000680" y="287280"/>
            <a:ext cx="4714560" cy="632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33200" y="130320"/>
            <a:ext cx="5077080" cy="65134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5357520" y="499680"/>
            <a:ext cx="37861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 концу 642 г. Арабы завоевали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Египе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, заняв важнейший портовый город Александрию, в 637 г. взяли и разрушили столицу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Ира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 — Ктесифон, а к 651 г. завершили завоевание Ирана, несмотря на упорное сопротивление его населения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-23760" y="6445080"/>
            <a:ext cx="919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рабски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воевател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тупают во дворец персидских шахиншахов в Ктесифон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-282600" y="0"/>
            <a:ext cx="9426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Мама</cp:lastModifiedBy>
  <dcterms:modified xsi:type="dcterms:W3CDTF">2012-09-30T10:18:53Z</dcterms:modified>
  <cp:revision>13</cp:revision>
  <dc:subject/>
  <dc:title>Слайд 1</dc:title>
</cp:coreProperties>
</file>