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E5D-824E-4629-8C0D-64DCE8A4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060-AABB-4F6D-8A8D-CB5A63FE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CA1-68B6-4AD6-9FD6-48F66835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9AA-6816-4D3C-93C7-34CFC13B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EA5F-6B67-4F6F-8AB5-AD2EC6E9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5119-7BFF-4764-9DCF-D6748AC7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3184-5081-473C-8465-61C34F28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19EA-A170-4329-99E6-12B0919B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5C07-78F3-4656-B084-AA1FF361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33C4-BE73-4A6B-A12D-48ECB26E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8EF6-B2E1-43A4-9681-1963AF58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4D2-7784-4A74-9D47-1217EDFB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7805-45F0-4099-8D67-F5F58F58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7EFA-2612-428B-813C-D23D8648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2F68-8467-4B1C-95FC-D32F0D56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5B8C-C2F3-4464-9222-5661A406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F814-823A-45A7-885A-3D09D98F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B7DE8-4487-4648-8715-763AB47F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54E54-78D2-4ACA-91E2-87B39C78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B75CE-04EE-426E-A31F-73341C2D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ECC42-42D7-4C8E-AD8A-A9BCFCD2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AB070-F8AD-4F74-B06A-3FC8C5B1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97B-B582-4F3B-90BF-F14A390A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F3B32-31E2-4EA8-AB67-66A45645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00D4D-9F82-44D8-B6D9-0E9207A0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09E8F-E554-4D15-9BD6-C58C1207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E76FD-995C-44C1-9165-525B18CB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266EE-22F3-4DA4-B304-E9A57074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4A96A-1954-449A-B492-A9113A0C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5B9B5-8F39-4E38-8783-0277932B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39FF-CAAA-42E9-8F8D-161CC8F5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752C-1876-413E-9485-78D0DB3F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27E85-11D9-434C-A260-AB60C173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922-AF12-4140-B540-5C23472C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16FB-22ED-41DC-986F-91CE918E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0370-5004-496E-8DAC-96522FDA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4FBA-95DC-424F-B56C-FCF0A2A2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4811-A785-4C43-A503-003CC0B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4D09-5266-4331-A553-7D767DA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36993-E270-46ED-8B07-F08654EF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2F9F4-B931-45C9-91E1-1161922B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68103-78DA-49F0-A6D5-85681198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5AE31-C603-4147-9643-6E430239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F3BDB-DBE1-4B64-BD01-5A56E217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9CA-08C4-4FAD-9AB7-D01FA347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24EAF-B8C7-4546-9263-6AC1917F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CFF05-7CA3-41D8-BB0E-E4A9736F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EB649-EE75-4F9D-B128-521BE5B9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BB6D4-1B36-4DF2-84DE-91EC482E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197AE-D027-4664-B3E0-DC82A59C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CBB08-25A5-49F9-AB2A-18FD4444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3C34F-59EC-4BE3-8604-554F8DE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BB741-5BB2-4800-BDFC-6CBAA1CE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FB3CC-A34D-40DA-9FA7-40BA7477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3217E-F8C6-42AA-9F07-2C5F5654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B0D-CEFB-4193-9914-D7098AF7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8C8DB-6142-4457-B3CA-42F39D3E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9B48F-5025-4DC4-8D75-FD10825B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00645-3883-4FD1-A348-A614A108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E6441-47C7-4810-9EB9-C7B6BFF9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C8E50-84BD-4A8E-8035-8F43E822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83758-9224-4719-8CE9-88054C2C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1BBDE-DC85-4DB6-8422-A86E48BB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0201C-D6D0-4497-8DB1-FAE45E8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7CCA36-E4E3-4915-B42E-E9FBAC34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0DF09-3826-4BCB-B217-488F3C2F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25E-6AC2-4ED9-95B1-F19E4121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7FC9A-8940-47F6-85EA-58243D91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79DD3-E1EA-4C22-A178-0ED3D6B4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E63E3-37E1-4139-ADEF-03465DAF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56CBC-2888-4D44-954A-FD6C8BC6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18B65-ADA9-4283-AE13-B6B23A85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CD58E-ECC2-4ABE-9090-5955CC79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66E3A-4F10-4086-87D2-4227E5EF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49EC84-1D50-49A2-82DB-53103106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2D960-12F5-497E-9CAC-BAD96145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7B064-6600-4E78-8A43-A7D3B86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F2E-20C2-42AB-9938-36B10B01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3E138-10DF-47B7-A3B5-3BB62CBF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33A32-27F5-4B53-8711-1E37854F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22555-005F-4A12-AAB7-2A00F54A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7DAFD-4205-465D-A05B-AAD154C7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7202C-3A6C-4D7A-943E-6A133309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B84-843E-4403-8CB3-84C97D95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E627-5AAC-4457-97DD-4CB1C39AE9F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5C6A-2796-4D07-8870-E155FA478A2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A0AD-18D5-44A8-AF40-60E825E8EA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8A59-AEF2-4B88-9A85-E824471C080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DFE6-459D-45D2-9FEA-58857255598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8998-2E8B-4C60-82C7-A5AF36A6D83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D804-66E4-4724-A11A-AF8BF2500ED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6;&#1074;&#1089;&#1082;&#1080;&#1081;,_&#1048;&#1074;&#1072;&#1085;_&#1055;&#1072;&#1074;&#1083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2" descr="russian_revolution_soldiers.jpg"/>
          <p:cNvPicPr/>
          <p:nvPr/>
        </p:nvPicPr>
        <p:blipFill>
          <a:blip r:embed="rId1"/>
          <a:stretch/>
        </p:blipFill>
        <p:spPr>
          <a:xfrm>
            <a:off x="2057400" y="1447920"/>
            <a:ext cx="6872400" cy="3930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609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754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БОЛЬШЕВ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тика – давление на правительство; высоко ценили сделанные уже шаги по демократизации общества; в курсе на социалистическую революцию видели опасность забегания вперё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рс на револю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6 июля – 3 августа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съезд  РСДРП(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Авторитет Ленина взял верх. Съезд призвал всех большевиков строиться в боевые колон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5440" y="1038600"/>
            <a:ext cx="3561120" cy="89388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Умеренное крыл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Каменев, Зиновьев, Калини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402440" y="973440"/>
            <a:ext cx="4300920" cy="110052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Сторонники восст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Ленин, Сталин, Бухарин, Свердлов, Троцк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ГРАММА Л.Г.КОРНИЛ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кращение вмешательства государства  в экономические и социальн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билизация 4 млн. солдат с выделением каждому по 8 десятин земли для создания верной опоры правительству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ление в России новой формы правления путём создания Совета народной обороны и коалиционного правительства при 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572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лов должен был казнён; но когда это случится, приду на могилу, принесу цветы и преклоню колена перед русским патриото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Ке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45720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Генерал Роман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генералов, арестованных вместе с генералом Корниловым — говорил впоследствии: «Могут расстрелять Корнилова, отправить на каторгу его соучастников, но „корниловщина“ в России не погибнет, так как „корниловщина“ — это любовь к Родине, желание спасти Россию, а эти высокие побуждения не забросать никакой грязью, не втоптать никаким ненавистникам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80988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Корниловым можно и нужно не соглашаться. Но то, что этот белый генерал был порядочным человеком, хорошим разведчиком и несомненным героем, забывать нельзя» (И. В. Ста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5486400" y="0"/>
            <a:ext cx="3276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КРИЗИС ВЛАСТ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ентября ВЦИК провозгласил Россию республ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сентября – исп.власть вручена Директории (6 человек во главе с Керенск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октября – Предпарламент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мократический Совет  республики – законосовещательный орга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мия перестала служить опорой государственной власти (дезертирство, братани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сло  бастующих рабочих выросло в 7-8 раз по ср. с вес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стьянские выступления: май – 3 тыс., октябрь – более 5 ты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Н.А.БЕРДЯЕ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ое либеральное правительство, которое пришло на смену после февральского переворота, провозгласило отвлечённые гуманные принципы, отвлечённые начала права, в которых не было никакой организующей силы, не было энергии заражающей массы… В революционную эпоху побеждают люди крайних принципов, склонные и способные к диктатуре,….которая только могла остановить процесс окончательного раз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ЛЕНИН В ПОДПОЛЬ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Рисунок 2" descr="lenin_photo2.jpg"/>
          <p:cNvPicPr/>
          <p:nvPr/>
        </p:nvPicPr>
        <p:blipFill>
          <a:blip r:embed="rId1"/>
          <a:stretch/>
        </p:blipFill>
        <p:spPr>
          <a:xfrm>
            <a:off x="3381480" y="2152800"/>
            <a:ext cx="332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Я СЪЕЗД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мир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ыход России из войны, обращение ко всем воюющим народам о мире без аннексий и контрибу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земл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национализация всей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в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3" descr="izvestia_russian_revolution_newspaper.jpg"/>
          <p:cNvPicPr/>
          <p:nvPr/>
        </p:nvPicPr>
        <p:blipFill>
          <a:blip r:embed="rId1"/>
          <a:stretch/>
        </p:blipFill>
        <p:spPr>
          <a:xfrm>
            <a:off x="6400800" y="3289320"/>
            <a:ext cx="2438280" cy="35593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" descr="revolution-newspaper.jpg"/>
          <p:cNvPicPr/>
          <p:nvPr/>
        </p:nvPicPr>
        <p:blipFill>
          <a:blip r:embed="rId2"/>
          <a:stretch/>
        </p:blipFill>
        <p:spPr>
          <a:xfrm>
            <a:off x="3646440" y="335268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ЛА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Ц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Л.Б.Каменев, Я.М.Свердл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2 чел.: 62 большевика, 29 эсеров, 6 соц.-д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т Народных Комиссаров (СН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И.Ле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 – до Учр.собр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Законода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РЕАЛЬН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ми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69960" y="1600200"/>
            <a:ext cx="426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жданская вой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д начала 20-х гг., людо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ктатура пар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трелка вправо с вырезом 4"/>
          <p:cNvSpPr/>
          <p:nvPr/>
        </p:nvSpPr>
        <p:spPr>
          <a:xfrm>
            <a:off x="3352680" y="1752480"/>
            <a:ext cx="838440" cy="304920"/>
          </a:xfrm>
          <a:custGeom>
            <a:avLst/>
            <a:gdLst>
              <a:gd name="textAreaLeft" fmla="*/ 75960 w 838440"/>
              <a:gd name="textAreaRight" fmla="*/ 7624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с вырезом 5"/>
          <p:cNvSpPr/>
          <p:nvPr/>
        </p:nvSpPr>
        <p:spPr>
          <a:xfrm>
            <a:off x="3200400" y="2666880"/>
            <a:ext cx="990720" cy="228600"/>
          </a:xfrm>
          <a:custGeom>
            <a:avLst/>
            <a:gdLst>
              <a:gd name="textAreaLeft" fmla="*/ 56880 w 990720"/>
              <a:gd name="textAreaRight" fmla="*/ 93384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08" y="5400"/>
                </a:ln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19108" y="16200"/>
                </a:lnTo>
                <a:lnTo>
                  <a:pt x="0" y="16200"/>
                </a:lnTo>
                <a:lnTo>
                  <a:pt x="12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право с вырезом 6"/>
          <p:cNvSpPr/>
          <p:nvPr/>
        </p:nvSpPr>
        <p:spPr>
          <a:xfrm>
            <a:off x="3352680" y="3505320"/>
            <a:ext cx="914400" cy="228600"/>
          </a:xfrm>
          <a:custGeom>
            <a:avLst/>
            <a:gdLst>
              <a:gd name="textAreaLeft" fmla="*/ 56880 w 914400"/>
              <a:gd name="textAreaRight" fmla="*/ 85752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ОЦЕНКА 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II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СЪЕЗДА ИСПАНСКИМ ФИЛОСОФ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МУГУЭЛЬ ДЕ УКАУМ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209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блик правды грозен, народ нуждался в мифах. Большевики дали народу иллюзию мира, земли, хлеб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ытки спасти монарх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дверии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акция цар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71480" y="2362320"/>
            <a:ext cx="416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событ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8-27 февраля, действия царя, тактика думц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оги февральской революции, ликвидация монархии 2 марта 1917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двоевл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ит.партии от февраля к октябр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изисы Временного прави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 3-27 ию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СЪЕЗД СОВЕТОВ – 10 ЯНВАРЯ 1918 Г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ятие декларации прав трудящегося и эксплуатируемого на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сия        РСФС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ысл термина «Советская власть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.власть – Съезд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.власть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родных комисс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Стрелка вправо с вырезом 4"/>
          <p:cNvSpPr/>
          <p:nvPr/>
        </p:nvSpPr>
        <p:spPr>
          <a:xfrm>
            <a:off x="1828800" y="3276720"/>
            <a:ext cx="533520" cy="198360"/>
          </a:xfrm>
          <a:custGeom>
            <a:avLst/>
            <a:gdLst>
              <a:gd name="textAreaLeft" fmla="*/ 49320 w 533520"/>
              <a:gd name="textAreaRight" fmla="*/ 484200 w 533520"/>
              <a:gd name="textAreaTop" fmla="*/ 49680 h 198360"/>
              <a:gd name="textAreaBottom" fmla="*/ 149040 h 19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2" y="5400"/>
                </a:ln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17582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§15, вопрос 1 – пись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5 выписать первые мероприятия Советской в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ос среди родственников(письм.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акие имена участников событий помня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кую оценку дадут событиям октябр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17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fotki.yandex.ru/users/ben-de/view/439871/?page=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bse/82800/%D0%94%D0%B2%D0%BE%D0%B5%D0%B2%D0%BB%D0%B0%D1%81%D1%82%D0%B8%D0%B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oldhat.ru/20vek/101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law.edu.ru/article/article.asp?articleID=11282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sie/10830/%D0%9C%D0%95%D0%9D%D0%AC%D0%A8%D0%95%D0%92%D0%98%D0%97%D0%9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%C1%F0%F3%F1%E8%EB%EE%E2,_%C0%EB%E5%EA%F1%E5%E9_%C0%EB%E5%EA%F1%E5%E5%E2%E8%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ВОЕВЛАСТИЕ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С 27 ФЕВРАЛЯ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1920" y="21333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ременное» – до созыва Учр.собрания (сент., но отлож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бурж.,интел.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помещ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должение войны до победы, отказ ввести 8-ч.раб.день; обещание широких демокр.  свобод, Закон об охране посев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.Г.Е.Львов, А.Ф.Кере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 рабочие, часть интел., крестья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: 8-ч.раб. дня, введения раб. контроля, земля-крестьянам, фабрики-рабоч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каз №1 – полит. права солдат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.С.Чхеидзе, М.И.Скобеле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3000" y="126144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34200" y="1257840"/>
            <a:ext cx="35805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троградский со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Приказ.jpg"/>
          <p:cNvPicPr/>
          <p:nvPr/>
        </p:nvPicPr>
        <p:blipFill>
          <a:blip r:embed="rId1"/>
          <a:stretch/>
        </p:blipFill>
        <p:spPr>
          <a:xfrm>
            <a:off x="2490840" y="0"/>
            <a:ext cx="406224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ЛИТИЧЕСКИЕ ПАРТИИ 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5905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сущные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ношение к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43400" y="3276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иметь успех, партия должна быть популистской и многочисле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960" y="1496880"/>
            <a:ext cx="3940560" cy="911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авые партии: Союз рус народа, Союз Михаила Арханге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66400" y="156600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екратили свою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0" name="Прямая со стрелкой 7"/>
          <p:cNvCxnSpPr>
            <a:stCxn id="368" idx="3"/>
            <a:endCxn id="369" idx="1"/>
          </p:cNvCxnSpPr>
          <p:nvPr/>
        </p:nvCxnSpPr>
        <p:spPr>
          <a:xfrm>
            <a:off x="4038120" y="1952640"/>
            <a:ext cx="68652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71" name="TextBox 8"/>
          <p:cNvSpPr/>
          <p:nvPr/>
        </p:nvSpPr>
        <p:spPr>
          <a:xfrm>
            <a:off x="914400" y="5257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дер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детов – П.Н.Милю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еров – В.М.Чернов, Н.Д.Авксент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виков – И.Г.Церетели, Ф.И.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иков – В.И.Ле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04920" y="228600"/>
          <a:ext cx="8839080" cy="65340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д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 эсеры и  мен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 эсеры и бол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62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70 тыс.- 1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длительной эволюции страны по западному образцу на парламентск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 республ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война –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ссия – едина и недел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арный вопрос – после окончания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800 тыс.    2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йна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рев. оборон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 вопросы – до Учр.собрания после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.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циализация земли(ПСР), муниципализация (ме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ласть Временному правитель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25 тыс. (конспи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Через 2 мес. – 100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н – из эмиграции в апреле, страна его не знает, он выдвинул программу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прельские тезис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ход из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ционализация земли, передача её крестья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ктатура пролетари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я власть Советам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3"/>
          <p:cNvSpPr/>
          <p:nvPr/>
        </p:nvSpPr>
        <p:spPr>
          <a:xfrm>
            <a:off x="1676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За кем пойдёт на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Запишите определения термин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волюционное оборончеств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родолжение войны в целях защиты революции и демократических своб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ци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ликвидация частной собственности на землю,  превращение её в общенародное достояние с наделением крестьян землёй без права купли-прода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уницип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ередача земли в распоряжение местных органов  самоуправления для последующего распределения пользоват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тоги  июньского наступ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оследствия по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юльский кризис власти, его ит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Дальнейшие действия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орниловский мяте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ризис власти, создание новых властных структу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Октябрьское вооружённое воссс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Второй Всероссийский съезд Со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ПОСЛЕДСТВИЯ ПОРАЖЕН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вые радикалы объявили об отсутствии доверия к Временному правительству, строят планы по захвату вла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круги поняли, что для подъёма боеспособности  армии необходимо подавить разрушительные силы, в первую очередь,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2" name="Прямая со стрелкой 7"/>
          <p:cNvCxnSpPr/>
          <p:nvPr/>
        </p:nvCxnSpPr>
        <p:spPr>
          <a:xfrm flipH="1">
            <a:off x="2133000" y="1371600"/>
            <a:ext cx="686520" cy="99144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3" name="Прямая со стрелкой 9"/>
          <p:cNvCxnSpPr>
            <a:stCxn id="379" idx="2"/>
          </p:cNvCxnSpPr>
          <p:nvPr/>
        </p:nvCxnSpPr>
        <p:spPr>
          <a:xfrm>
            <a:off x="4191120" y="1417680"/>
            <a:ext cx="1219680" cy="94536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pic>
        <p:nvPicPr>
          <p:cNvPr id="384" name="Рисунок 6" descr="Brusilov_in_191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13:45:19Z</dcterms:modified>
  <cp:revision>42</cp:revision>
  <dc:subject/>
  <dc:title>Февральская революция.</dc:title>
</cp:coreProperties>
</file>