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A26-DB4C-4F76-BA5D-D5C37AEB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BC4-0F95-4DAC-8B26-F624DDA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844-A44E-4406-9E60-573B29EE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D99-63A4-48CB-BD29-B4AE2328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8B56-6950-40EB-B78E-2A2FBC7A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CBA-4A20-4926-9A2E-2E5CDC6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F360-D47A-4D89-BE62-C69F9BE2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E20C-7165-460A-A837-B8559225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90FC-4C52-4F3B-B016-73D57141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4EFC-9D98-41D3-9B94-083E77F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4637-5C68-44A8-8978-8C7AEE4C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BE14-EFC5-4E43-A10E-4AB744E9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A51-E4C5-475C-97C3-F8A8E49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9ED-A2C1-47E0-97E0-8830307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54AC-CDD9-4F7E-9E42-5FCFD557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E2F1-2EA9-4B6D-8920-87DD8B96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46C7-D6F9-43ED-B3C0-3404E5C4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07ADB-995B-4AE2-A141-7B55C086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A3D70-9518-41C5-B83F-E7F8FF45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84ADF-CAE9-4356-9947-0F61768D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DB75FD-D200-4E17-A7E7-0BFB37F1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F34B9-991F-4AD6-B3F4-B65E130F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812-AC65-4758-8194-437A6C0B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AC79D-C87F-4524-B5B4-10AE3B8D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BBC9C-E7E9-4D61-BF6F-CAC4B6D1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39755-AB76-4E0C-A1E6-25679379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F32B9-4C9E-4134-BD59-90A53AB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E4D16-F726-47E6-95DE-6E6F9A5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86B76-8BDC-40F6-8F7A-23FB2084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BC470-DE5B-437B-81F0-D7869CC1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E4B7A-B24A-47A1-9083-71269A64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83D8-88C7-4D53-8369-E068A08F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F3BB-8A5B-4F0C-AE2E-FC65763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4C9-D055-4040-B305-8C326166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AA9CF-4E86-437C-AEF8-DBF42F8D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7CACC-0E79-43F1-A144-2FEF0B6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7C64-0670-4CB0-90DC-8843E91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A95A-DBC0-4654-B22C-2BFDE609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275B-9419-428E-905F-CF90599D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3512-4B24-441C-89D8-D736473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1034-C48F-4BC2-AAC5-20FA599C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4586-75E6-486C-AEF7-6A8E7D7C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C8AD9-E024-470C-BBB2-71CB5C0C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F7F1A-35AB-4FD5-9B54-EB464E5D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54E-7467-4739-A18F-83971D51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FE2A5-3115-4287-8CD4-AAC7691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00CF9-7F89-4C66-9A33-3DABB088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2E347-0C79-4937-BA0D-C8B0367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E9246-E403-448B-BC1E-51E8188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D1073-1FAF-4B37-A59D-85289FC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A4BEE-81C2-4823-897E-02BF3EE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C75DB-49EC-4A0D-871E-44AC75D2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9CCD5C-11BC-4D19-8DDB-0C6F26ED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5FFBF-8C01-449A-97F3-427A3E4C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9EBD3-315A-4235-8A86-0787EDBF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E81-F152-4661-9393-C80BC9C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1BFE9-EC09-4CBA-9D6F-77C89A36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D9122-A56E-414C-8BAB-27A9C48C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65887-BB4F-4E00-9A6E-EC7033E3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CE64D-DF14-467A-96C6-B135C707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A3713-1BE5-4F59-8BEF-622A7D0B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B568A-25D9-4E8C-B02E-93FF4AED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A2F7B-3D29-496F-9B20-E5859DAD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14882-4383-4964-AA4F-A6CF6AE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CF61E-528C-4BAB-A72B-FA8A859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07D94-806E-49F2-B5F7-B1873F01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160-5940-4E6A-9D07-BC64DB17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590DE-7411-46A1-9428-211537A6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63154F-7048-4B77-AC30-252FBAFC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9FAAC-D34C-4921-BF63-660C9306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99A8E-9342-47C1-A195-5AA96D02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62D9C-F772-4824-AB51-667DA757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07C05-1511-4951-B6C5-6AC1611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0C368-0F4D-4860-B012-106D967C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37DF7-F8D7-4072-BF1D-7759E46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DE80E-10F3-417E-8B24-6211E24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5ACD87-F10E-46C7-8A67-4C09054F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AEF5-385B-4000-AC57-701A7B1E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8D56D-2FDB-4412-899C-F14DFCC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A8BE8-1944-493E-9ABB-6CC3F43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AF6F1-14FC-4F35-A095-D297A6C6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5815E5-3E32-4BFC-9AD8-F7D836C7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36B33-284E-4E1D-A803-B8DCBA11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EBE-1017-461A-8C1C-CF992606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A37-A024-4816-ABC5-398C28A440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223-1657-4D9B-9769-6D11D3C027D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96D-5FD7-4ADD-9E00-F6117E644C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1F56-C0D3-40E3-8895-A6B89773C7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52BA-2766-44C3-B1D6-4F93F1B2CD3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8F48-E9AA-4563-AD61-1124BF896B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F95-628D-46CA-A939-5921B48AA0E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84;&#1072;&#1085;&#1086;&#1074;&#1089;&#1082;&#1080;&#1081;,_&#1048;&#1074;&#1072;&#1085;_&#1055;&#1072;&#1074;&#1083;&#1086;&#1074;&#1080;&#1095;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Рисунок 2" descr="russian_revolution_soldiers.jpg"/>
          <p:cNvPicPr/>
          <p:nvPr/>
        </p:nvPicPr>
        <p:blipFill>
          <a:blip r:embed="rId1"/>
          <a:stretch/>
        </p:blipFill>
        <p:spPr>
          <a:xfrm>
            <a:off x="2057400" y="1447920"/>
            <a:ext cx="6872400" cy="39304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"/>
          <p:cNvSpPr/>
          <p:nvPr/>
        </p:nvSpPr>
        <p:spPr>
          <a:xfrm>
            <a:off x="609480" y="5867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754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БОЛЬШЕВИК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тика – давление на правительство; высоко ценили сделанные уже шаги по демократизации общества; в курсе на социалистическую революцию видели опасность забегания вперё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урс на революц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6 июля – 3 августа 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VI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съезд  РСДРП(б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Авторитет Ленина взял верх. Съезд призвал всех большевиков строиться в боевые колон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5440" y="1038600"/>
            <a:ext cx="3561120" cy="89388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6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Умеренное крыл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Каменев, Зиновьев, Калини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402440" y="973440"/>
            <a:ext cx="4300920" cy="1100520"/>
          </a:xfrm>
          <a:prstGeom prst="rect">
            <a:avLst/>
          </a:prstGeom>
          <a:solidFill>
            <a:srgbClr val="ffe636"/>
          </a:solidFill>
          <a:ln w="0">
            <a:noFill/>
          </a:ln>
        </p:spPr>
        <p:txBody>
          <a:bodyPr anchor="ctr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Century Schoolbook"/>
              </a:rPr>
              <a:t>Сторонники восст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(Ленин, Сталин, Бухарин, Свердлов, Троцк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РОГРАММА Л.Г.КОРНИЛОВ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кращение вмешательства государства  в экономические и социальные дел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мобилизация 4 млн. солдат с выделением каждому по 8 десятин земли для создания верной опоры правительству в дерев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овление в России новой формы правления путём создания Совета народной обороны и коалиционного правительства при нё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572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рнилов должен был казнён; но когда это случится, приду на могилу, принесу цветы и преклоню колена перед русским патриото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Ке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457200" y="1676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Генерал Роман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дин из генералов, арестованных вместе с генералом Корниловым — говорил впоследствии: «Могут расстрелять Корнилова, отправить на каторгу его соучастников, но „корниловщина“ в России не погибнет, так как „корниловщина“ — это любовь к Родине, желание спасти Россию, а эти высокие побуждения не забросать никакой грязью, не втоптать никаким ненавистникам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3809880" y="48006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 Корниловым можно и нужно не соглашаться. Но то, что этот белый генерал был порядочным человеком, хорошим разведчиком и несомненным героем, забывать нельзя» (И. В. Ста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5486400" y="0"/>
            <a:ext cx="3276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КРИЗИС ВЛАСТ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1426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 сентября ВЦИК провозгласил Россию республ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 сентября – исп.власть вручена Директории (6 человек во главе с Керенским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 октября – Предпарламент –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емократический Совет  республики – законосовещательный орга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рмия перестала служить опорой государственной власти (дезертирство, братания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исло  бастующих рабочих выросло в 7-8 раз по ср. с вес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стьянские выступления: май – 3 тыс., октябрь – более 5 ты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Н.А.БЕРДЯЕ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овое либеральное правительство, которое пришло на смену после февральского переворота, провозгласило отвлечённые гуманные принципы, отвлечённые начала права, в которых не было никакой организующей силы, не было энергии заражающей массы… В революционную эпоху побеждают люди крайних принципов, склонные и способные к диктатуре,….которая только могла остановить процесс окончательного разло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.ЛЕНИН В ПОДПОЛЬ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Рисунок 2" descr="lenin_photo2.jpg"/>
          <p:cNvPicPr/>
          <p:nvPr/>
        </p:nvPicPr>
        <p:blipFill>
          <a:blip r:embed="rId1"/>
          <a:stretch/>
        </p:blipFill>
        <p:spPr>
          <a:xfrm>
            <a:off x="3381480" y="2152800"/>
            <a:ext cx="33224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Я СЪЕЗД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560" y="1447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мир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выход России из войны, обращение ко всем воюющим народам о мире без аннексий и контрибу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земл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: национализация всей зем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екрет о в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Рисунок 3" descr="izvestia_russian_revolution_newspaper.jpg"/>
          <p:cNvPicPr/>
          <p:nvPr/>
        </p:nvPicPr>
        <p:blipFill>
          <a:blip r:embed="rId1"/>
          <a:stretch/>
        </p:blipFill>
        <p:spPr>
          <a:xfrm>
            <a:off x="6400800" y="3289320"/>
            <a:ext cx="2438280" cy="355932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" descr="revolution-newspaper.jpg"/>
          <p:cNvPicPr/>
          <p:nvPr/>
        </p:nvPicPr>
        <p:blipFill>
          <a:blip r:embed="rId2"/>
          <a:stretch/>
        </p:blipFill>
        <p:spPr>
          <a:xfrm>
            <a:off x="3646440" y="3352680"/>
            <a:ext cx="2594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ЛА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Ц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Л.Б.Каменев, Я.М.Свердл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02 чел.: 62 большевика, 29 эсеров, 6 соц.-д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российский съезд 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вет Народных Комиссаров (СНК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И.Ле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 – до Учр.собр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Законодательн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Исполнительна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РЕАЛЬНО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мир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крет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269960" y="1600200"/>
            <a:ext cx="4264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ажданская вой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лод начала 20-х гг., людоед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ктатура парт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Стрелка вправо с вырезом 4"/>
          <p:cNvSpPr/>
          <p:nvPr/>
        </p:nvSpPr>
        <p:spPr>
          <a:xfrm>
            <a:off x="3352680" y="1752480"/>
            <a:ext cx="838440" cy="304920"/>
          </a:xfrm>
          <a:custGeom>
            <a:avLst/>
            <a:gdLst>
              <a:gd name="textAreaLeft" fmla="*/ 75960 w 838440"/>
              <a:gd name="textAreaRight" fmla="*/ 762480 w 8384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73" y="5400"/>
                </a:lnTo>
                <a:lnTo>
                  <a:pt x="17673" y="0"/>
                </a:lnTo>
                <a:lnTo>
                  <a:pt x="21600" y="10800"/>
                </a:lnTo>
                <a:lnTo>
                  <a:pt x="17673" y="21600"/>
                </a:lnTo>
                <a:lnTo>
                  <a:pt x="17673" y="16200"/>
                </a:lnTo>
                <a:lnTo>
                  <a:pt x="0" y="16200"/>
                </a:lnTo>
                <a:lnTo>
                  <a:pt x="19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трелка вправо с вырезом 5"/>
          <p:cNvSpPr/>
          <p:nvPr/>
        </p:nvSpPr>
        <p:spPr>
          <a:xfrm>
            <a:off x="3200400" y="2666880"/>
            <a:ext cx="990720" cy="228600"/>
          </a:xfrm>
          <a:custGeom>
            <a:avLst/>
            <a:gdLst>
              <a:gd name="textAreaLeft" fmla="*/ 56880 w 990720"/>
              <a:gd name="textAreaRight" fmla="*/ 93384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08" y="5400"/>
                </a:lnTo>
                <a:lnTo>
                  <a:pt x="19108" y="0"/>
                </a:lnTo>
                <a:lnTo>
                  <a:pt x="21600" y="10800"/>
                </a:lnTo>
                <a:lnTo>
                  <a:pt x="19108" y="21600"/>
                </a:lnTo>
                <a:lnTo>
                  <a:pt x="19108" y="16200"/>
                </a:lnTo>
                <a:lnTo>
                  <a:pt x="0" y="16200"/>
                </a:lnTo>
                <a:lnTo>
                  <a:pt x="124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Стрелка вправо с вырезом 6"/>
          <p:cNvSpPr/>
          <p:nvPr/>
        </p:nvSpPr>
        <p:spPr>
          <a:xfrm>
            <a:off x="3352680" y="3505320"/>
            <a:ext cx="914400" cy="228600"/>
          </a:xfrm>
          <a:custGeom>
            <a:avLst/>
            <a:gdLst>
              <a:gd name="textAreaLeft" fmla="*/ 56880 w 914400"/>
              <a:gd name="textAreaRight" fmla="*/ 857520 w 9144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ОЦЕНКА </a:t>
            </a: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II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СЪЕЗДА ИСПАНСКИМ ФИЛОСОФОМ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entury Schoolbook"/>
              </a:rPr>
              <a:t>МУГУЭЛЬ ДЕ УКАУМ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2096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блик правды грозен, народ нуждался в мифах. Большевики дали народу иллюзию мира, земли, хлеб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ы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ытки спасти монарх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еддверии революц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акция цар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71480" y="2362320"/>
            <a:ext cx="416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событи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8-27 февраля, действия царя, тактика думце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тоги февральской революции, ликвидация монархии 2 марта 1917 г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ть двоевл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ит.партии от февраля к октябр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8637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изисы Временного правитель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ъезд Советов 3-27 июн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 СЪЕЗД СОВЕТОВ – 10 ЯНВАРЯ 1918 Г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нятие декларации прав трудящегося и эксплуатируемого народ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сия        РСФС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мысл термина «Советская власть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.власть – Съезд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.власть –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ве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родных комиссар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Стрелка вправо с вырезом 4"/>
          <p:cNvSpPr/>
          <p:nvPr/>
        </p:nvSpPr>
        <p:spPr>
          <a:xfrm>
            <a:off x="1828800" y="3276720"/>
            <a:ext cx="533520" cy="198360"/>
          </a:xfrm>
          <a:custGeom>
            <a:avLst/>
            <a:gdLst>
              <a:gd name="textAreaLeft" fmla="*/ 49320 w 533520"/>
              <a:gd name="textAreaRight" fmla="*/ 484200 w 533520"/>
              <a:gd name="textAreaTop" fmla="*/ 49680 h 198360"/>
              <a:gd name="textAreaBottom" fmla="*/ 149040 h 198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2" y="5400"/>
                </a:lnTo>
                <a:lnTo>
                  <a:pt x="17582" y="0"/>
                </a:lnTo>
                <a:lnTo>
                  <a:pt x="21600" y="10800"/>
                </a:lnTo>
                <a:lnTo>
                  <a:pt x="17582" y="21600"/>
                </a:lnTo>
                <a:lnTo>
                  <a:pt x="17582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ОМАШНЕЕ ЗАДАНИЕ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§15, вопрос 1 – пись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.5 выписать первые мероприятия Советской вла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прос среди родственников(письм.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Какие имена участников событий помнят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Какую оценку дадут событиям октябр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761760" y="762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fotki.yandex.ru/users/ben-de/view/439871/?page=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bse/82800/%D0%94%D0%B2%D0%BE%D0%B5%D0%B2%D0%BB%D0%B0%D1%81%D1%82%D0%B8%D0%B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www.oldhat.ru/20vek/101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law.edu.ru/article/article.asp?articleID=11282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dic.academic.ru/dic.nsf/sie/10830/%D0%9C%D0%95%D0%9D%D0%AC%D0%A8%D0%95%D0%92%D0%98%D0%97%D0%9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ttp://ru.wikipedia.org/wiki/%C1%F0%F3%F1%E8%EB%EE%E2,_%C0%EB%E5%EA%F1%E5%E9_%C0%EB%E5%EA%F1%E5%E5%E2%E8%F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ДВОЕВЛАСТИЕ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(С 27 ФЕВРАЛЯ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1920" y="213336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ременное» – до созыва Учр.собрания (сент., но отлож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бурж.,интел.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асть помещ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Продолжение войны до победы, отказ ввести 8-ч.раб.день; обещание широких демокр.  свобод, Закон об охране посев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н.Г.Е.Львов, А.Ф.Кере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: рабочие, часть интел., крестьян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ебования: 8-ч.раб. дня, введения раб. контроля, земля-крестьянам, фабрики-рабоч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каз №1 – полит. права солдат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.С.Чхеидзе, М.И.Скобеле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23000" y="126144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ременное правительств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34200" y="1257840"/>
            <a:ext cx="3580560" cy="7149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троградский сов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Приказ.jpg"/>
          <p:cNvPicPr/>
          <p:nvPr/>
        </p:nvPicPr>
        <p:blipFill>
          <a:blip r:embed="rId1"/>
          <a:stretch/>
        </p:blipFill>
        <p:spPr>
          <a:xfrm>
            <a:off x="2490840" y="0"/>
            <a:ext cx="406224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ПОЛИТИЧЕСКИЕ ПАРТИИ ОТ ФЕВРАЛЯ К ОКТЯБРЮ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5905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сущные вопрос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ношение к войн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зем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прос о в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43400" y="3276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иметь успех, партия должна быть популистской и многочисленн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8960" y="1496880"/>
            <a:ext cx="3940560" cy="911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7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авые партии: Союз рус народа, Союз Михаила Арханге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766400" y="1566000"/>
            <a:ext cx="3573360" cy="7840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Schoolbook"/>
              </a:rPr>
              <a:t>Прекратили свою деятельнос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0" name="Прямая со стрелкой 7"/>
          <p:cNvCxnSpPr>
            <a:stCxn id="368" idx="3"/>
            <a:endCxn id="369" idx="1"/>
          </p:cNvCxnSpPr>
          <p:nvPr/>
        </p:nvCxnSpPr>
        <p:spPr>
          <a:xfrm>
            <a:off x="4038120" y="1952640"/>
            <a:ext cx="68652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71" name="TextBox 8"/>
          <p:cNvSpPr/>
          <p:nvPr/>
        </p:nvSpPr>
        <p:spPr>
          <a:xfrm>
            <a:off x="914400" y="52578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идер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детов – П.Н.Милю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еров – В.М.Чернов, Н.Д.Авксенть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виков – И.Г.Церетели, Ф.И.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виков – В.И.Ле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304920" y="228600"/>
          <a:ext cx="8839080" cy="6534000"/>
        </p:xfrm>
        <a:graphic>
          <a:graphicData uri="http://schemas.openxmlformats.org/drawingml/2006/table">
            <a:tbl>
              <a:tblPr/>
              <a:tblGrid>
                <a:gridCol w="2946240"/>
                <a:gridCol w="2946600"/>
                <a:gridCol w="29462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т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д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авые эсеры и  мен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вые эсеры и большев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62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70 тыс.- 1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дея длительной эволюции страны по западному образцу на парламентск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 республ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война –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ссия – едина и недел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арный вопрос – после окончания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800 тыс.    200 тыс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йна до побе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рев. оборон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 вопросы – до Учр.собрания после вой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гр.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циализация земли(ПСР), муниципализация (ме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ласть Временному правительст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25 тыс. (конспирац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Через 2 мес. – 100 ты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енин – из эмиграции в апреле, страна его не знает, он выдвинул программу –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прельские тезис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ход из вой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ционализация земли, передача её крестьян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иктатура пролетари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«Вся власть Советам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Schoolbook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sp>
        <p:nvSpPr>
          <p:cNvPr id="373" name="TextBox 3"/>
          <p:cNvSpPr/>
          <p:nvPr/>
        </p:nvSpPr>
        <p:spPr>
          <a:xfrm>
            <a:off x="1676520" y="6019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entury Schoolbook"/>
              </a:rPr>
              <a:t>За кем пойдёт нар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Запишите определения термин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Революционное оборончеств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продолжение войны в целях защиты революции и демократических своб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Соци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ликвидация частной собственности на землю,  превращение её в общенародное достояние с наделением крестьян землёй без права купли-прода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Муниципализация земл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ередача земли в распоряжение местных органов  самоуправления для последующего распределения пользоват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ЛАН ИЗУЧЕНИЯ ТЕМЫ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тоги  июньского наступ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Последствия пораж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Июльский кризис власти, его итог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Дальнейшие действия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орниловский мятеж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Кризис власти, создание новых властных структу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Октябрьское вооружённое воссст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Второй Всероссийский съезд Сове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Century Schoolbook"/>
              </a:rPr>
              <a:t>ПОСЛЕДСТВИЯ ПОРАЖЕНИЯ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евые радикалы объявили об отсутствии доверия к Временному правительству, строят планы по захвату вла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триотические круги поняли, что для подъёма боеспособности  армии необходимо подавить разрушительные силы, в первую очередь, большев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2" name="Прямая со стрелкой 7"/>
          <p:cNvCxnSpPr/>
          <p:nvPr/>
        </p:nvCxnSpPr>
        <p:spPr>
          <a:xfrm flipH="1">
            <a:off x="2133000" y="1371600"/>
            <a:ext cx="686520" cy="99144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83" name="Прямая со стрелкой 9"/>
          <p:cNvCxnSpPr>
            <a:stCxn id="379" idx="2"/>
          </p:cNvCxnSpPr>
          <p:nvPr/>
        </p:nvCxnSpPr>
        <p:spPr>
          <a:xfrm>
            <a:off x="4191120" y="1417680"/>
            <a:ext cx="1219680" cy="945360"/>
          </a:xfrm>
          <a:prstGeom prst="straightConnector1">
            <a:avLst/>
          </a:prstGeom>
          <a:ln w="414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84" name="Рисунок 6" descr="Brusilov_in_1917.jpg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17T13:45:19Z</dcterms:modified>
  <cp:revision>42</cp:revision>
  <dc:subject/>
  <dc:title>Февральская революция.</dc:title>
</cp:coreProperties>
</file>