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117-4B86-4DC2-B63F-8DF3A8F3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57C-C8BD-4786-B253-E098498E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CBE-81F6-4E4A-9EB6-BE6F43D6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EDE-D708-4FCF-BC69-81302231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CE51-C8E7-4D2A-9C40-38CD9393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DA3A-012E-4F3C-A5A3-AF142D00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D2D0-7A3F-4002-A4FA-EFE8E261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F312-B417-44A6-978B-F0BC16B7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C9B7-EBE8-4A6E-893B-F7F146A1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24CC-AF70-49A6-A307-B29809FC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0308-D40F-4A86-84F9-04631992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EA9-3EFF-4BC5-93D3-D5515B82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68C3-62CE-4DF5-A92B-83D3EB16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980B-E754-4092-961C-785B31DB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8A6C-0F83-4B4E-A5E9-5219A39E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1F70-1EF5-472E-9C2D-55920113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7154-5CD9-490A-B307-C7916E35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CCDD8-43FB-4499-B5C2-BE1B6507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0F1E7-C851-48BF-A85D-3E100BB9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E74A4-0704-4611-A1BE-5E6D5967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A3967-D94A-4B2E-B1D0-2B310FB5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D537D-EFCC-443A-B944-CD07413C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08E-F199-4962-852C-42A4159F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83822-CBB9-4AF5-825F-14E28586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91113-2D21-4EEA-B959-7BA67875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A76E5-F740-42DA-A4B3-B7515D1F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87652-C00D-4B6B-A6C5-398FAC3D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BC06F-6D9B-492D-908D-12DE9774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89471-1B37-4C9D-87AC-FEC41955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F5633-00EC-4AA7-BA0E-F2BC737B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EBE27-65E3-4C05-9D57-1DFD498D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24AFE-E897-4FFF-8EE3-8D00F1D2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527A-2DFC-4332-8B24-59BDC061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69A-5662-449B-8652-9BC5F013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86958-74EB-4EAE-AEFC-C78B4A48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2762-C9AB-4A75-B669-02E032A9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67674-5DFE-45CB-8807-A6319CB4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11CE1-16AC-4FC9-BD2E-18A7CD91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23793-1EDB-4AE7-BA57-2B4B9482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248DE-F40A-424D-BBA8-AC4ED9CB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2E2F-E39B-4910-9488-B143C63F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50EB-23FC-4B05-92D8-E944494A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A6ACB-022C-40A0-A10E-F529A60D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ED8B8-5528-42AD-B813-0DCE684F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AF1-E146-4D73-9EA9-7777E670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D2561-2677-47DB-9F6C-EADB0CD8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5868C-50B4-435E-B939-517B8D94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1F8E5-BD23-4BCC-AA8F-3C9BB423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B2DB3-6716-4182-AC55-CA018660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AC8C8-14D9-4641-88D5-96DA747F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96B2C-5C59-488F-8FC8-D8FCA0E0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051BA-41B5-4AB8-ABF1-FC4687B7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B4E3E-8897-4C94-8DE6-3ACB1716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69C59-C3FC-4252-88C4-B37A3A29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15B30-AC2D-4658-B8AE-7EC5D51F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8CE-9F3A-458E-AFC3-00B4805F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0EF92-AD8E-4D62-8F27-4DD6ED11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D1ACB-4EC6-4D21-9F73-BAD201B3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F2B3B-7A51-43DB-8EDA-6DAA4CC4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03912-DC3F-47AC-BAD0-E7C287F4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8A45F-C1E6-4789-8CD7-A8CC04A8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6BD54-37BF-4BE9-A8FF-6E945612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FA1BC7-5D65-4EA2-AE32-38A370BC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E98F0-0212-4069-92C8-F3947E05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0BBC6-B01E-46DC-BB83-94645161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82CA41-5AF2-42EC-98C7-4C2A656B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C14-F0D8-42A3-85FD-6E77CB2C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B7BF5-208C-4485-8E8B-6E3EAC59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C6B11A-05D9-4A00-971B-E2AE11E1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447D2-3A77-444B-B863-2E3F1C1E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C205C-B4F8-4DA9-A863-CE3E905F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2C028-0A10-459A-ABD8-8EAEBC6E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7FAFA-8B56-4E16-9D3D-7A135308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3308A-2D2B-4F28-938D-F1C1191D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7AA58-0477-4180-9AFC-1355AC87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7F7B03-DBB2-4504-BEFA-E8256FDF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055707-A3DF-4639-8EB5-F11A3BDF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631-3A28-40ED-BD0C-E3D1B9A0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3A709-F55D-4F3C-A320-BCB2C5D3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945499-257E-4A58-BB5F-3F7A6181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13065-8924-41B3-975E-C733A662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E4473-C29B-4EF6-A7CC-A75650D0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FE05C-BFF3-453F-93FA-91A55E80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C9E-3455-4409-BD65-402085C2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E63D-60FB-4B80-BA1A-C8D97595E0B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1886-AE70-4FD2-82A3-0B7683F99F0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259C-C694-4D58-9D51-EE5C07D72CA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8569-FBB7-42F1-BC66-DAA0BA85767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5FA2-7F89-426E-9123-03B7CAEEE06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E4B3-EAD5-4845-A2E7-E91544382D2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3B4C-3C38-469C-A0E2-40AE1068B6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4;&#1072;&#1085;&#1086;&#1074;&#1089;&#1082;&#1080;&#1081;,_&#1048;&#1074;&#1072;&#1085;_&#1055;&#1072;&#1074;&#1083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2" descr="russian_revolution_soldiers.jpg"/>
          <p:cNvPicPr/>
          <p:nvPr/>
        </p:nvPicPr>
        <p:blipFill>
          <a:blip r:embed="rId1"/>
          <a:stretch/>
        </p:blipFill>
        <p:spPr>
          <a:xfrm>
            <a:off x="2057400" y="1447920"/>
            <a:ext cx="6872400" cy="3930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"/>
          <p:cNvSpPr/>
          <p:nvPr/>
        </p:nvSpPr>
        <p:spPr>
          <a:xfrm>
            <a:off x="609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754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БОЛЬШЕВ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тика – давление на правительство; высоко ценили сделанные уже шаги по демократизации общества; в курсе на социалистическую революцию видели опасность забегания вперё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рс на револю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6 июля – 3 августа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съезд  РСДРП(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Авторитет Ленина взял верх. Съезд призвал всех большевиков строиться в боевые колон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5440" y="1038600"/>
            <a:ext cx="3561120" cy="89388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6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Умеренное крыл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Каменев, Зиновьев, Калини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402440" y="973440"/>
            <a:ext cx="4300920" cy="110052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Сторонники восст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Ленин, Сталин, Бухарин, Свердлов, Троцк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ОГРАММА Л.Г.КОРНИЛ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кращение вмешательства государства  в экономические и социальн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мобилизация 4 млн. солдат с выделением каждому по 8 десятин земли для создания верной опоры правительству в дерев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ление в России новой формы правления путём создания Совета народной обороны и коалиционного правительства при 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572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лов должен был казнён; но когда это случится, приду на могилу, принесу цветы и преклоню колена перед русским патриото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Ке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457200" y="1676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Генерал Роман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генералов, арестованных вместе с генералом Корниловым — говорил впоследствии: «Могут расстрелять Корнилова, отправить на каторгу его соучастников, но „корниловщина“ в России не погибнет, так как „корниловщина“ — это любовь к Родине, желание спасти Россию, а эти высокие побуждения не забросать никакой грязью, не втоптать никаким ненавистникам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809880" y="480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 Корниловым можно и нужно не соглашаться. Но то, что этот белый генерал был порядочным человеком, хорошим разведчиком и несомненным героем, забывать нельзя» (И. В. Ста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5486400" y="0"/>
            <a:ext cx="3276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КРИЗИС ВЛАСТ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ентября ВЦИК провозгласил Россию республ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сентября – исп.власть вручена Директории (6 человек во главе с Керенски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октября – Предпарламент –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мократический Совет  республики – законосовещательный орга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мия перестала служить опорой государственной власти (дезертирство, братани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исло  бастующих рабочих выросло в 7-8 раз по ср. с вес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стьянские выступления: май – 3 тыс., октябрь – более 5 ты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Н.А.БЕРДЯЕ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ое либеральное правительство, которое пришло на смену после февральского переворота, провозгласило отвлечённые гуманные принципы, отвлечённые начала права, в которых не было никакой организующей силы, не было энергии заражающей массы… В революционную эпоху побеждают люди крайних принципов, склонные и способные к диктатуре,….которая только могла остановить процесс окончательного разло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ЛЕНИН В ПОДПОЛЬ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Рисунок 2" descr="lenin_photo2.jpg"/>
          <p:cNvPicPr/>
          <p:nvPr/>
        </p:nvPicPr>
        <p:blipFill>
          <a:blip r:embed="rId1"/>
          <a:stretch/>
        </p:blipFill>
        <p:spPr>
          <a:xfrm>
            <a:off x="3381480" y="2152800"/>
            <a:ext cx="332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Я СЪЕЗД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мир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ыход России из войны, обращение ко всем воюющим народам о мире без аннексий и контрибу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земл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национализация всей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в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Рисунок 3" descr="izvestia_russian_revolution_newspaper.jpg"/>
          <p:cNvPicPr/>
          <p:nvPr/>
        </p:nvPicPr>
        <p:blipFill>
          <a:blip r:embed="rId1"/>
          <a:stretch/>
        </p:blipFill>
        <p:spPr>
          <a:xfrm>
            <a:off x="6400800" y="3289320"/>
            <a:ext cx="2438280" cy="35593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" descr="revolution-newspaper.jpg"/>
          <p:cNvPicPr/>
          <p:nvPr/>
        </p:nvPicPr>
        <p:blipFill>
          <a:blip r:embed="rId2"/>
          <a:stretch/>
        </p:blipFill>
        <p:spPr>
          <a:xfrm>
            <a:off x="3646440" y="3352680"/>
            <a:ext cx="2594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ЛА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Ц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Л.Б.Каменев, Я.М.Свердл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2 чел.: 62 большевика, 29 эсеров, 6 соц.-д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российский съезд 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т Народных Комиссаров (СН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И.Ле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 – до Учр.собр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Законодатель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РЕАЛЬНО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ми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69960" y="1600200"/>
            <a:ext cx="426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жданская вой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д начала 20-х гг., людоед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ктатура пар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Стрелка вправо с вырезом 4"/>
          <p:cNvSpPr/>
          <p:nvPr/>
        </p:nvSpPr>
        <p:spPr>
          <a:xfrm>
            <a:off x="3352680" y="1752480"/>
            <a:ext cx="838440" cy="304920"/>
          </a:xfrm>
          <a:custGeom>
            <a:avLst/>
            <a:gdLst>
              <a:gd name="textAreaLeft" fmla="*/ 75960 w 838440"/>
              <a:gd name="textAreaRight" fmla="*/ 7624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с вырезом 5"/>
          <p:cNvSpPr/>
          <p:nvPr/>
        </p:nvSpPr>
        <p:spPr>
          <a:xfrm>
            <a:off x="3200400" y="2666880"/>
            <a:ext cx="990720" cy="228600"/>
          </a:xfrm>
          <a:custGeom>
            <a:avLst/>
            <a:gdLst>
              <a:gd name="textAreaLeft" fmla="*/ 56880 w 990720"/>
              <a:gd name="textAreaRight" fmla="*/ 93384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08" y="5400"/>
                </a:ln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19108" y="16200"/>
                </a:lnTo>
                <a:lnTo>
                  <a:pt x="0" y="16200"/>
                </a:lnTo>
                <a:lnTo>
                  <a:pt x="12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трелка вправо с вырезом 6"/>
          <p:cNvSpPr/>
          <p:nvPr/>
        </p:nvSpPr>
        <p:spPr>
          <a:xfrm>
            <a:off x="3352680" y="3505320"/>
            <a:ext cx="914400" cy="228600"/>
          </a:xfrm>
          <a:custGeom>
            <a:avLst/>
            <a:gdLst>
              <a:gd name="textAreaLeft" fmla="*/ 56880 w 914400"/>
              <a:gd name="textAreaRight" fmla="*/ 85752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ОЦЕНКА 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II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СЪЕЗДА ИСПАНСКИМ ФИЛОСОФ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МУГУЭЛЬ ДЕ УКАУМ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209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блик правды грозен, народ нуждался в мифах. Большевики дали народу иллюзию мира, земли, хлеб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ытки спасти монарх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дверии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акция цар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71480" y="2362320"/>
            <a:ext cx="416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событ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8-27 февраля, действия царя, тактика думц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оги февральской революции, ликвидация монархии 2 марта 1917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ть двоевл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ит.партии от февраля к октябр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изисы Временного прави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Советов 3-27 ию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СЪЕЗД СОВЕТОВ – 10 ЯНВАРЯ 1918 Г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ятие декларации прав трудящегося и эксплуатируемого нар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сия        РСФС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ысл термина «Советская власть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.власть – Съезд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.власть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родных комисса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Стрелка вправо с вырезом 4"/>
          <p:cNvSpPr/>
          <p:nvPr/>
        </p:nvSpPr>
        <p:spPr>
          <a:xfrm>
            <a:off x="1828800" y="3276720"/>
            <a:ext cx="533520" cy="198360"/>
          </a:xfrm>
          <a:custGeom>
            <a:avLst/>
            <a:gdLst>
              <a:gd name="textAreaLeft" fmla="*/ 49320 w 533520"/>
              <a:gd name="textAreaRight" fmla="*/ 484200 w 533520"/>
              <a:gd name="textAreaTop" fmla="*/ 49680 h 198360"/>
              <a:gd name="textAreaBottom" fmla="*/ 149040 h 19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2" y="5400"/>
                </a:lnTo>
                <a:lnTo>
                  <a:pt x="17582" y="0"/>
                </a:lnTo>
                <a:lnTo>
                  <a:pt x="21600" y="10800"/>
                </a:lnTo>
                <a:lnTo>
                  <a:pt x="17582" y="21600"/>
                </a:lnTo>
                <a:lnTo>
                  <a:pt x="17582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ОМАШНЕЕ ЗАД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§15, вопрос 1 – пись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5 выписать первые мероприятия Советской в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ос среди родственников(письм.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акие имена участников событий помня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акую оценку дадут событиям октябр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761760" y="762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fotki.yandex.ru/users/ben-de/view/439871/?page=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bse/82800/%D0%94%D0%B2%D0%BE%D0%B5%D0%B2%D0%BB%D0%B0%D1%81%D1%82%D0%B8%D0%B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oldhat.ru/20vek/101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law.edu.ru/article/article.asp?articleID=11282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sie/10830/%D0%9C%D0%95%D0%9D%D0%AC%D0%A8%D0%95%D0%92%D0%98%D0%97%D0%9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%C1%F0%F3%F1%E8%EB%EE%E2,_%C0%EB%E5%EA%F1%E5%E9_%C0%EB%E5%EA%F1%E5%E5%E2%E8%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ВОЕВЛАСТИЕ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(С 27 ФЕВРАЛЯ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1920" y="21333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ременное» – до созыва Учр.собрания (сент., но отлож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бурж.,интел.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ь помещ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одолжение войны до победы, отказ ввести 8-ч.раб.день; обещание широких демокр.  свобод, Закон об охране посев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.Г.Е.Львов, А.Ф.Керен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 рабочие, часть интел., крестья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: 8-ч.раб. дня, введения раб. контроля, земля-крестьянам, фабрики-рабоч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каз №1 – полит. права солдат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.С.Чхеидзе, М.И.Скобеле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3000" y="126144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34200" y="1257840"/>
            <a:ext cx="3580560" cy="7149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троградский сов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Приказ.jpg"/>
          <p:cNvPicPr/>
          <p:nvPr/>
        </p:nvPicPr>
        <p:blipFill>
          <a:blip r:embed="rId1"/>
          <a:stretch/>
        </p:blipFill>
        <p:spPr>
          <a:xfrm>
            <a:off x="2490840" y="0"/>
            <a:ext cx="406224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ЛИТИЧЕСКИЕ ПАРТИИ 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5905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сущные вопро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ношение к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43400" y="3276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иметь успех, партия должна быть популистской и многочислен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960" y="1496880"/>
            <a:ext cx="3940560" cy="911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7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авые партии: Союз рус народа, Союз Михаила Арханге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66400" y="156600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екратили свою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0" name="Прямая со стрелкой 7"/>
          <p:cNvCxnSpPr>
            <a:stCxn id="368" idx="3"/>
            <a:endCxn id="369" idx="1"/>
          </p:cNvCxnSpPr>
          <p:nvPr/>
        </p:nvCxnSpPr>
        <p:spPr>
          <a:xfrm>
            <a:off x="4038120" y="1952640"/>
            <a:ext cx="68652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71" name="TextBox 8"/>
          <p:cNvSpPr/>
          <p:nvPr/>
        </p:nvSpPr>
        <p:spPr>
          <a:xfrm>
            <a:off x="914400" y="5257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дер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детов – П.Н.Милю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еров – В.М.Чернов, Н.Д.Авксент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виков – И.Г.Церетели, Ф.И.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виков – В.И.Ле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04920" y="228600"/>
          <a:ext cx="8839080" cy="653400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д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 эсеры и  мен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 эсеры и бол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62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70 тыс.- 1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длительной эволюции страны по западному образцу на парламентск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 республ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война –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ссия – едина и недел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арный вопрос – после окончания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800 тыс.    2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йна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рев. оборон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 вопросы – до Учр.собрания после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.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циализация земли(ПСР), муниципализация (ме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ласть Временному правитель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25 тыс. (конспи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Через 2 мес. – 100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н – из эмиграции в апреле, страна его не знает, он выдвинул программу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прельские тезис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ход из вой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ционализация земли, передача её крестья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ктатура пролетари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я власть Советам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3"/>
          <p:cNvSpPr/>
          <p:nvPr/>
        </p:nvSpPr>
        <p:spPr>
          <a:xfrm>
            <a:off x="1676520" y="6019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За кем пойдёт на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Запишите определения термин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волюционное оборончеств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родолжение войны в целях защиты революции и демократических своб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ци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ликвидация частной собственности на землю,  превращение её в общенародное достояние с наделением крестьян землёй без права купли-продаж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уницип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ередача земли в распоряжение местных органов  самоуправления для последующего распределения пользовател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тоги  июньского наступ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оследствия по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юльский кризис власти, его ит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Дальнейшие действия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орниловский мятеж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ризис власти, создание новых властных структу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Октябрьское вооружённое воссст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Второй Всероссийский съезд Со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ПОСЛЕДСТВИЯ ПОРАЖЕН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вые радикалы объявили об отсутствии доверия к Временному правительству, строят планы по захвату вла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круги поняли, что для подъёма боеспособности  армии необходимо подавить разрушительные силы, в первую очередь,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2" name="Прямая со стрелкой 7"/>
          <p:cNvCxnSpPr/>
          <p:nvPr/>
        </p:nvCxnSpPr>
        <p:spPr>
          <a:xfrm flipH="1">
            <a:off x="2133000" y="1371600"/>
            <a:ext cx="686520" cy="99144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3" name="Прямая со стрелкой 9"/>
          <p:cNvCxnSpPr>
            <a:stCxn id="379" idx="2"/>
          </p:cNvCxnSpPr>
          <p:nvPr/>
        </p:nvCxnSpPr>
        <p:spPr>
          <a:xfrm>
            <a:off x="4191120" y="1417680"/>
            <a:ext cx="1219680" cy="94536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384" name="Рисунок 6" descr="Brusilov_in_191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13:45:19Z</dcterms:modified>
  <cp:revision>42</cp:revision>
  <dc:subject/>
  <dc:title>Февральская революция.</dc:title>
</cp:coreProperties>
</file>