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DE8-EBB5-46A6-B0EF-0B9C416F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C35-95E4-49F0-B6A2-0C0D282A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61B-20A9-4F36-85F3-32D1B999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050-0835-4719-B48D-F1313868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5700-5937-4671-8496-0B2471AE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3BBD-F74F-4AD4-B6F4-7779F44A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4B13-9AF0-4D8F-86CC-FAD5B003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BE1B-5151-4E17-BD4E-D0E71919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3537-4F46-41EB-8517-87B31BC4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32DD-2A4F-4358-AC8B-D380821A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11D0-0DB5-4DD2-8589-BADAB9E9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316-CEBF-4B58-8D0E-A76C3A64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C025-0273-4BE6-AF45-0F36C9B8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B96E-E5D8-4FB9-BFC9-C6FA2967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64B9-F819-46D1-BF17-1168E435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8B34-3397-4958-AA73-76F9CB71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AC04-B84B-4F4D-8A56-4869CD17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660F8-3616-4CDC-ACC4-1BB3DF10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65094-ED5B-45E7-9FC4-523071D5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1780F-966A-4DD6-BA84-C6872E80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66335-8E41-4C10-A0EE-AAB92484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42AB7-A161-4D8F-9FE0-0AB0C006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8AF-CBF6-49ED-9213-1EBBFE25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68DA9-EC55-4007-85DE-A5ED9BBC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F4AD3-C434-4206-8C58-54390EA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886D9-9395-4839-BC9B-4F3272AE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CEBB7-DE47-445E-8DA3-6ACBDE36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C4BFC-CC63-4E8A-8E5B-11E7AE25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3EB8A-94FB-40B6-A8BD-97B3246B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644C8-4797-435C-98FF-B87901AC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E5ED1-A428-488C-AF03-6E836107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C51BB-06F5-4C89-A4B4-6B9DA800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B1405-194F-4D5D-BC1D-25A5206F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FA0-8ADD-4306-87FA-688CA955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EEA66-D91A-4C6A-BEB2-1D97491C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6D4A8-E124-448F-86CF-E1C2DA1E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7B856-C0E8-42B2-994A-AE7B893F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566B-914C-4213-9968-EB985A2E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85BDD-6BF9-4485-971C-D63762A6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06C7-0465-4154-BBBA-0C38EA2D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3E9BC-A8A7-4F8D-A2CA-7598E447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4B548-1726-4326-9574-86E70F06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0088E-6CD5-47A2-9935-4398BC20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8937D-D4E1-4902-9537-61E9554C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2A1-B06C-4BA2-8505-1A843C02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A3C27-6CA7-4F17-AD4E-D40FC099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0F8C9-3724-465C-8392-31E772F7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DB218-2EE1-44A0-8153-4E5B69AD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0360C-2405-4BFB-BE84-7CA0A0AE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13B9B-F835-4954-8083-BC715EC7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AD267-2962-4529-9D96-F1729762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1E6484-9A0B-4363-B77B-B368CA83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E7688-A351-4A62-87E5-DD3D34F7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DBF389-315C-4430-8018-80C60C7B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7CE58-C4AF-4B53-BE77-C019390E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FCD-EB56-47B7-A941-EF36C7F1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48F4C-F02D-4D43-98F9-B604E27A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2B4B60-7B6C-4B35-947C-2FECF214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278B6-0533-4AA3-8CEA-DB96FB86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DC5D5E-EFD6-45A9-9AF3-D85C70EB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79AE1-44EA-40D2-AB9C-B1B7C349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85005-11B8-4B86-90E9-DD0DF951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7638C-79F4-42E5-98E0-DD95895B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514FA-9F1A-4848-89BF-9F7AA093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D90BA-0BA5-47EF-BCBE-8BB7BDD7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408D7-314C-4DD1-84E9-33B45308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C2A-DDF0-4593-9562-1D5BFF3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86B2E-ADE6-49E1-988B-B61D8EFC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2244D-5A6B-4AEA-B2F3-8CDF5E21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CA435-15C9-4D7E-B028-A7452E00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04E2D-191C-447D-85AC-29E810CD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23221-4479-4179-BFB7-DABF54E7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DFD50-E161-4C97-9781-4ED0BFFA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D7871-BBAB-4252-8AED-B0DE2B80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90D07-50D1-42C5-9447-31977CB3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D1E17-A6DC-4FAE-A868-5FDEBF67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29B3F-F9C8-4FE5-86A4-84604EE2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BE1-F568-406A-A7B2-525A4E7D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6A63E-982D-4ABD-9CDC-4A8036A6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CC3EF-475F-44B0-AC42-BC48C878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EBA873-1FD9-487C-BBA8-2DAF6B7B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D2EE6-F690-4E0E-B9DE-B4C70D0B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7F712-D914-4446-BD4D-056C8927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E42-C907-4CE9-BA4E-0CCD1686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5235-4A03-4160-B3F9-CD56B550891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5709-F2E7-46A0-8BF5-81391E56F13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A076-3F66-4674-8320-FE6E6B1C492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3F3E-0EC7-486E-9B24-E9A07C4ECC2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A771-AF65-422E-A232-9520ACF720D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5144-2266-4023-A88A-4C165D95AB5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9B91-03EA-4293-8B68-20AEB3C8EDB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4;&#1072;&#1085;&#1086;&#1074;&#1089;&#1082;&#1080;&#1081;,_&#1048;&#1074;&#1072;&#1085;_&#1055;&#1072;&#1074;&#1083;&#1086;&#1074;&#1080;&#1095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Рисунок 2" descr="russian_revolution_soldiers.jpg"/>
          <p:cNvPicPr/>
          <p:nvPr/>
        </p:nvPicPr>
        <p:blipFill>
          <a:blip r:embed="rId1"/>
          <a:stretch/>
        </p:blipFill>
        <p:spPr>
          <a:xfrm>
            <a:off x="2057400" y="1447920"/>
            <a:ext cx="6872400" cy="3930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"/>
          <p:cNvSpPr/>
          <p:nvPr/>
        </p:nvSpPr>
        <p:spPr>
          <a:xfrm>
            <a:off x="609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754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БОЛЬШЕВ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тика – давление на правительство; высоко ценили сделанные уже шаги по демократизации общества; в курсе на социалистическую революцию видели опасность забегания вперё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рс на револю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6 июля – 3 августа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съезд  РСДРП(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Авторитет Ленина взял верх. Съезд призвал всех большевиков строиться в боевые колон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5440" y="1038600"/>
            <a:ext cx="3561120" cy="89388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6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Умеренное крыл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Каменев, Зиновьев, Калини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402440" y="973440"/>
            <a:ext cx="4300920" cy="110052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Сторонники восст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Ленин, Сталин, Бухарин, Свердлов, Троцк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ОГРАММА Л.Г.КОРНИЛ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кращение вмешательства государства  в экономические и социальные д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мобилизация 4 млн. солдат с выделением каждому по 8 десятин земли для создания верной опоры правительству в дерев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ление в России новой формы правления путём создания Совета народной обороны и коалиционного правительства при 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4572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нилов должен был казнён; но когда это случится, приду на могилу, принесу цветы и преклоню колена перед русским патриото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Ке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457200" y="1676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Генерал Роман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из генералов, арестованных вместе с генералом Корниловым — говорил впоследствии: «Могут расстрелять Корнилова, отправить на каторгу его соучастников, но „корниловщина“ в России не погибнет, так как „корниловщина“ — это любовь к Родине, желание спасти Россию, а эти высокие побуждения не забросать никакой грязью, не втоптать никаким ненавистникам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3809880" y="48006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 Корниловым можно и нужно не соглашаться. Но то, что этот белый генерал был порядочным человеком, хорошим разведчиком и несомненным героем, забывать нельзя» (И. В. Ста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5486400" y="0"/>
            <a:ext cx="3276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КРИЗИС ВЛАСТ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1426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сентября ВЦИК провозгласил Россию республ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сентября – исп.власть вручена Директории (6 человек во главе с Керенски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октября – Предпарламент –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мократический Совет  республики – законосовещательный орга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мия перестала служить опорой государственной власти (дезертирство, братани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исло  бастующих рабочих выросло в 7-8 раз по ср. с вес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стьянские выступления: май – 3 тыс., октябрь – более 5 ты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Н.А.БЕРДЯЕ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ое либеральное правительство, которое пришло на смену после февральского переворота, провозгласило отвлечённые гуманные принципы, отвлечённые начала права, в которых не было никакой организующей силы, не было энергии заражающей массы… В революционную эпоху побеждают люди крайних принципов, склонные и способные к диктатуре,….которая только могла остановить процесс окончательного разло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.ЛЕНИН В ПОДПОЛЬ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Рисунок 2" descr="lenin_photo2.jpg"/>
          <p:cNvPicPr/>
          <p:nvPr/>
        </p:nvPicPr>
        <p:blipFill>
          <a:blip r:embed="rId1"/>
          <a:stretch/>
        </p:blipFill>
        <p:spPr>
          <a:xfrm>
            <a:off x="3381480" y="2152800"/>
            <a:ext cx="332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ШЕНИЯ СЪЕЗД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мир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ыход России из войны, обращение ко всем воюющим народам о мире без аннексий и контрибу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земл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национализация всей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в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Рисунок 3" descr="izvestia_russian_revolution_newspaper.jpg"/>
          <p:cNvPicPr/>
          <p:nvPr/>
        </p:nvPicPr>
        <p:blipFill>
          <a:blip r:embed="rId1"/>
          <a:stretch/>
        </p:blipFill>
        <p:spPr>
          <a:xfrm>
            <a:off x="6400800" y="3289320"/>
            <a:ext cx="2438280" cy="35593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" descr="revolution-newspaper.jpg"/>
          <p:cNvPicPr/>
          <p:nvPr/>
        </p:nvPicPr>
        <p:blipFill>
          <a:blip r:embed="rId2"/>
          <a:stretch/>
        </p:blipFill>
        <p:spPr>
          <a:xfrm>
            <a:off x="3646440" y="3352680"/>
            <a:ext cx="2594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ЛА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Ц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Л.Б.Каменев, Я.М.Свердл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2 чел.: 62 большевика, 29 эсеров, 6 соц.-д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российский съезд 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т Народных Комиссаров (СН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И.Ле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 – до Учр.собр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Законодатель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РЕАЛЬНО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ми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69960" y="1600200"/>
            <a:ext cx="426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жданская вой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од начала 20-х гг., людоед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ктатура пар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Стрелка вправо с вырезом 4"/>
          <p:cNvSpPr/>
          <p:nvPr/>
        </p:nvSpPr>
        <p:spPr>
          <a:xfrm>
            <a:off x="3352680" y="1752480"/>
            <a:ext cx="838440" cy="304920"/>
          </a:xfrm>
          <a:custGeom>
            <a:avLst/>
            <a:gdLst>
              <a:gd name="textAreaLeft" fmla="*/ 75960 w 838440"/>
              <a:gd name="textAreaRight" fmla="*/ 7624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право с вырезом 5"/>
          <p:cNvSpPr/>
          <p:nvPr/>
        </p:nvSpPr>
        <p:spPr>
          <a:xfrm>
            <a:off x="3200400" y="2666880"/>
            <a:ext cx="990720" cy="228600"/>
          </a:xfrm>
          <a:custGeom>
            <a:avLst/>
            <a:gdLst>
              <a:gd name="textAreaLeft" fmla="*/ 56880 w 990720"/>
              <a:gd name="textAreaRight" fmla="*/ 93384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08" y="5400"/>
                </a:ln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19108" y="16200"/>
                </a:lnTo>
                <a:lnTo>
                  <a:pt x="0" y="16200"/>
                </a:lnTo>
                <a:lnTo>
                  <a:pt x="12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трелка вправо с вырезом 6"/>
          <p:cNvSpPr/>
          <p:nvPr/>
        </p:nvSpPr>
        <p:spPr>
          <a:xfrm>
            <a:off x="3352680" y="3505320"/>
            <a:ext cx="914400" cy="228600"/>
          </a:xfrm>
          <a:custGeom>
            <a:avLst/>
            <a:gdLst>
              <a:gd name="textAreaLeft" fmla="*/ 56880 w 914400"/>
              <a:gd name="textAreaRight" fmla="*/ 85752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ОЦЕНКА </a:t>
            </a: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II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СЪЕЗДА ИСПАНСКИМ ФИЛОСОФОМ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МУГУЭЛЬ ДЕ УКАУМ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2209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блик правды грозен, народ нуждался в мифах. Большевики дали народу иллюзию мира, земли, хлеб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ытки спасти монарх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еддверии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акция цар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71480" y="2362320"/>
            <a:ext cx="416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событ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8-27 февраля, действия царя, тактика думц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тоги февральской революции, ликвидация монархии 2 марта 1917 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ть двоевла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ит.партии от февраля к октябр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изисы Временного правитель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Советов 3-27 июн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СЪЕЗД СОВЕТОВ – 10 ЯНВАРЯ 1918 Г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ятие декларации прав трудящегося и эксплуатируемого нар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сия        РСФС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ысл термина «Советская власть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.власть – Съезд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.власть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родных комисса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Стрелка вправо с вырезом 4"/>
          <p:cNvSpPr/>
          <p:nvPr/>
        </p:nvSpPr>
        <p:spPr>
          <a:xfrm>
            <a:off x="1828800" y="3276720"/>
            <a:ext cx="533520" cy="198360"/>
          </a:xfrm>
          <a:custGeom>
            <a:avLst/>
            <a:gdLst>
              <a:gd name="textAreaLeft" fmla="*/ 49320 w 533520"/>
              <a:gd name="textAreaRight" fmla="*/ 484200 w 533520"/>
              <a:gd name="textAreaTop" fmla="*/ 49680 h 198360"/>
              <a:gd name="textAreaBottom" fmla="*/ 149040 h 19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2" y="5400"/>
                </a:lnTo>
                <a:lnTo>
                  <a:pt x="17582" y="0"/>
                </a:lnTo>
                <a:lnTo>
                  <a:pt x="21600" y="10800"/>
                </a:lnTo>
                <a:lnTo>
                  <a:pt x="17582" y="21600"/>
                </a:lnTo>
                <a:lnTo>
                  <a:pt x="17582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ОМАШНЕЕ ЗАД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§15, вопрос 1 – пись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5 выписать первые мероприятия Советской в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ос среди родственников(письм.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акие имена участников событий помня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акую оценку дадут событиям октябр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761760" y="762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fotki.yandex.ru/users/ben-de/view/439871/?page=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bse/82800/%D0%94%D0%B2%D0%BE%D0%B5%D0%B2%D0%BB%D0%B0%D1%81%D1%82%D0%B8%D0%B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oldhat.ru/20vek/101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law.edu.ru/article/article.asp?articleID=11282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sie/10830/%D0%9C%D0%95%D0%9D%D0%AC%D0%A8%D0%95%D0%92%D0%98%D0%97%D0%9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ru.wikipedia.org/wiki/%C1%F0%F3%F1%E8%EB%EE%E2,_%C0%EB%E5%EA%F1%E5%E9_%C0%EB%E5%EA%F1%E5%E5%E2%E8%F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ВОЕВЛАСТИЕ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(С 27 ФЕВРАЛЯ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1920" y="213336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ременное» – до созыва Учр.собрания (сент., но отлож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бурж.,интел.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сть помещ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одолжение войны до победы, отказ ввести 8-ч.раб.день; обещание широких демокр.  свобод, Закон об охране посев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.Г.Е.Львов, А.Ф.Керен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 рабочие, часть интел., крестья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ния: 8-ч.раб. дня, введения раб. контроля, земля-крестьянам, фабрики-рабоч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каз №1 – полит. права солдат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.С.Чхеидзе, М.И.Скобеле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3000" y="126144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34200" y="1257840"/>
            <a:ext cx="3580560" cy="7149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етроградский сов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Приказ.jpg"/>
          <p:cNvPicPr/>
          <p:nvPr/>
        </p:nvPicPr>
        <p:blipFill>
          <a:blip r:embed="rId1"/>
          <a:stretch/>
        </p:blipFill>
        <p:spPr>
          <a:xfrm>
            <a:off x="2490840" y="0"/>
            <a:ext cx="406224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ОЛИТИЧЕСКИЕ ПАРТИИ 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5905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сущные вопро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ношение к вой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343400" y="3276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иметь успех, партия должна быть популистской и многочислен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8960" y="1496880"/>
            <a:ext cx="3940560" cy="911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7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авые партии: Союз рус народа, Союз Михаила Арханге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766400" y="156600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екратили свою деяте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0" name="Прямая со стрелкой 7"/>
          <p:cNvCxnSpPr>
            <a:stCxn id="368" idx="3"/>
            <a:endCxn id="369" idx="1"/>
          </p:cNvCxnSpPr>
          <p:nvPr/>
        </p:nvCxnSpPr>
        <p:spPr>
          <a:xfrm>
            <a:off x="4038120" y="1952640"/>
            <a:ext cx="68652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71" name="TextBox 8"/>
          <p:cNvSpPr/>
          <p:nvPr/>
        </p:nvSpPr>
        <p:spPr>
          <a:xfrm>
            <a:off x="914400" y="5257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дер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детов – П.Н.Милю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еров – В.М.Чернов, Н.Д.Авксент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виков – И.Г.Церетели, Ф.И.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виков – В.И.Ле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04920" y="228600"/>
          <a:ext cx="8839080" cy="653400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д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 эсеры и  мен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 эсеры и бол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62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70 тыс.- 1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ея длительной эволюции страны по западному образцу на парламентск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 республ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война –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ссия – едина и недел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арный вопрос – после окончания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800 тыс.    2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йна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рев. оборонче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 вопросы – до Учр.собрания после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.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циализация земли(ПСР), муниципализация (ме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ласть Временному правитель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25 тыс. (конспи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Через 2 мес. – 100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ин – из эмиграции в апреле, страна его не знает, он выдвинул программу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прельские тезис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ход из вой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ционализация земли, передача её крестья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ктатура пролетари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ся власть Советам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3"/>
          <p:cNvSpPr/>
          <p:nvPr/>
        </p:nvSpPr>
        <p:spPr>
          <a:xfrm>
            <a:off x="1676520" y="6019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За кем пойдёт на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Запишите определения термин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еволюционное оборончеств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родолжение войны в целях защиты революции и демократических своб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ци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ликвидация частной собственности на землю,  превращение её в общенародное достояние с наделением крестьян землёй без права купли-продаж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уницип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ередача земли в распоряжение местных органов  самоуправления для последующего распределения пользовател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тоги  июньского наступ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оследствия пора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юльский кризис власти, его ит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Дальнейшие действия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орниловский мятеж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ризис власти, создание новых властных структу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Октябрьское вооружённое воссст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Второй Всероссийский съезд Со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ПОСЛЕДСТВИЯ ПОРАЖЕН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вые радикалы объявили об отсутствии доверия к Временному правительству, строят планы по захвату вла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круги поняли, что для подъёма боеспособности  армии необходимо подавить разрушительные силы, в первую очередь,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2" name="Прямая со стрелкой 7"/>
          <p:cNvCxnSpPr/>
          <p:nvPr/>
        </p:nvCxnSpPr>
        <p:spPr>
          <a:xfrm flipH="1">
            <a:off x="2133000" y="1371600"/>
            <a:ext cx="686520" cy="99144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83" name="Прямая со стрелкой 9"/>
          <p:cNvCxnSpPr>
            <a:stCxn id="379" idx="2"/>
          </p:cNvCxnSpPr>
          <p:nvPr/>
        </p:nvCxnSpPr>
        <p:spPr>
          <a:xfrm>
            <a:off x="4191120" y="1417680"/>
            <a:ext cx="1219680" cy="94536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384" name="Рисунок 6" descr="Brusilov_in_1917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7T13:45:19Z</dcterms:modified>
  <cp:revision>42</cp:revision>
  <dc:subject/>
  <dc:title>Февральская революция.</dc:title>
</cp:coreProperties>
</file>