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B49-D679-44C0-B4BA-EDA1289D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4D83-66BA-4045-9C1D-72D80E77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584-0BE8-4900-843C-1A33C37D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1E8C-9A41-4293-8430-B2E7BF79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64C3-0025-4840-9E97-049CCDE4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6637-2290-4F81-B2CE-83BDFC3D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E34A-A506-4D4F-B8D4-0F39F827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C2EC-2B68-49B0-9FDA-9E807973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9AC5-3E1C-4FF8-8885-1B4DE935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96BC-2D78-45A7-BFAC-CEC3072E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0580-8628-41BE-A7EA-D56BF4F7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973-D623-4093-9A0D-C8F0CDCD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3344-A42A-4F4C-B4E8-3F3993D8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B687-8C23-4651-BE6B-DC1010A2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1B8B-CB7B-4E1A-AA3D-66BE0636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5A03-A8AE-4504-A07D-104854C2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C29A-6297-4066-9EEC-991FF588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69CA6-EA1B-49E1-8343-2BFBF2E7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C36F1-99BF-4391-8F98-651950C2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B9B76-0457-4783-97CC-75287A04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E7C75-5E3A-4803-BE46-2453635C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344A6-7545-40FC-8383-30498475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A7DB-F955-4771-A04A-17332F1B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D2338-173E-4FF3-BEF6-948A2BBC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F4854-3AE7-4DBF-BAD7-63FECE44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C9C3C-99B5-4580-8C47-C89ECE40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2FA3E-22A7-447E-A1D9-9AFA4BB2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E98BA-0462-46B3-8AC8-DBC26E0B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03187-46E3-4147-957D-F6ACC754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B0C75-2A4E-4323-AB20-0DBAF0BF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FEA72-F324-4574-96C1-C4656B00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8595A-0F75-4F3A-877E-6FBD33BF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25E24-F649-4B10-966D-90FB8859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A1E-93F7-4778-8274-5E440C14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97EDA-3A43-4866-85E6-E5E3F77F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DC52E-D47C-479A-9FFB-DC1B2AC0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81B89-A2B4-45EA-AC55-BA0E50EF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375F4-C411-4B9E-BE92-0812F24D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27435-977C-4B1F-8CBE-CBD66F37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B8DA0-1A96-4D9E-BA07-F6BEA55F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7F1C2-087A-4C6C-9FFE-84F05874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EC676-59CE-4500-9BB5-CA257D92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9B5B0-48EB-4767-8B34-9CCF2195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178C8B-4094-443F-914F-E9E67197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811-195C-4F5A-BCE3-82192328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CBE6E4-D87C-4DC3-9D0E-5B0F395E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6F32E-C658-44BA-97E1-8AA4844B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00C44-621E-43E6-99E3-5102D19F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82F8FA-A145-4C98-BEAD-F8E8755B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8A933D-8376-4F52-8F4B-B75A4A5F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2341FB-8801-4DA8-88C0-DE09E44E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78CABF-4E7D-46FE-B05B-890B71EF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3E10B-F55E-4AFB-B1F1-61E366D5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882C8-8432-4910-ABD5-11414B55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746E3-B39E-4DE5-B0CB-900E9DD5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58B-2CDD-4C84-A5AE-7276161C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A9C4AE-6F60-4E42-AB66-0B6A90E9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A9B9FB-799E-434D-AFBF-B48C9450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4A1386-3B75-4B38-B3BF-403E0785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750285-4D3F-440F-9962-9C9C7670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F3029F-AE10-4255-B51D-5010E0B3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1CB52D-17EC-40EB-BB49-6A47F306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54B444-5503-4F59-9921-648F5EA3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23B761-14FA-44E4-8394-03597DCF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3F4650-FC20-4C47-BE7A-A795B872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F04C30-8920-491D-AEA9-E8783EF2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96A4-B8BC-4353-A146-220959B5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F54F38-6CD3-40C6-B2EF-62D9470E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DF0CA-F430-4BE5-AAE9-3DF97B8D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422C7E-20B1-4A41-89AE-5AC68A10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CC96BD-ED76-4A2C-AF9F-6FC4301C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332D51-C86D-4E97-96E4-68742187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BB7779-E274-4113-AA57-DEFF7586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314351-510F-4A6F-BFDE-597777CE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589278-9DD8-426B-A1BA-D3C06D62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FE010C-6198-4069-97DD-261B6FE4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149085-5EBB-4D05-817C-897FDC28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CAC-E68E-49EB-96B1-136F518C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9F996F-0AC7-4234-8CD3-74C2B421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072C70-F179-4055-8C6D-ED0DE9C0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CAA302-85DF-43DE-AFFB-1E739562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E0D2A0-FE7E-4A49-BF22-2D978602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7D3DB2-AB5F-495C-BFA0-8F72DE26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B50E-5D9A-4C1F-9177-AAD7F527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45D1-107B-4EC8-A31C-3DBBFC1825C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E26B-EC10-458A-AFAF-7F87B357946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DCA9-E512-4647-9A3D-2B00CAF793B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6A6C-AEAC-4E78-ABF4-32652AF3F98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A8E7-981B-4167-8F02-733CD8A44B2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8C71-D04D-49B4-BB5B-F34120CAC30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00CB-BC60-4BC2-9AFB-08F17931B05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4;&#1072;&#1085;&#1086;&#1074;&#1089;&#1082;&#1080;&#1081;,_&#1048;&#1074;&#1072;&#1085;_&#1055;&#1072;&#1074;&#1083;&#1086;&#1074;&#1080;&#1095;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ОТ ФЕВРАЛЯ К ОКТЯБРЮ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Рисунок 2" descr="russian_revolution_soldiers.jpg"/>
          <p:cNvPicPr/>
          <p:nvPr/>
        </p:nvPicPr>
        <p:blipFill>
          <a:blip r:embed="rId1"/>
          <a:stretch/>
        </p:blipFill>
        <p:spPr>
          <a:xfrm>
            <a:off x="2057400" y="1447920"/>
            <a:ext cx="6872400" cy="39304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1"/>
          <p:cNvSpPr/>
          <p:nvPr/>
        </p:nvSpPr>
        <p:spPr>
          <a:xfrm>
            <a:off x="609480" y="5867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-571680"/>
            <a:ext cx="754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БОЛЬШЕВИ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тика – давление на правительство; высоко ценили сделанные уже шаги по демократизации общества; в курсе на социалистическую революцию видели опасность забегания вперё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урс на революц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6 июля – 3 августа –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V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съезд  РСДРП(б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Авторитет Ленина взял верх. Съезд призвал всех большевиков строиться в боевые колон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05440" y="1038600"/>
            <a:ext cx="3561120" cy="893880"/>
          </a:xfrm>
          <a:prstGeom prst="rect">
            <a:avLst/>
          </a:prstGeom>
          <a:solidFill>
            <a:srgbClr val="ffe636"/>
          </a:solidFill>
          <a:ln w="0">
            <a:noFill/>
          </a:ln>
        </p:spPr>
        <p:txBody>
          <a:bodyPr anchor="ctr">
            <a:normAutofit fontScale="6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Умеренное крыл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Каменев, Зиновьев, Калинин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402440" y="973440"/>
            <a:ext cx="4300920" cy="1100520"/>
          </a:xfrm>
          <a:prstGeom prst="rect">
            <a:avLst/>
          </a:prstGeom>
          <a:solidFill>
            <a:srgbClr val="ffe636"/>
          </a:solidFill>
          <a:ln w="0">
            <a:noFill/>
          </a:ln>
        </p:spPr>
        <p:txBody>
          <a:bodyPr anchor="ctr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Сторонники восст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Ленин, Сталин, Бухарин, Свердлов, Троцк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РОГРАММА Л.Г.КОРНИЛОВ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кращение вмешательства государства  в экономические и социальные дел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мобилизация 4 млн. солдат с выделением каждому по 8 десятин земли для создания верной опоры правительству в дерев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овление в России новой формы правления путём создания Совета народной обороны и коалиционного правительства при нё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1"/>
          <p:cNvSpPr/>
          <p:nvPr/>
        </p:nvSpPr>
        <p:spPr>
          <a:xfrm>
            <a:off x="4572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нилов должен был казнён; но когда это случится, приду на могилу, принесу цветы и преклоню колена перед русским патриотом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Ке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"/>
          <p:cNvSpPr/>
          <p:nvPr/>
        </p:nvSpPr>
        <p:spPr>
          <a:xfrm>
            <a:off x="457200" y="16765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Генерал Роман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дин из генералов, арестованных вместе с генералом Корниловым — говорил впоследствии: «Могут расстрелять Корнилова, отправить на каторгу его соучастников, но „корниловщина“ в России не погибнет, так как „корниловщина“ — это любовь к Родине, желание спасти Россию, а эти высокие побуждения не забросать никакой грязью, не втоптать никаким ненавистникам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3809880" y="48006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 Корниловым можно и нужно не соглашаться. Но то, что этот белый генерал был порядочным человеком, хорошим разведчиком и несомненным героем, забывать нельзя» (И. В. Стал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5486400" y="0"/>
            <a:ext cx="3276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КРИЗИС ВЛАСТ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1426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сентября ВЦИК провозгласил Россию республи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 сентября – исп.власть вручена Директории (6 человек во главе с Керенским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 октября – Предпарламент –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емократический Совет  республики – законосовещательный орган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мия перестала служить опорой государственной власти (дезертирство, братания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исло  бастующих рабочих выросло в 7-8 раз по ср. с вес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естьянские выступления: май – 3 тыс., октябрь – более 5 ты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Н.А.БЕРДЯЕ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19843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овое либеральное правительство, которое пришло на смену после февральского переворота, провозгласило отвлечённые гуманные принципы, отвлечённые начала права, в которых не было никакой организующей силы, не было энергии заражающей массы… В революционную эпоху побеждают люди крайних принципов, склонные и способные к диктатуре,….которая только могла остановить процесс окончательного разло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.ЛЕНИН В ПОДПОЛЬ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Рисунок 2" descr="lenin_photo2.jpg"/>
          <p:cNvPicPr/>
          <p:nvPr/>
        </p:nvPicPr>
        <p:blipFill>
          <a:blip r:embed="rId1"/>
          <a:stretch/>
        </p:blipFill>
        <p:spPr>
          <a:xfrm>
            <a:off x="3381480" y="2152800"/>
            <a:ext cx="33224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ШЕНИЯ СЪЕЗД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560" y="144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мир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выход России из войны, обращение ко всем воюющим народам о мире без аннексий и контрибуц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земл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национализация всей зем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власт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Рисунок 3" descr="izvestia_russian_revolution_newspaper.jpg"/>
          <p:cNvPicPr/>
          <p:nvPr/>
        </p:nvPicPr>
        <p:blipFill>
          <a:blip r:embed="rId1"/>
          <a:stretch/>
        </p:blipFill>
        <p:spPr>
          <a:xfrm>
            <a:off x="6400800" y="3289320"/>
            <a:ext cx="2438280" cy="355932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4" descr="revolution-newspaper.jpg"/>
          <p:cNvPicPr/>
          <p:nvPr/>
        </p:nvPicPr>
        <p:blipFill>
          <a:blip r:embed="rId2"/>
          <a:stretch/>
        </p:blipFill>
        <p:spPr>
          <a:xfrm>
            <a:off x="3646440" y="3352680"/>
            <a:ext cx="2594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ЛА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ЦИ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Л.Б.Каменев, Я.М.Свердло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02 чел.: 62 большевика, 29 эсеров, 6 соц.-д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российский съезд Со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вет Народных Комиссаров (СНК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.И.Лени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ременное правительство – до Учр.собр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Законодательна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Исполнительна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РЕАЛЬНО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мир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зем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в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269960" y="1600200"/>
            <a:ext cx="4264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жданская вой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лод начала 20-х гг., людоед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ктатура парт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Стрелка вправо с вырезом 4"/>
          <p:cNvSpPr/>
          <p:nvPr/>
        </p:nvSpPr>
        <p:spPr>
          <a:xfrm>
            <a:off x="3352680" y="1752480"/>
            <a:ext cx="838440" cy="304920"/>
          </a:xfrm>
          <a:custGeom>
            <a:avLst/>
            <a:gdLst>
              <a:gd name="textAreaLeft" fmla="*/ 75960 w 838440"/>
              <a:gd name="textAreaRight" fmla="*/ 762480 w 8384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73" y="5400"/>
                </a:lnTo>
                <a:lnTo>
                  <a:pt x="17673" y="0"/>
                </a:lnTo>
                <a:lnTo>
                  <a:pt x="21600" y="10800"/>
                </a:lnTo>
                <a:lnTo>
                  <a:pt x="17673" y="21600"/>
                </a:lnTo>
                <a:lnTo>
                  <a:pt x="17673" y="16200"/>
                </a:lnTo>
                <a:lnTo>
                  <a:pt x="0" y="16200"/>
                </a:lnTo>
                <a:lnTo>
                  <a:pt x="196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трелка вправо с вырезом 5"/>
          <p:cNvSpPr/>
          <p:nvPr/>
        </p:nvSpPr>
        <p:spPr>
          <a:xfrm>
            <a:off x="3200400" y="2666880"/>
            <a:ext cx="990720" cy="228600"/>
          </a:xfrm>
          <a:custGeom>
            <a:avLst/>
            <a:gdLst>
              <a:gd name="textAreaLeft" fmla="*/ 56880 w 990720"/>
              <a:gd name="textAreaRight" fmla="*/ 93384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108" y="5400"/>
                </a:lnTo>
                <a:lnTo>
                  <a:pt x="19108" y="0"/>
                </a:lnTo>
                <a:lnTo>
                  <a:pt x="21600" y="10800"/>
                </a:lnTo>
                <a:lnTo>
                  <a:pt x="19108" y="21600"/>
                </a:lnTo>
                <a:lnTo>
                  <a:pt x="19108" y="16200"/>
                </a:lnTo>
                <a:lnTo>
                  <a:pt x="0" y="16200"/>
                </a:lnTo>
                <a:lnTo>
                  <a:pt x="124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Стрелка вправо с вырезом 6"/>
          <p:cNvSpPr/>
          <p:nvPr/>
        </p:nvSpPr>
        <p:spPr>
          <a:xfrm>
            <a:off x="3352680" y="3505320"/>
            <a:ext cx="914400" cy="228600"/>
          </a:xfrm>
          <a:custGeom>
            <a:avLst/>
            <a:gdLst>
              <a:gd name="textAreaLeft" fmla="*/ 56880 w 914400"/>
              <a:gd name="textAreaRight" fmla="*/ 85752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00" y="5400"/>
                </a:ln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18900" y="16200"/>
                </a:lnTo>
                <a:lnTo>
                  <a:pt x="0" y="16200"/>
                </a:lnTo>
                <a:lnTo>
                  <a:pt x="13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ОЦЕНКА </a:t>
            </a: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II</a:t>
            </a: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 СЪЕЗДА ИСПАНСКИМ ФИЛОСОФОМ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МУГУЭЛЬ ДЕ УКАУМ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22096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блик правды грозен, народ нуждался в мифах. Большевики дали народу иллюзию мира, земли, хлеба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ЛАН ИЗУЧЕНИЯ ТЕМ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чины револю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пытки спасти монарх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еддверии револю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акция цар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371480" y="2362320"/>
            <a:ext cx="416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событи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8-27 февраля, действия царя, тактика думце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тоги февральской революции, ликвидация монархии 2 марта 1917 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ть двоевласт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ит.партии от февраля к октябр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изисы Временного правитель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ъезд Советов 3-27 июн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II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СЪЕЗД СОВЕТОВ – 10 ЯНВАРЯ 1918 Г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нятие декларации прав трудящегося и эксплуатируемого наро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оссия        РСФС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мысл термина «Советская власть»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.власть – Съезд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.власть –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ве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народных комиссар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Стрелка вправо с вырезом 4"/>
          <p:cNvSpPr/>
          <p:nvPr/>
        </p:nvSpPr>
        <p:spPr>
          <a:xfrm>
            <a:off x="1828800" y="3276720"/>
            <a:ext cx="533520" cy="198360"/>
          </a:xfrm>
          <a:custGeom>
            <a:avLst/>
            <a:gdLst>
              <a:gd name="textAreaLeft" fmla="*/ 49320 w 533520"/>
              <a:gd name="textAreaRight" fmla="*/ 484200 w 533520"/>
              <a:gd name="textAreaTop" fmla="*/ 49680 h 198360"/>
              <a:gd name="textAreaBottom" fmla="*/ 149040 h 198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82" y="5400"/>
                </a:lnTo>
                <a:lnTo>
                  <a:pt x="17582" y="0"/>
                </a:lnTo>
                <a:lnTo>
                  <a:pt x="21600" y="10800"/>
                </a:lnTo>
                <a:lnTo>
                  <a:pt x="17582" y="21600"/>
                </a:lnTo>
                <a:lnTo>
                  <a:pt x="17582" y="16200"/>
                </a:lnTo>
                <a:lnTo>
                  <a:pt x="0" y="16200"/>
                </a:lnTo>
                <a:lnTo>
                  <a:pt x="200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ОМАШНЕЕ ЗАДАНИ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§15, вопрос 1 – пись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.5 выписать первые мероприятия Советской вла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ос среди родственников(письм.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Какие имена участников событий помнят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Какую оценку дадут событиям октября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761760" y="762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fotki.yandex.ru/users/ben-de/view/439871/?page=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dic.academic.ru/dic.nsf/bse/82800/%D0%94%D0%B2%D0%BE%D0%B5%D0%B2%D0%BB%D0%B0%D1%81%D1%82%D0%B8%D0%B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www.oldhat.ru/20vek/101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law.edu.ru/article/article.asp?articleID=11282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dic.academic.ru/dic.nsf/sie/10830/%D0%9C%D0%95%D0%9D%D0%AC%D0%A8%D0%95%D0%92%D0%98%D0%97%D0%9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ru.wikipedia.org/wiki/%C1%F0%F3%F1%E8%EB%EE%E2,_%C0%EB%E5%EA%F1%E5%E9_%C0%EB%E5%EA%F1%E5%E5%E2%E8%F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ВОЕВЛАСТИЕ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(С 27 ФЕВРАЛЯ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51920" y="213336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Временное» – до созыва Учр.собрания (сент., но отлож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:бурж.,интел.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асть помещ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Продолжение войны до победы, отказ ввести 8-ч.раб.день; обещание широких демокр.  свобод, Закон об охране посев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н.Г.Е.Львов, А.Ф.Керенск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: рабочие, часть интел., крестья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ебования: 8-ч.раб. дня, введения раб. контроля, земля-крестьянам, фабрики-рабочи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каз №1 – полит. права солдат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.С.Чхеидзе, М.И.Скобеле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23000" y="1261440"/>
            <a:ext cx="3573360" cy="784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ременное правитель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34200" y="1257840"/>
            <a:ext cx="3580560" cy="7149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етроградский сов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Приказ.jpg"/>
          <p:cNvPicPr/>
          <p:nvPr/>
        </p:nvPicPr>
        <p:blipFill>
          <a:blip r:embed="rId1"/>
          <a:stretch/>
        </p:blipFill>
        <p:spPr>
          <a:xfrm>
            <a:off x="2490840" y="0"/>
            <a:ext cx="406224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ОЛИТИЧЕСКИЕ ПАРТИИ ОТ ФЕВРАЛЯ К ОКТЯБРЮ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25905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сущные вопрос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ношение к войн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прос о зем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прос о в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343400" y="3276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ы иметь успех, партия должна быть популистской и многочислен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8960" y="1496880"/>
            <a:ext cx="3940560" cy="911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7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равые партии: Союз рус народа, Союз Михаила Арханге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766400" y="1566000"/>
            <a:ext cx="3573360" cy="784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рекратили свою деятельно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0" name="Прямая со стрелкой 7"/>
          <p:cNvCxnSpPr>
            <a:stCxn id="368" idx="3"/>
            <a:endCxn id="369" idx="1"/>
          </p:cNvCxnSpPr>
          <p:nvPr/>
        </p:nvCxnSpPr>
        <p:spPr>
          <a:xfrm>
            <a:off x="4038120" y="1952640"/>
            <a:ext cx="686520" cy="72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71" name="TextBox 8"/>
          <p:cNvSpPr/>
          <p:nvPr/>
        </p:nvSpPr>
        <p:spPr>
          <a:xfrm>
            <a:off x="914400" y="52578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идер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детов – П.Н.Милю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серов – В.М.Чернов, Н.Д.Авксенть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виков – И.Г.Церетели, Ф.И.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виков – В.И.Лен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304920" y="228600"/>
          <a:ext cx="8839080" cy="6534000"/>
        </p:xfrm>
        <a:graphic>
          <a:graphicData uri="http://schemas.openxmlformats.org/drawingml/2006/table">
            <a:tbl>
              <a:tblPr/>
              <a:tblGrid>
                <a:gridCol w="2946240"/>
                <a:gridCol w="2946600"/>
                <a:gridCol w="29462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н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д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ые эсеры и  меньш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вые эсеры и больш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562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70 тыс.- 100 ты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дея длительной эволюции страны по западному образцу на парламентск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 республ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война – до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оссия – едина и недел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грарный вопрос – после окончания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800 тыс.    200 ты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йна до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рев. оборончеств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се вопросы – до Учр.собрания после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гр.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циализация земли(ПСР), муниципализация (ме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ласть Временному правительст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25 тыс. (конспирац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Через 2 мес. – 100 ты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нин – из эмиграции в апреле, страна его не знает, он выдвинул программу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прельские тезис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ход из вой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ционализация земли, передача её крестьян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иктатура пролетари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ся власть Советам!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</a:tbl>
          </a:graphicData>
        </a:graphic>
      </p:graphicFrame>
      <p:sp>
        <p:nvSpPr>
          <p:cNvPr id="373" name="TextBox 3"/>
          <p:cNvSpPr/>
          <p:nvPr/>
        </p:nvSpPr>
        <p:spPr>
          <a:xfrm>
            <a:off x="1676520" y="60199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За кем пойдёт нар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Запишите определения термино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Революционное оборончеств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продолжение войны в целях защиты революции и демократических свобо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циализация земл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ликвидация частной собственности на землю,  превращение её в общенародное достояние с наделением крестьян землёй без права купли-продаж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Муниципализация земл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передача земли в распоряжение местных органов  самоуправления для последующего распределения пользователя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ЛАН ИЗУЧЕНИЯ ТЕМ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тоги  июньского наступ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Последствия пора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юльский кризис власти, его итог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Дальнейшие действия большев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Корниловский мятеж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Кризис власти, создание новых властных структу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Октябрьское вооружённое воссст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Второй Всероссийский съезд Сове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ПОСЛЕДСТВИЯ ПОРАЖЕНИЯ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евые радикалы объявили об отсутствии доверия к Временному правительству, строят планы по захвату вла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триотические круги поняли, что для подъёма боеспособности  армии необходимо подавить разрушительные силы, в первую очередь, большев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2" name="Прямая со стрелкой 7"/>
          <p:cNvCxnSpPr/>
          <p:nvPr/>
        </p:nvCxnSpPr>
        <p:spPr>
          <a:xfrm flipH="1">
            <a:off x="2133000" y="1371600"/>
            <a:ext cx="686520" cy="991440"/>
          </a:xfrm>
          <a:prstGeom prst="straightConnector1">
            <a:avLst/>
          </a:prstGeom>
          <a:ln w="4140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83" name="Прямая со стрелкой 9"/>
          <p:cNvCxnSpPr>
            <a:stCxn id="379" idx="2"/>
          </p:cNvCxnSpPr>
          <p:nvPr/>
        </p:nvCxnSpPr>
        <p:spPr>
          <a:xfrm>
            <a:off x="4191120" y="1417680"/>
            <a:ext cx="1219680" cy="945360"/>
          </a:xfrm>
          <a:prstGeom prst="straightConnector1">
            <a:avLst/>
          </a:prstGeom>
          <a:ln w="41400">
            <a:solidFill>
              <a:srgbClr val="ff6903"/>
            </a:solidFill>
            <a:miter/>
            <a:tailEnd len="med" type="triangle" w="med"/>
          </a:ln>
        </p:spPr>
      </p:cxnSp>
      <p:pic>
        <p:nvPicPr>
          <p:cNvPr id="384" name="Рисунок 6" descr="Brusilov_in_1917.jpg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17T13:45:19Z</dcterms:modified>
  <cp:revision>42</cp:revision>
  <dc:subject/>
  <dc:title>Февральская революция.</dc:title>
</cp:coreProperties>
</file>