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12E6-7A16-4BDF-8EA2-7A0F8E9A7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16CD-92E5-400C-B8BD-351FB876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7E3C-1A0F-4C52-9BBE-0C2A26BC6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57D6-7B6F-432A-841B-D398B4A4A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D876-39F0-40E3-9EC6-71A06955B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0596-44BF-4A81-8C8D-5CD2E26D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477E4-C2A9-4894-99BF-01817483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77CD-1221-4233-8F55-418DEBD4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7036-6B61-454D-9EC4-5434AD42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0785-AF5C-47DB-A664-C362FA94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3EDC7-E3E2-4B5E-847E-EFDF2662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A670-4AE5-4A0F-B757-DD4472FA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B938-F564-429A-BAAD-B5BC31BC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38AC-1E0E-4AEF-9C93-BE6BE74C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7F4E-1164-403B-A748-415AB03F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77C7-8CE0-4371-8685-0137CF284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9A9E-85C7-455E-A7CB-5DA7C5764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2C6C4F-E71D-487B-818C-61E2CA4AD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F7A612-D7A4-485B-B8EA-2C552AC7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D61468-7E6D-4E7A-B8E9-2B45812E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C86F8D-0B2F-42D1-88D3-BF284D7E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552F5D-4398-47DA-A122-0EFD46E0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DDCD-39BE-483B-B1C1-5F0A4CE8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9D7751-E12A-4542-A519-36344533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EBF85A-1A0C-49A8-AF92-0B7658ED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38C1CA-A8B5-4ADA-9C07-B8E8DB35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7CEADB-F619-47F0-9B5B-CBB991C8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997AD5-AF70-455B-965D-028291D0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96C3A5-54BA-4B1B-8B02-7A9480590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03073E-4E77-41C2-BA3C-342AAC524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5F428-C030-46DA-98CB-22ECB3F44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C9EF8-ED35-46CF-B9C3-144ECE28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943BD-A3FC-4BD0-8900-D83658C5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31F4-D5CB-4AF1-919D-CC9DA527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BE203-2EB4-4CF3-9C06-E4A70A3A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A0411-CAF6-4955-9943-0DB2CD4A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EA63A-D4E1-4B29-B022-7BF0F343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DA18A-411B-424B-836B-F783A19D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5C7D0-4922-4CA2-8F25-C01DC69F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335A8-4C46-4455-94EA-B8AC0C36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6B4C3-208D-4A70-A28B-A88FA3C5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0B7E2-72B5-4287-BAB4-B7CD4B570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AF93C-BB22-49A4-9A14-DFD0BEE94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62A002-7D6B-45C3-899D-8BCFE5F96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AB42-A2F3-4DE2-A9DE-F795DC28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F5E733-B516-4935-A539-9B21510B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369532-A287-4E8B-9D0E-9777BC7A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E563D3-8757-43C0-A01C-BC093BB4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81C721-E459-4319-BBDE-4DB6D155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BF1008-C1EC-44B4-8DD1-C372BBBE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E045CC-E18F-4E8B-9182-A648D6BF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C756DB-EAF2-47F4-8D9C-A00C903A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485C81-F827-4E4B-AD7F-01C052BE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6D9D48-C382-4357-8B5F-FBF47BEC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0077ED-CB26-4A66-B397-53CF4D632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56B3-4A68-4EFA-A718-8CF54F9D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CE122A-5600-4C2F-8A2C-E001FE1D6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80E10A-8EE5-4183-A86C-1531BB889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5AC1D1-2C68-4CB1-AEEE-9AD4F49E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6E5414-764D-4B38-8F8D-0BD50D78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16783C-5CEC-479D-BA90-ED9289D0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69F868-984E-428E-9A5B-A9ED9168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8F11D0-5E75-4789-A3B1-7F79B936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B90D5D-FCAD-4C6A-B543-608F0037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7AD198-456A-4E88-B0B0-F701365F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933C40-C057-454A-B6F3-D9DF9398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F47C-B123-46C5-BA6F-D1444B6D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F5BBF2-931A-44C0-8402-E114F823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7BE6C8-8146-4DA9-9EDF-5C3F3BE88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B71440-E918-4E1B-9DF5-C244856B2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FEEA42-4E33-4088-94D0-EC163CD08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3C2337-B95F-4953-9E74-BE61D318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BFE6E8-763C-410D-A7DC-0B82AFF1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BE2B90-BCEA-4EEC-B197-C3D90799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F2B00F-7414-4824-8767-C7C5B78A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F1A76C-F4E7-4EBB-BE2E-457B93DF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21DE85-BF19-4B07-8D9A-397066FE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E97E-7A42-4C5F-A74A-1951C06F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6F1912-22F1-4C41-91E7-CFDE93F2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24F6E0-5891-4C25-90EE-213C2870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1AC713-3104-43C1-9C50-7B973AAD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9F1819-7705-4CFD-B218-22F40E7B2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E5D617-D200-4234-AF39-F1AB4FF38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8009-E7F4-4873-8B2A-D721D724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2701-77A7-4C22-9292-06DFBAE9A3E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1931-582A-4EC0-82C4-14C4705B9B5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3215-14F6-42C4-982B-9F52EDBA906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826F-C778-49CC-A553-A3DCAAFE2BB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700D-DB13-4215-8978-99054389498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CE01-A25D-447D-B830-891F6A3DF41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2E53-388F-4E79-90BC-05CA95683B1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86;&#1084;&#1072;&#1085;&#1086;&#1074;&#1089;&#1082;&#1080;&#1081;,_&#1048;&#1074;&#1072;&#1085;_&#1055;&#1072;&#1074;&#1083;&#1086;&#1074;&#1080;&#1095;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ОТ ФЕВРАЛЯ К ОКТЯБРЮ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2" name="Рисунок 2" descr="russian_revolution_soldiers.jpg"/>
          <p:cNvPicPr/>
          <p:nvPr/>
        </p:nvPicPr>
        <p:blipFill>
          <a:blip r:embed="rId1"/>
          <a:stretch/>
        </p:blipFill>
        <p:spPr>
          <a:xfrm>
            <a:off x="2057400" y="1447920"/>
            <a:ext cx="6872400" cy="3930480"/>
          </a:xfrm>
          <a:prstGeom prst="rect">
            <a:avLst/>
          </a:prstGeom>
          <a:ln w="0">
            <a:noFill/>
          </a:ln>
        </p:spPr>
      </p:pic>
      <p:sp>
        <p:nvSpPr>
          <p:cNvPr id="353" name="TextBox 1"/>
          <p:cNvSpPr/>
          <p:nvPr/>
        </p:nvSpPr>
        <p:spPr>
          <a:xfrm>
            <a:off x="609480" y="58672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нова Валентина Михайловна, учитель истории ЦО № 77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Мос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-571680"/>
            <a:ext cx="754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БОЛЬШЕВИК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актика – давление на правительство; высоко ценили сделанные уже шаги по демократизации общества; в курсе на социалистическую революцию видели опасность забегания вперёд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урс на революци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6 июля – 3 августа –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VI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 съезд  РСДРП(б)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Авторитет Ленина взял верх. Съезд призвал всех большевиков строиться в боевые колонн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505440" y="1038600"/>
            <a:ext cx="3561120" cy="893880"/>
          </a:xfrm>
          <a:prstGeom prst="rect">
            <a:avLst/>
          </a:prstGeom>
          <a:solidFill>
            <a:srgbClr val="ffe636"/>
          </a:solidFill>
          <a:ln w="0">
            <a:noFill/>
          </a:ln>
        </p:spPr>
        <p:txBody>
          <a:bodyPr anchor="ctr">
            <a:normAutofit fontScale="6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Century Schoolbook"/>
              </a:rPr>
              <a:t>Умеренное крыл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(Каменев, Зиновьев, Калинин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402440" y="973440"/>
            <a:ext cx="4300920" cy="1100520"/>
          </a:xfrm>
          <a:prstGeom prst="rect">
            <a:avLst/>
          </a:prstGeom>
          <a:solidFill>
            <a:srgbClr val="ffe636"/>
          </a:solidFill>
          <a:ln w="0">
            <a:noFill/>
          </a:ln>
        </p:spPr>
        <p:txBody>
          <a:bodyPr anchor="ctr">
            <a:normAutofit fontScale="8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Century Schoolbook"/>
              </a:rPr>
              <a:t>Сторонники восстания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(Ленин, Сталин, Бухарин, Свердлов, Троцкий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ПРОГРАММА Л.Г.КОРНИЛОВ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екращение вмешательства государства  в экономические и социальные дел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мобилизация 4 млн. солдат с выделением каждому по 8 десятин земли для создания верной опоры правительству в деревн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становление в России новой формы правления путём создания Совета народной обороны и коалиционного правительства при нё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Прямоугольник 1"/>
          <p:cNvSpPr/>
          <p:nvPr/>
        </p:nvSpPr>
        <p:spPr>
          <a:xfrm>
            <a:off x="4572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рнилов должен был казнён; но когда это случится, приду на могилу, принесу цветы и преклоню колена перед русским патриотом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(Керен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2"/>
          <p:cNvSpPr/>
          <p:nvPr/>
        </p:nvSpPr>
        <p:spPr>
          <a:xfrm>
            <a:off x="457200" y="167652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d2611c"/>
                </a:solidFill>
                <a:uFillTx/>
                <a:latin typeface="Arial"/>
                <a:hlinkClick r:id="rId1"/>
              </a:rPr>
              <a:t>Генерал Роман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один из генералов, арестованных вместе с генералом Корниловым — говорил впоследствии: «Могут расстрелять Корнилова, отправить на каторгу его соучастников, но „корниловщина“ в России не погибнет, так как „корниловщина“ — это любовь к Родине, желание спасти Россию, а эти высокие побуждения не забросать никакой грязью, не втоптать никаким ненавистникам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3"/>
          <p:cNvSpPr/>
          <p:nvPr/>
        </p:nvSpPr>
        <p:spPr>
          <a:xfrm>
            <a:off x="3809880" y="48006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 Корниловым можно и нужно не соглашаться. Но то, что этот белый генерал был порядочным человеком, хорошим разведчиком и несомненным героем, забывать нельзя» (И. В. Стали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2"/>
          <a:stretch/>
        </p:blipFill>
        <p:spPr>
          <a:xfrm>
            <a:off x="5486400" y="0"/>
            <a:ext cx="32767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-30528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030a0"/>
                </a:solidFill>
                <a:latin typeface="Century Schoolbook"/>
              </a:rPr>
              <a:t>КРИЗИС ВЛАСТИ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142640"/>
            <a:ext cx="3657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 сентября ВЦИК провозгласил Россию республик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 сентября – исп.власть вручена Директории (6 человек во главе с Керенским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 октября – Предпарламент –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емократический Совет  республики – законосовещательный орган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рмия перестала служить опорой государственной власти (дезертирство, братания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исло  бастующих рабочих выросло в 7-8 раз по ср. с весн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рестьянские выступления: май – 3 тыс., октябрь – более 5 тыс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Century Schoolbook"/>
              </a:rPr>
              <a:t>Н.А.БЕРДЯЕВ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80880" y="198432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овое либеральное правительство, которое пришло на смену после февральского переворота, провозгласило отвлечённые гуманные принципы, отвлечённые начала права, в которых не было никакой организующей силы, не было энергии заражающей массы… В революционную эпоху побеждают люди крайних принципов, склонные и способные к диктатуре,….которая только могла остановить процесс окончательного разлож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.ЛЕНИН В ПОДПОЛЬЕ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2" name="Рисунок 2" descr="lenin_photo2.jpg"/>
          <p:cNvPicPr/>
          <p:nvPr/>
        </p:nvPicPr>
        <p:blipFill>
          <a:blip r:embed="rId1"/>
          <a:stretch/>
        </p:blipFill>
        <p:spPr>
          <a:xfrm>
            <a:off x="3381480" y="2152800"/>
            <a:ext cx="332244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РЕШЕНИЯ СЪЕЗДА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304560" y="14479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Декрет о мире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: выход России из войны, обращение ко всем воюющим народам о мире без аннексий и контрибуц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Декрет о земле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: национализация всей земл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Декрет о власти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5" name="Рисунок 3" descr="izvestia_russian_revolution_newspaper.jpg"/>
          <p:cNvPicPr/>
          <p:nvPr/>
        </p:nvPicPr>
        <p:blipFill>
          <a:blip r:embed="rId1"/>
          <a:stretch/>
        </p:blipFill>
        <p:spPr>
          <a:xfrm>
            <a:off x="6400800" y="3289320"/>
            <a:ext cx="2438280" cy="3559320"/>
          </a:xfrm>
          <a:prstGeom prst="rect">
            <a:avLst/>
          </a:prstGeom>
          <a:ln w="0">
            <a:noFill/>
          </a:ln>
        </p:spPr>
      </p:pic>
      <p:pic>
        <p:nvPicPr>
          <p:cNvPr id="406" name="Рисунок 4" descr="revolution-newspaper.jpg"/>
          <p:cNvPicPr/>
          <p:nvPr/>
        </p:nvPicPr>
        <p:blipFill>
          <a:blip r:embed="rId2"/>
          <a:stretch/>
        </p:blipFill>
        <p:spPr>
          <a:xfrm>
            <a:off x="3646440" y="3352680"/>
            <a:ext cx="25941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ВЛАСТ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ЦИК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Л.Б.Каменев, Я.М.Свердлов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02 чел.: 62 большевика, 29 эсеров, 6 соц.-де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сероссийский съезд Совет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вет Народных Комиссаров (СНК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.И.Ленин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ременное правительство – до Учр.собр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Законодательна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Исполнительная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Century Schoolbook"/>
              </a:rPr>
              <a:t>РЕАЛЬНО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крет о мир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крет о земл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крет о власт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269960" y="1600200"/>
            <a:ext cx="4264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ражданская войн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олод начала 20-х гг., людоедств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иктатура парт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Стрелка вправо с вырезом 4"/>
          <p:cNvSpPr/>
          <p:nvPr/>
        </p:nvSpPr>
        <p:spPr>
          <a:xfrm>
            <a:off x="3352680" y="1752480"/>
            <a:ext cx="838440" cy="304920"/>
          </a:xfrm>
          <a:custGeom>
            <a:avLst/>
            <a:gdLst>
              <a:gd name="textAreaLeft" fmla="*/ 75960 w 838440"/>
              <a:gd name="textAreaRight" fmla="*/ 762480 w 8384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673" y="5400"/>
                </a:lnTo>
                <a:lnTo>
                  <a:pt x="17673" y="0"/>
                </a:lnTo>
                <a:lnTo>
                  <a:pt x="21600" y="10800"/>
                </a:lnTo>
                <a:lnTo>
                  <a:pt x="17673" y="21600"/>
                </a:lnTo>
                <a:lnTo>
                  <a:pt x="17673" y="16200"/>
                </a:lnTo>
                <a:lnTo>
                  <a:pt x="0" y="16200"/>
                </a:lnTo>
                <a:lnTo>
                  <a:pt x="196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Стрелка вправо с вырезом 5"/>
          <p:cNvSpPr/>
          <p:nvPr/>
        </p:nvSpPr>
        <p:spPr>
          <a:xfrm>
            <a:off x="3200400" y="2666880"/>
            <a:ext cx="990720" cy="228600"/>
          </a:xfrm>
          <a:custGeom>
            <a:avLst/>
            <a:gdLst>
              <a:gd name="textAreaLeft" fmla="*/ 56880 w 990720"/>
              <a:gd name="textAreaRight" fmla="*/ 933840 w 9907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9108" y="5400"/>
                </a:lnTo>
                <a:lnTo>
                  <a:pt x="19108" y="0"/>
                </a:lnTo>
                <a:lnTo>
                  <a:pt x="21600" y="10800"/>
                </a:lnTo>
                <a:lnTo>
                  <a:pt x="19108" y="21600"/>
                </a:lnTo>
                <a:lnTo>
                  <a:pt x="19108" y="16200"/>
                </a:lnTo>
                <a:lnTo>
                  <a:pt x="0" y="16200"/>
                </a:lnTo>
                <a:lnTo>
                  <a:pt x="1246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Стрелка вправо с вырезом 6"/>
          <p:cNvSpPr/>
          <p:nvPr/>
        </p:nvSpPr>
        <p:spPr>
          <a:xfrm>
            <a:off x="3352680" y="3505320"/>
            <a:ext cx="914400" cy="228600"/>
          </a:xfrm>
          <a:custGeom>
            <a:avLst/>
            <a:gdLst>
              <a:gd name="textAreaLeft" fmla="*/ 56880 w 914400"/>
              <a:gd name="textAreaRight" fmla="*/ 857520 w 9144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900" y="5400"/>
                </a:ln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18900" y="16200"/>
                </a:lnTo>
                <a:lnTo>
                  <a:pt x="0" y="16200"/>
                </a:lnTo>
                <a:lnTo>
                  <a:pt x="13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Century Schoolbook"/>
              </a:rPr>
              <a:t>ОЦЕНКА </a:t>
            </a:r>
            <a:r>
              <a:rPr b="0" lang="en-US" sz="3000" spc="-1" strike="noStrike">
                <a:solidFill>
                  <a:srgbClr val="7030a0"/>
                </a:solidFill>
                <a:latin typeface="Century Schoolbook"/>
              </a:rPr>
              <a:t>II</a:t>
            </a:r>
            <a:r>
              <a:rPr b="0" lang="ru-RU" sz="3000" spc="-1" strike="noStrike">
                <a:solidFill>
                  <a:srgbClr val="7030a0"/>
                </a:solidFill>
                <a:latin typeface="Century Schoolbook"/>
              </a:rPr>
              <a:t> СЪЕЗДА ИСПАНСКИМ ФИЛОСОФОМ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МУГУЭЛЬ ДЕ УКАУМА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6840" y="22096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Облик правды грозен, народ нуждался в мифах. Большевики дали народу иллюзию мира, земли, хлеба»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ЛАН ИЗУЧЕНИЯ ТЕМЫ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чины революц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пытки спасти монархи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преддверии революц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еакция цар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371480" y="2362320"/>
            <a:ext cx="416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од событий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8-27 февраля, действия царя, тактика думце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8637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fe8637"/>
                </a:solidFill>
                <a:latin typeface="Arial"/>
              </a:rPr>
              <a:t>6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тоги февральской революции, ликвидация монархии 2 марта 1917 г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8637"/>
                </a:solidFill>
                <a:latin typeface="Arial"/>
              </a:rPr>
              <a:t>7</a:t>
            </a:r>
            <a:r>
              <a:rPr b="0" lang="ru-RU" sz="2400" spc="-1" strike="noStrike">
                <a:solidFill>
                  <a:srgbClr val="fe8637"/>
                </a:solidFill>
                <a:latin typeface="Century Schoolbook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уть двоевласт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8637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fe8637"/>
                </a:solidFill>
                <a:latin typeface="Century Schoolbook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лит.партии от февраля к октябр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8637"/>
                </a:solidFill>
                <a:latin typeface="Arial"/>
              </a:rPr>
              <a:t>9</a:t>
            </a:r>
            <a:r>
              <a:rPr b="0" lang="ru-RU" sz="2400" spc="-1" strike="noStrike">
                <a:solidFill>
                  <a:srgbClr val="fe8637"/>
                </a:solidFill>
                <a:latin typeface="Century Schoolbook"/>
              </a:rPr>
              <a:t>.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ризисы Временного правитель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ъезд Советов 3-27 июн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III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 СЪЕЗД СОВЕТОВ – 10 ЯНВАРЯ 1918 Г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нятие декларации прав трудящегося и эксплуатируемого народ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оссия        РСФСР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мысл термина «Советская власть»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к.власть – Съезд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совет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п.власть –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Совет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народных комиссар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3" name="Стрелка вправо с вырезом 4"/>
          <p:cNvSpPr/>
          <p:nvPr/>
        </p:nvSpPr>
        <p:spPr>
          <a:xfrm>
            <a:off x="1828800" y="3276720"/>
            <a:ext cx="533520" cy="198360"/>
          </a:xfrm>
          <a:custGeom>
            <a:avLst/>
            <a:gdLst>
              <a:gd name="textAreaLeft" fmla="*/ 49320 w 533520"/>
              <a:gd name="textAreaRight" fmla="*/ 484200 w 533520"/>
              <a:gd name="textAreaTop" fmla="*/ 49680 h 198360"/>
              <a:gd name="textAreaBottom" fmla="*/ 149040 h 198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582" y="5400"/>
                </a:lnTo>
                <a:lnTo>
                  <a:pt x="17582" y="0"/>
                </a:lnTo>
                <a:lnTo>
                  <a:pt x="21600" y="10800"/>
                </a:lnTo>
                <a:lnTo>
                  <a:pt x="17582" y="21600"/>
                </a:lnTo>
                <a:lnTo>
                  <a:pt x="17582" y="16200"/>
                </a:lnTo>
                <a:lnTo>
                  <a:pt x="0" y="16200"/>
                </a:lnTo>
                <a:lnTo>
                  <a:pt x="200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ДОМАШНЕЕ ЗАДАНИЕ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§15, вопрос 1 – письм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з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.5 выписать первые мероприятия Советской власт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прос среди родственников(письм.)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 Какие имена участников событий помнят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 Какую оценку дадут событиям октября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761760" y="7621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fotki.yandex.ru/users/ben-de/view/439871/?page=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dic.academic.ru/dic.nsf/bse/82800/%D0%94%D0%B2%D0%BE%D0%B5%D0%B2%D0%BB%D0%B0%D1%81%D1%82%D0%B8%D0%B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www.oldhat.ru/20vek/101.ht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law.edu.ru/article/article.asp?articleID=112822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dic.academic.ru/dic.nsf/sie/10830/%D0%9C%D0%95%D0%9D%D0%AC%D0%A8%D0%95%D0%92%D0%98%D0%97%D0%9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ru.wikipedia.org/wiki/%C1%F0%F3%F1%E8%EB%EE%E2,_%C0%EB%E5%EA%F1%E5%E9_%C0%EB%E5%EA%F1%E5%E5%E2%E8%F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ДВОЕВЛАСТИЕ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(С 27 ФЕВРАЛЯ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51920" y="213336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Временное» – до созыва Учр.собрания (сент., но отлож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держка:бурж.,интел.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асть помещи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Продолжение войны до победы, отказ ввести 8-ч.раб.день; обещание широких демокр.  свобод, Закон об охране посев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н.Г.Е.Львов, А.Ф.Керенски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0" y="21333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держка: рабочие, часть интел., крестьян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ребования: 8-ч.раб. дня, введения раб. контроля, земля-крестьянам, фабрики-рабочи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каз №1 – полит. права солдата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.С.Чхеидзе, М.И.Скобеле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23000" y="1261440"/>
            <a:ext cx="3573360" cy="78408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 fontScale="94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ременное правительств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34200" y="1257840"/>
            <a:ext cx="3580560" cy="71496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 fontScale="92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етроградский сов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Рисунок 1" descr="Приказ.jpg"/>
          <p:cNvPicPr/>
          <p:nvPr/>
        </p:nvPicPr>
        <p:blipFill>
          <a:blip r:embed="rId1"/>
          <a:stretch/>
        </p:blipFill>
        <p:spPr>
          <a:xfrm>
            <a:off x="2490840" y="0"/>
            <a:ext cx="4062240" cy="66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ПОЛИТИЧЕСКИЕ ПАРТИИ ОТ ФЕВРАЛЯ К ОКТЯБРЮ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25905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сущные вопросы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ношение к войн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прос о земл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прос о власт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343400" y="32763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тобы иметь успех, партия должна быть популистской и многочисленн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8960" y="1496880"/>
            <a:ext cx="3940560" cy="9115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 fontScale="7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Правые партии: Союз рус народа, Союз Михаила Архангел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766400" y="1566000"/>
            <a:ext cx="3573360" cy="78408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Прекратили свою деятельност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70" name="Прямая со стрелкой 7"/>
          <p:cNvCxnSpPr>
            <a:stCxn id="368" idx="3"/>
            <a:endCxn id="369" idx="1"/>
          </p:cNvCxnSpPr>
          <p:nvPr/>
        </p:nvCxnSpPr>
        <p:spPr>
          <a:xfrm>
            <a:off x="4038120" y="1952640"/>
            <a:ext cx="686520" cy="720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arrow" w="med"/>
          </a:ln>
        </p:spPr>
      </p:cxnSp>
      <p:sp>
        <p:nvSpPr>
          <p:cNvPr id="371" name="TextBox 8"/>
          <p:cNvSpPr/>
          <p:nvPr/>
        </p:nvSpPr>
        <p:spPr>
          <a:xfrm>
            <a:off x="914400" y="525780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Лидеры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адетов – П.Н.Милю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серов – В.М.Чернов, Н.Д.Авксентье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ньшевиков – И.Г.Церетели, Ф.И.Да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евиков – В.И.Лен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304920" y="228600"/>
          <a:ext cx="8839080" cy="6534000"/>
        </p:xfrm>
        <a:graphic>
          <a:graphicData uri="http://schemas.openxmlformats.org/drawingml/2006/table">
            <a:tbl>
              <a:tblPr/>
              <a:tblGrid>
                <a:gridCol w="2946240"/>
                <a:gridCol w="2946600"/>
                <a:gridCol w="294624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ав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598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Цен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598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ев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598d9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аде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авые эсеры и  меньшев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евые эсеры и большев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</a:tr>
              <a:tr h="562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70 тыс.- 100 тыс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дея длительной эволюции страны по западному образцу на парламентской основ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а республи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война – до побе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оссия – едина и недели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грарный вопрос – после окончания вой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800 тыс.    200 тыс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ойна до побе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рев. оборончеств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се вопросы – до Учр.собрания после вой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гр.: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оциализация земли(ПСР), муниципализация (мен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ласть Временному правительств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25 тыс. (конспираци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Через 2 мес. – 100 тыс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енин – из эмиграции в апреле, страна его не знает, он выдвинул программу –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прельские тезис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ыход из вой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ационализация земли, передача её крестьян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иктатура пролетари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«Вся власть Советам!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</a:tr>
            </a:tbl>
          </a:graphicData>
        </a:graphic>
      </p:graphicFrame>
      <p:sp>
        <p:nvSpPr>
          <p:cNvPr id="373" name="TextBox 3"/>
          <p:cNvSpPr/>
          <p:nvPr/>
        </p:nvSpPr>
        <p:spPr>
          <a:xfrm>
            <a:off x="1676520" y="601992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entury Schoolbook"/>
              </a:rPr>
              <a:t>За кем пойдёт наро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Arial"/>
              </a:rPr>
              <a:t>Запишите определения терминов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Революционное оборончество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– продолжение войны в целях защиты революции и демократических свобод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Социализация земли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– ликвидация частной собственности на землю,  превращение её в общенародное достояние с наделением крестьян землёй без права купли-продаж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Муниципализация земли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– передача земли в распоряжение местных органов  самоуправления для последующего распределения пользователя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ЛАН ИЗУЧЕНИЯ ТЕМЫ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Итоги  июньского наступл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Последствия пораж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Июльский кризис власти, его итог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Дальнейшие действия большеви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Корниловский мятеж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Кризис власти, создание новых властных структур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Октябрьское вооружённое воссстани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Второй Всероссийский съезд Совет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030a0"/>
                </a:solidFill>
                <a:latin typeface="Century Schoolbook"/>
              </a:rPr>
              <a:t>ПОСЛЕДСТВИЯ ПОРАЖЕНИЯ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22860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евые радикалы объявили об отсутствии доверия к Временному правительству, строят планы по захвату вла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22860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атриотические круги поняли, что для подъёма боеспособности  армии необходимо подавить разрушительные силы, в первую очередь, большеви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82" name="Прямая со стрелкой 7"/>
          <p:cNvCxnSpPr/>
          <p:nvPr/>
        </p:nvCxnSpPr>
        <p:spPr>
          <a:xfrm flipH="1">
            <a:off x="2133000" y="1371600"/>
            <a:ext cx="686520" cy="991440"/>
          </a:xfrm>
          <a:prstGeom prst="straightConnector1">
            <a:avLst/>
          </a:prstGeom>
          <a:ln w="4140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383" name="Прямая со стрелкой 9"/>
          <p:cNvCxnSpPr>
            <a:stCxn id="379" idx="2"/>
          </p:cNvCxnSpPr>
          <p:nvPr/>
        </p:nvCxnSpPr>
        <p:spPr>
          <a:xfrm>
            <a:off x="4191120" y="1417680"/>
            <a:ext cx="1219680" cy="945360"/>
          </a:xfrm>
          <a:prstGeom prst="straightConnector1">
            <a:avLst/>
          </a:prstGeom>
          <a:ln w="41400">
            <a:solidFill>
              <a:srgbClr val="ff6903"/>
            </a:solidFill>
            <a:miter/>
            <a:tailEnd len="med" type="triangle" w="med"/>
          </a:ln>
        </p:spPr>
      </p:cxnSp>
      <p:pic>
        <p:nvPicPr>
          <p:cNvPr id="384" name="Рисунок 6" descr="Brusilov_in_1917.jpg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0-17T13:45:19Z</dcterms:modified>
  <cp:revision>42</cp:revision>
  <dc:subject/>
  <dc:title>Февральская революция.</dc:title>
</cp:coreProperties>
</file>