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ACFA-8E5F-4FAF-81DE-210A2FE6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E341-263B-4713-8A59-DEF1FE2A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2DF1-706A-4AD3-A8FF-3E975D43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9757-0065-47A2-A4E0-C132BF41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D523-C3FF-49D7-A217-C452AEB4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C5EC-7E61-4E27-A99A-3611C102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DE78-D4C3-4681-8E65-95F50148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2CD4-F027-482F-8E49-BA1BC882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717E-B0CE-4234-827B-95FA990A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EB13-5D5E-4526-BAF0-B20A03FF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B9EA-951E-4FEA-8350-B92EFF27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EC23-BEF3-47DB-A6E8-2A8452CC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B645-9A05-41A9-9A0A-4B7C1586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9E97-68AF-43DE-A52C-B3616768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166C-E173-4C9C-949A-1918BF6E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B137-DD80-4888-8B5D-6FF8E9A5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0EFE-33B3-4FAC-8B68-E93918C0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A3F3C1-8874-430B-99A1-DA0EBDA8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582D14-A7B2-42B7-89D1-1B1C1876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203F78-80BC-4A7B-9F39-6AE7756B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C1AD8C-9AAD-4E7C-B3EE-336211F4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CBAF4E-140E-4A28-BF21-5E7CE05D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5449-594E-4576-AA29-B6BAC9DB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6CFC56-0B74-4B9F-9417-531C91FB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1C5022-D1AE-4EC2-94CE-FEACED84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90F567-FE4A-4959-A4FD-BCCD8AF1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4CE883-BFB2-4FAF-BA31-DC5D4CD2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92B6E-B6A4-4AEE-ADF8-E36552C7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8C6DFD-6D50-451C-B119-153958FA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08243-CBE6-448D-A891-4FD4AF53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3C97C-70FF-4646-BF43-3B8D8488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C66E6-6E5A-4F08-A80D-F3EDCCAC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B872E-728A-4DC1-9F95-3A170E8B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C2C1-A74A-4B42-B061-5E7ABE7D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92B90-D129-4689-9F4E-4D39D354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EDC26-B4B2-4BBA-A191-1481FACF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4F628-B323-4A26-A15A-0265BB29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039DF-28BD-46F7-8AD5-39AB8B2E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CC3DA-7063-4358-A2E9-31279B2C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DFBD4-25AB-4CA5-B06D-8C7AA702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AE29D-B9C9-4249-96FF-D94863B2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2A529-818D-4DB1-9B91-B769C9E8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99EA8-F900-4D6B-A985-239E3348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C19949-20E6-4EBA-80C0-AB9DD4C55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2E0D-0117-4A9E-B509-E4B06481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05E314-660B-4C7B-A447-725EB5DD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A9978-B91D-4B35-A168-8905ABB7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122E89-698A-4F80-9999-4656BE0B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1C626F-40A8-4B9A-87C7-24A67A5B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41FAB6-C42D-43C5-93D7-35E21CAA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90CD64-6B18-4542-85F9-98BFBE47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38CB7B-084F-45CF-8634-057E5537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77BFF0-AB9F-43FE-BBC4-69BE35BD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111192-C3A8-4563-8783-F09F8F30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2DC687-1E55-4FD7-8230-C1FCB597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42E-F936-4E09-ACC8-831DD2AB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A0D05E-4C51-4315-BB18-BF689801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4C833A-1C80-4E87-9CAD-322434EA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B1A373-F6CE-478D-9BCF-A7FC1A5F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E99789-4E9C-4ADF-A994-1DD09BDE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624E11-3C45-493E-8E39-5352515E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B4E2DA-BAA9-43FF-A9A5-F086C7A2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187E7A-DEF2-4154-97DF-751BB6E0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D054BE-A7D9-43A5-81B5-C2B1C439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C56246-2A1E-4E5A-91B8-EA57EAAA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AE6F7C-3434-40B9-A0E4-D8C1FC12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B8F4-836A-423C-A78F-22F52EFF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8C41BF-21AF-400D-AE2F-702E1C2B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1D82A6-F0B6-4DA9-B258-FBE85D85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F61EE5-2B74-490A-A2DE-CE8DCDCD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97709C-408B-49F5-8F31-0D302D92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5C1D52-E55E-4BA5-A211-08909191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6DD5CD-C9C3-4045-A66F-DAF4212A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BE9595-DB57-4625-B36F-36B247F5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2DA84F-3E1F-4468-90AC-2B686499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E61E46-4846-4D36-806C-9CB85236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F50246-0175-4741-A6DA-388E5249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F45B-6D0F-4504-948B-6AA108FF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03B1EB-5138-4F6C-AAEF-21F48424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E92AF8-DD83-4C3E-8A10-DE36E280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317C74-67AB-45B9-8B58-8B05477C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9D9631-0E41-44D8-8544-9F1698CB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C871B4-47D1-4997-9297-5568D1D0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2E20-F835-4372-A282-C17D373E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49FC-D84F-46ED-BD1B-A4DA912DA77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3781-5DDA-4ABB-BEC6-C0252178896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311F-C1DE-456E-A3E8-96E66D7798B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FD27-2B1C-49D0-9AA4-CD6DEBC205F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3393-A05A-4E8C-A099-501D7EDCAE9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356A-17E5-48C9-9BC3-577672952B0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696E-415C-4E3C-B8B0-CB99192612C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86;&#1084;&#1072;&#1085;&#1086;&#1074;&#1089;&#1082;&#1080;&#1081;,_&#1048;&#1074;&#1072;&#1085;_&#1055;&#1072;&#1074;&#1083;&#1086;&#1074;&#1080;&#1095;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ОТ ФЕВРАЛЯ К ОКТЯБРЮ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Рисунок 2" descr="russian_revolution_soldiers.jpg"/>
          <p:cNvPicPr/>
          <p:nvPr/>
        </p:nvPicPr>
        <p:blipFill>
          <a:blip r:embed="rId1"/>
          <a:stretch/>
        </p:blipFill>
        <p:spPr>
          <a:xfrm>
            <a:off x="2057400" y="1447920"/>
            <a:ext cx="6872400" cy="39304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1"/>
          <p:cNvSpPr/>
          <p:nvPr/>
        </p:nvSpPr>
        <p:spPr>
          <a:xfrm>
            <a:off x="609480" y="5867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нова Валентина Михайловна, учитель истории ЦО № 77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-571680"/>
            <a:ext cx="754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БОЛЬШЕВИК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ктика – давление на правительство; высоко ценили сделанные уже шаги по демократизации общества; в курсе на социалистическую революцию видели опасность забегания вперё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урс на революц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6 июля – 3 августа –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V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съезд  РСДРП(б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Авторитет Ленина взял верх. Съезд призвал всех большевиков строиться в боевые колон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05440" y="1038600"/>
            <a:ext cx="3561120" cy="893880"/>
          </a:xfrm>
          <a:prstGeom prst="rect">
            <a:avLst/>
          </a:prstGeom>
          <a:solidFill>
            <a:srgbClr val="ffe636"/>
          </a:solidFill>
          <a:ln w="0">
            <a:noFill/>
          </a:ln>
        </p:spPr>
        <p:txBody>
          <a:bodyPr anchor="ctr">
            <a:normAutofit fontScale="6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entury Schoolbook"/>
              </a:rPr>
              <a:t>Умеренное крыл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(Каменев, Зиновьев, Калинин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402440" y="973440"/>
            <a:ext cx="4300920" cy="1100520"/>
          </a:xfrm>
          <a:prstGeom prst="rect">
            <a:avLst/>
          </a:prstGeom>
          <a:solidFill>
            <a:srgbClr val="ffe636"/>
          </a:solidFill>
          <a:ln w="0">
            <a:noFill/>
          </a:ln>
        </p:spPr>
        <p:txBody>
          <a:bodyPr anchor="ctr">
            <a:normAutofit fontScale="8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entury Schoolbook"/>
              </a:rPr>
              <a:t>Сторонники восст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(Ленин, Сталин, Бухарин, Свердлов, Троцкий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ПРОГРАММА Л.Г.КОРНИЛОВ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кращение вмешательства государства  в экономические и социальные дел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мобилизация 4 млн. солдат с выделением каждому по 8 десятин земли для создания верной опоры правительству в дерев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тановление в России новой формы правления путём создания Совета народной обороны и коалиционного правительства при нё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ик 1"/>
          <p:cNvSpPr/>
          <p:nvPr/>
        </p:nvSpPr>
        <p:spPr>
          <a:xfrm>
            <a:off x="4572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рнилов должен был казнён; но когда это случится, приду на могилу, принесу цветы и преклоню колена перед русским патриотом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Кере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"/>
          <p:cNvSpPr/>
          <p:nvPr/>
        </p:nvSpPr>
        <p:spPr>
          <a:xfrm>
            <a:off x="457200" y="16765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Генерал Роман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дин из генералов, арестованных вместе с генералом Корниловым — говорил впоследствии: «Могут расстрелять Корнилова, отправить на каторгу его соучастников, но „корниловщина“ в России не погибнет, так как „корниловщина“ — это любовь к Родине, желание спасти Россию, а эти высокие побуждения не забросать никакой грязью, не втоптать никаким ненавистникам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3"/>
          <p:cNvSpPr/>
          <p:nvPr/>
        </p:nvSpPr>
        <p:spPr>
          <a:xfrm>
            <a:off x="3809880" y="48006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 Корниловым можно и нужно не соглашаться. Но то, что этот белый генерал был порядочным человеком, хорошим разведчиком и несомненным героем, забывать нельзя» (И. В. Стали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5486400" y="0"/>
            <a:ext cx="32767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Century Schoolbook"/>
              </a:rPr>
              <a:t>КРИЗИС ВЛАСТ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1426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сентября ВЦИК провозгласил Россию республик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 сентября – исп.власть вручена Директории (6 человек во главе с Керенским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 октября – Предпарламент –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емократический Совет  республики – законосовещательный орган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рмия перестала служить опорой государственной власти (дезертирство, братания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исло  бастующих рабочих выросло в 7-8 раз по ср. с весн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естьянские выступления: май – 3 тыс., октябрь – более 5 ты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Н.А.БЕРДЯЕВ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880" y="19843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овое либеральное правительство, которое пришло на смену после февральского переворота, провозгласило отвлечённые гуманные принципы, отвлечённые начала права, в которых не было никакой организующей силы, не было энергии заражающей массы… В революционную эпоху побеждают люди крайних принципов, склонные и способные к диктатуре,….которая только могла остановить процесс окончательного разлож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.ЛЕНИН В ПОДПОЛЬ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2" name="Рисунок 2" descr="lenin_photo2.jpg"/>
          <p:cNvPicPr/>
          <p:nvPr/>
        </p:nvPicPr>
        <p:blipFill>
          <a:blip r:embed="rId1"/>
          <a:stretch/>
        </p:blipFill>
        <p:spPr>
          <a:xfrm>
            <a:off x="3381480" y="2152800"/>
            <a:ext cx="33224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ЕШЕНИЯ СЪЕЗДА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4560" y="1447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мир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выход России из войны, обращение ко всем воюющим народам о мире без аннексий и контрибуц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земл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национализация всей земл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власт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5" name="Рисунок 3" descr="izvestia_russian_revolution_newspaper.jpg"/>
          <p:cNvPicPr/>
          <p:nvPr/>
        </p:nvPicPr>
        <p:blipFill>
          <a:blip r:embed="rId1"/>
          <a:stretch/>
        </p:blipFill>
        <p:spPr>
          <a:xfrm>
            <a:off x="6400800" y="3289320"/>
            <a:ext cx="2438280" cy="355932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4" descr="revolution-newspaper.jpg"/>
          <p:cNvPicPr/>
          <p:nvPr/>
        </p:nvPicPr>
        <p:blipFill>
          <a:blip r:embed="rId2"/>
          <a:stretch/>
        </p:blipFill>
        <p:spPr>
          <a:xfrm>
            <a:off x="3646440" y="3352680"/>
            <a:ext cx="25941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ЛА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ЦИ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Л.Б.Каменев, Я.М.Свердлов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02 чел.: 62 большевика, 29 эсеров, 6 соц.-д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российский съезд Совет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вет Народных Комиссаров (СНК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.И.Лени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ременное правительство – до Учр.собр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Законодательна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Исполнительна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РЕАЛЬНО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мир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земл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вла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269960" y="1600200"/>
            <a:ext cx="4264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ажданская вой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лод начала 20-х гг., людоедств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иктатура парт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Стрелка вправо с вырезом 4"/>
          <p:cNvSpPr/>
          <p:nvPr/>
        </p:nvSpPr>
        <p:spPr>
          <a:xfrm>
            <a:off x="3352680" y="1752480"/>
            <a:ext cx="838440" cy="304920"/>
          </a:xfrm>
          <a:custGeom>
            <a:avLst/>
            <a:gdLst>
              <a:gd name="textAreaLeft" fmla="*/ 75960 w 838440"/>
              <a:gd name="textAreaRight" fmla="*/ 762480 w 8384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673" y="5400"/>
                </a:lnTo>
                <a:lnTo>
                  <a:pt x="17673" y="0"/>
                </a:lnTo>
                <a:lnTo>
                  <a:pt x="21600" y="10800"/>
                </a:lnTo>
                <a:lnTo>
                  <a:pt x="17673" y="21600"/>
                </a:lnTo>
                <a:lnTo>
                  <a:pt x="17673" y="16200"/>
                </a:lnTo>
                <a:lnTo>
                  <a:pt x="0" y="16200"/>
                </a:lnTo>
                <a:lnTo>
                  <a:pt x="196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Стрелка вправо с вырезом 5"/>
          <p:cNvSpPr/>
          <p:nvPr/>
        </p:nvSpPr>
        <p:spPr>
          <a:xfrm>
            <a:off x="3200400" y="2666880"/>
            <a:ext cx="990720" cy="228600"/>
          </a:xfrm>
          <a:custGeom>
            <a:avLst/>
            <a:gdLst>
              <a:gd name="textAreaLeft" fmla="*/ 56880 w 990720"/>
              <a:gd name="textAreaRight" fmla="*/ 93384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108" y="5400"/>
                </a:lnTo>
                <a:lnTo>
                  <a:pt x="19108" y="0"/>
                </a:lnTo>
                <a:lnTo>
                  <a:pt x="21600" y="10800"/>
                </a:lnTo>
                <a:lnTo>
                  <a:pt x="19108" y="21600"/>
                </a:lnTo>
                <a:lnTo>
                  <a:pt x="19108" y="16200"/>
                </a:lnTo>
                <a:lnTo>
                  <a:pt x="0" y="16200"/>
                </a:lnTo>
                <a:lnTo>
                  <a:pt x="124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Стрелка вправо с вырезом 6"/>
          <p:cNvSpPr/>
          <p:nvPr/>
        </p:nvSpPr>
        <p:spPr>
          <a:xfrm>
            <a:off x="3352680" y="3505320"/>
            <a:ext cx="914400" cy="228600"/>
          </a:xfrm>
          <a:custGeom>
            <a:avLst/>
            <a:gdLst>
              <a:gd name="textAreaLeft" fmla="*/ 56880 w 914400"/>
              <a:gd name="textAreaRight" fmla="*/ 857520 w 9144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900" y="5400"/>
                </a:ln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18900" y="16200"/>
                </a:lnTo>
                <a:lnTo>
                  <a:pt x="0" y="16200"/>
                </a:lnTo>
                <a:lnTo>
                  <a:pt x="13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ОЦЕНКА </a:t>
            </a:r>
            <a:r>
              <a:rPr b="0" lang="en-US" sz="3000" spc="-1" strike="noStrike">
                <a:solidFill>
                  <a:srgbClr val="7030a0"/>
                </a:solidFill>
                <a:latin typeface="Century Schoolbook"/>
              </a:rPr>
              <a:t>II</a:t>
            </a: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 СЪЕЗДА ИСПАНСКИМ ФИЛОСОФОМ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МУГУЭЛЬ ДЕ УКАУМА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22096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Облик правды грозен, народ нуждался в мифах. Большевики дали народу иллюзию мира, земли, хлеба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ЛАН ИЗУЧЕНИЯ ТЕМЫ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чины револю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пытки спасти монарх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преддверии револю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акция цар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371480" y="2362320"/>
            <a:ext cx="416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событи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8-27 февраля, действия царя, тактика думце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тоги февральской революции, ликвидация монархии 2 марта 1917 г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уть двоевласт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лит.партии от февраля к октябр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изисы Временного правитель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ъезд Советов 3-27 июн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II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 СЪЕЗД СОВЕТОВ – 10 ЯНВАРЯ 1918 Г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нятие декларации прав трудящегося и эксплуатируемого народ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оссия        РСФС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мысл термина «Советская власть»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к.власть – Съезд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вет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.власть –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вет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народных комиссар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Стрелка вправо с вырезом 4"/>
          <p:cNvSpPr/>
          <p:nvPr/>
        </p:nvSpPr>
        <p:spPr>
          <a:xfrm>
            <a:off x="1828800" y="3276720"/>
            <a:ext cx="533520" cy="198360"/>
          </a:xfrm>
          <a:custGeom>
            <a:avLst/>
            <a:gdLst>
              <a:gd name="textAreaLeft" fmla="*/ 49320 w 533520"/>
              <a:gd name="textAreaRight" fmla="*/ 484200 w 533520"/>
              <a:gd name="textAreaTop" fmla="*/ 49680 h 198360"/>
              <a:gd name="textAreaBottom" fmla="*/ 149040 h 198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82" y="5400"/>
                </a:lnTo>
                <a:lnTo>
                  <a:pt x="17582" y="0"/>
                </a:lnTo>
                <a:lnTo>
                  <a:pt x="21600" y="10800"/>
                </a:lnTo>
                <a:lnTo>
                  <a:pt x="17582" y="21600"/>
                </a:lnTo>
                <a:lnTo>
                  <a:pt x="17582" y="16200"/>
                </a:lnTo>
                <a:lnTo>
                  <a:pt x="0" y="16200"/>
                </a:lnTo>
                <a:lnTo>
                  <a:pt x="200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ДОМАШНЕЕ ЗАДАНИ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§15, вопрос 1 – пись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з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.5 выписать первые мероприятия Советской власт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рос среди родственников(письм.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Какие имена участников событий помнят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Какую оценку дадут событиям октября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761760" y="7621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fotki.yandex.ru/users/ben-de/view/439871/?page=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dic.academic.ru/dic.nsf/bse/82800/%D0%94%D0%B2%D0%BE%D0%B5%D0%B2%D0%BB%D0%B0%D1%81%D1%82%D0%B8%D0%B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www.oldhat.ru/20vek/101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law.edu.ru/article/article.asp?articleID=112822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dic.academic.ru/dic.nsf/sie/10830/%D0%9C%D0%95%D0%9D%D0%AC%D0%A8%D0%95%D0%92%D0%98%D0%97%D0%9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ru.wikipedia.org/wiki/%C1%F0%F3%F1%E8%EB%EE%E2,_%C0%EB%E5%EA%F1%E5%E9_%C0%EB%E5%EA%F1%E5%E5%E2%E8%F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ДВОЕВЛАСТИЕ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(С 27 ФЕВРАЛЯ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51920" y="213336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Временное» – до созыва Учр.собрания (сент., но отлож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держка:бурж.,интел.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асть помещ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Продолжение войны до победы, отказ ввести 8-ч.раб.день; обещание широких демокр.  свобод, Закон об охране посев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н.Г.Е.Львов, А.Ф.Керенск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держка: рабочие, часть интел., крестья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ебования: 8-ч.раб. дня, введения раб. контроля, земля-крестьянам, фабрики-рабочи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каз №1 – полит. права солдата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.С.Чхеидзе, М.И.Скобеле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23000" y="1261440"/>
            <a:ext cx="3573360" cy="7840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4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ременное правительств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34200" y="1257840"/>
            <a:ext cx="3580560" cy="71496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2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етроградский сов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1" descr="Приказ.jpg"/>
          <p:cNvPicPr/>
          <p:nvPr/>
        </p:nvPicPr>
        <p:blipFill>
          <a:blip r:embed="rId1"/>
          <a:stretch/>
        </p:blipFill>
        <p:spPr>
          <a:xfrm>
            <a:off x="2490840" y="0"/>
            <a:ext cx="4062240" cy="66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ПОЛИТИЧЕСКИЕ ПАРТИИ ОТ ФЕВРАЛЯ К ОКТЯБРЮ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25905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сущные вопрос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ношение к войн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прос о земл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прос о вла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343400" y="3276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бы иметь успех, партия должна быть популистской и многочисленн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8960" y="1496880"/>
            <a:ext cx="3940560" cy="9115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7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Правые партии: Союз рус народа, Союз Михаила Арханге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766400" y="1566000"/>
            <a:ext cx="3573360" cy="7840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Прекратили свою деятельнос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0" name="Прямая со стрелкой 7"/>
          <p:cNvCxnSpPr>
            <a:stCxn id="368" idx="3"/>
            <a:endCxn id="369" idx="1"/>
          </p:cNvCxnSpPr>
          <p:nvPr/>
        </p:nvCxnSpPr>
        <p:spPr>
          <a:xfrm>
            <a:off x="4038120" y="1952640"/>
            <a:ext cx="686520" cy="72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371" name="TextBox 8"/>
          <p:cNvSpPr/>
          <p:nvPr/>
        </p:nvSpPr>
        <p:spPr>
          <a:xfrm>
            <a:off x="914400" y="52578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идер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детов – П.Н.Милю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серов – В.М.Чернов, Н.Д.Авксенть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виков – И.Г.Церетели, Ф.И.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виков – В.И.Лен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304920" y="228600"/>
          <a:ext cx="8839080" cy="6534000"/>
        </p:xfrm>
        <a:graphic>
          <a:graphicData uri="http://schemas.openxmlformats.org/drawingml/2006/table">
            <a:tbl>
              <a:tblPr/>
              <a:tblGrid>
                <a:gridCol w="2946240"/>
                <a:gridCol w="2946600"/>
                <a:gridCol w="294624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а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Цен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де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авые эсеры и  меньшев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вые эсеры и большев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</a:tr>
              <a:tr h="562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70 тыс.- 100 ты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дея длительной эволюции страны по западному образцу на парламентской осно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 республи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война – до побе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оссия – едина и недели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грарный вопрос – после окончания вой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800 тыс.    200 ты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йна до побе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рев. оборончеств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се вопросы – до Учр.собрания после вой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гр.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оциализация земли(ПСР), муниципализация (ме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ласть Временному правительств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25 тыс. (конспирац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Через 2 мес. – 100 ты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нин – из эмиграции в апреле, страна его не знает, он выдвинул программу –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прельские тезис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ыход из вой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ционализация земли, передача её крестьян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иктатура пролетари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Вся власть Советам!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</a:tr>
            </a:tbl>
          </a:graphicData>
        </a:graphic>
      </p:graphicFrame>
      <p:sp>
        <p:nvSpPr>
          <p:cNvPr id="373" name="TextBox 3"/>
          <p:cNvSpPr/>
          <p:nvPr/>
        </p:nvSpPr>
        <p:spPr>
          <a:xfrm>
            <a:off x="1676520" y="60199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За кем пойдёт нар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Arial"/>
              </a:rPr>
              <a:t>Запишите определения терминов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Революционное оборончеств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продолжение войны в целях защиты революции и демократических свобо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циализация земли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ликвидация частной собственности на землю,  превращение её в общенародное достояние с наделением крестьян землёй без права купли-продаж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Муниципализация земли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передача земли в распоряжение местных органов  самоуправления для последующего распределения пользователя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ЛАН ИЗУЧЕНИЯ ТЕМЫ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Итоги  июньского наступ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Последствия пораж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Июльский кризис власти, его итог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Дальнейшие действия большев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Корниловский мятеж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Кризис власти, создание новых властных структу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Октябрьское вооружённое воссста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Второй Всероссийский съезд Сове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Century Schoolbook"/>
              </a:rPr>
              <a:t>ПОСЛЕДСТВИЯ ПОРАЖЕНИЯ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22860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евые радикалы объявили об отсутствии доверия к Временному правительству, строят планы по захвату вла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22860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атриотические круги поняли, что для подъёма боеспособности  армии необходимо подавить разрушительные силы, в первую очередь, большев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82" name="Прямая со стрелкой 7"/>
          <p:cNvCxnSpPr/>
          <p:nvPr/>
        </p:nvCxnSpPr>
        <p:spPr>
          <a:xfrm flipH="1">
            <a:off x="2133000" y="1371600"/>
            <a:ext cx="686520" cy="991440"/>
          </a:xfrm>
          <a:prstGeom prst="straightConnector1">
            <a:avLst/>
          </a:prstGeom>
          <a:ln w="4140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83" name="Прямая со стрелкой 9"/>
          <p:cNvCxnSpPr>
            <a:stCxn id="379" idx="2"/>
          </p:cNvCxnSpPr>
          <p:nvPr/>
        </p:nvCxnSpPr>
        <p:spPr>
          <a:xfrm>
            <a:off x="4191120" y="1417680"/>
            <a:ext cx="1219680" cy="945360"/>
          </a:xfrm>
          <a:prstGeom prst="straightConnector1">
            <a:avLst/>
          </a:prstGeom>
          <a:ln w="41400">
            <a:solidFill>
              <a:srgbClr val="ff6903"/>
            </a:solidFill>
            <a:miter/>
            <a:tailEnd len="med" type="triangle" w="med"/>
          </a:ln>
        </p:spPr>
      </p:cxnSp>
      <p:pic>
        <p:nvPicPr>
          <p:cNvPr id="384" name="Рисунок 6" descr="Brusilov_in_1917.jpg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17T13:45:19Z</dcterms:modified>
  <cp:revision>42</cp:revision>
  <dc:subject/>
  <dc:title>Февральская революция.</dc:title>
</cp:coreProperties>
</file>