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CA1-F83F-47CB-9B66-2FCF756F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FDB-9B48-4F93-98B0-23111790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66C-ECF2-45F6-9601-4627BA68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C01-6C53-4C35-922C-35EC5639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5B1-B565-4CB9-807E-1F2BEB8A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18E-0BC2-49A2-AE17-611F92F0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7AE5-BC29-4675-87A4-8D90DD20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33B-DD52-45F9-9AC5-212C9C83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387-8629-4C45-BE41-A4C9F202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2635-58EF-4326-BFB2-8A9CC384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209-4AD6-4954-9DE6-5B5BD51A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E3B-AE37-48FA-A9D8-5FCA114C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B4F9-7820-4AD3-8415-398A902B6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115920" y="1852560"/>
            <a:ext cx="8717040" cy="1603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33520" y="5505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ова Валентина Михайловна, учитель истории ЦО № 775 г.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m02_01_16.jpg"/>
          <p:cNvPicPr/>
          <p:nvPr/>
        </p:nvPicPr>
        <p:blipFill>
          <a:blip r:embed="rId1"/>
          <a:stretch/>
        </p:blipFill>
        <p:spPr>
          <a:xfrm>
            <a:off x="1600200" y="2362320"/>
            <a:ext cx="4800600" cy="409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685800" y="6094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и что изображены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1430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monah.jpg"/>
          <p:cNvPicPr/>
          <p:nvPr/>
        </p:nvPicPr>
        <p:blipFill>
          <a:blip r:embed="rId1"/>
          <a:stretch/>
        </p:blipFill>
        <p:spPr>
          <a:xfrm>
            <a:off x="380880" y="0"/>
            <a:ext cx="4343400" cy="644220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2"/>
          <p:cNvSpPr/>
          <p:nvPr/>
        </p:nvSpPr>
        <p:spPr>
          <a:xfrm>
            <a:off x="4267080" y="1143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то  изображён на рисун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533520" y="990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obuhovo1_clip_image049.jpg"/>
          <p:cNvPicPr/>
          <p:nvPr/>
        </p:nvPicPr>
        <p:blipFill>
          <a:blip r:embed="rId1"/>
          <a:stretch/>
        </p:blipFill>
        <p:spPr>
          <a:xfrm>
            <a:off x="1981080" y="304920"/>
            <a:ext cx="4724640" cy="45766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609480" y="53341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десь изображены представители двух основных классов буржуазного обще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дпишите их: слева - ……., справа - ……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609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000283.jpg"/>
          <p:cNvPicPr/>
          <p:nvPr/>
        </p:nvPicPr>
        <p:blipFill>
          <a:blip r:embed="rId1"/>
          <a:stretch/>
        </p:blipFill>
        <p:spPr>
          <a:xfrm>
            <a:off x="2133720" y="533520"/>
            <a:ext cx="5276880" cy="47624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80880" y="55627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609480" y="1066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2" descr="st000_35.jpg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4"/>
          <p:cNvSpPr/>
          <p:nvPr/>
        </p:nvSpPr>
        <p:spPr>
          <a:xfrm>
            <a:off x="457200" y="5715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десь изображено? К какому общественному строю относится данное изображ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" descr="st001_23.jpg"/>
          <p:cNvPicPr/>
          <p:nvPr/>
        </p:nvPicPr>
        <p:blipFill>
          <a:blip r:embed="rId1"/>
          <a:stretch/>
        </p:blipFill>
        <p:spPr>
          <a:xfrm>
            <a:off x="2666880" y="457200"/>
            <a:ext cx="3686400" cy="46483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66680" y="54100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ренсис Дрей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вам известно об этом челове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informexpo.ru/new/view_content.php?id=21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rabkor.ru/likbes/2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caricatura.ru/art/korsun/url/parad/korsun/18116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nnvashkevich.narod.ru/SLTCVL/brt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dw.d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2"/>
          <p:cNvSpPr/>
          <p:nvPr/>
        </p:nvSpPr>
        <p:spPr>
          <a:xfrm>
            <a:off x="4343400" y="304920"/>
            <a:ext cx="76320" cy="61722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>
            <a:off x="533520" y="3429000"/>
            <a:ext cx="7772400" cy="144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685800" y="304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29200" y="304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3352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есть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5029200" y="3581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ристи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2895480" y="2514600"/>
            <a:ext cx="2514600" cy="114300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яснит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ая соединительная линия 2"/>
          <p:cNvSpPr/>
          <p:nvPr/>
        </p:nvSpPr>
        <p:spPr>
          <a:xfrm>
            <a:off x="4799880" y="228600"/>
            <a:ext cx="152280" cy="6248520"/>
          </a:xfrm>
          <a:prstGeom prst="line">
            <a:avLst/>
          </a:prstGeom>
          <a:ln cap="rnd"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685800" y="304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кажите, где абсолютная монархия, а где парламентск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1143000" y="1282680"/>
            <a:ext cx="163836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Горизонтальный свиток 9"/>
          <p:cNvSpPr/>
          <p:nvPr/>
        </p:nvSpPr>
        <p:spPr>
          <a:xfrm>
            <a:off x="2906640" y="2440080"/>
            <a:ext cx="201924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Горизонтальный свиток 10"/>
          <p:cNvSpPr/>
          <p:nvPr/>
        </p:nvSpPr>
        <p:spPr>
          <a:xfrm>
            <a:off x="3206880" y="914400"/>
            <a:ext cx="152388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Горизонтальный свиток 11"/>
          <p:cNvSpPr/>
          <p:nvPr/>
        </p:nvSpPr>
        <p:spPr>
          <a:xfrm>
            <a:off x="3154320" y="1523880"/>
            <a:ext cx="152388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воря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914400" y="2590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1752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у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16"/>
          <p:cNvCxnSpPr>
            <a:stCxn id="53" idx="3"/>
            <a:endCxn id="55" idx="1"/>
          </p:cNvCxnSpPr>
          <p:nvPr/>
        </p:nvCxnSpPr>
        <p:spPr>
          <a:xfrm flipV="1">
            <a:off x="2781360" y="1104120"/>
            <a:ext cx="426240" cy="4071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18"/>
          <p:cNvCxnSpPr>
            <a:stCxn id="53" idx="3"/>
            <a:endCxn id="59" idx="3"/>
          </p:cNvCxnSpPr>
          <p:nvPr/>
        </p:nvCxnSpPr>
        <p:spPr>
          <a:xfrm>
            <a:off x="2781000" y="1511280"/>
            <a:ext cx="267120" cy="9295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20"/>
          <p:cNvCxnSpPr>
            <a:stCxn id="53" idx="3"/>
            <a:endCxn id="56" idx="1"/>
          </p:cNvCxnSpPr>
          <p:nvPr/>
        </p:nvCxnSpPr>
        <p:spPr>
          <a:xfrm>
            <a:off x="2781360" y="1511280"/>
            <a:ext cx="373680" cy="24192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22"/>
          <p:cNvCxnSpPr/>
          <p:nvPr/>
        </p:nvCxnSpPr>
        <p:spPr>
          <a:xfrm flipV="1">
            <a:off x="2133720" y="1752120"/>
            <a:ext cx="2160" cy="5342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26"/>
          <p:cNvCxnSpPr/>
          <p:nvPr/>
        </p:nvCxnSpPr>
        <p:spPr>
          <a:xfrm flipV="1">
            <a:off x="1600200" y="1753920"/>
            <a:ext cx="2160" cy="8373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8"/>
          <p:cNvCxnSpPr>
            <a:stCxn id="57" idx="0"/>
          </p:cNvCxnSpPr>
          <p:nvPr/>
        </p:nvCxnSpPr>
        <p:spPr>
          <a:xfrm flipV="1">
            <a:off x="685800" y="1751760"/>
            <a:ext cx="457920" cy="3819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Двойная стрелка влево/вправо 29"/>
          <p:cNvSpPr/>
          <p:nvPr/>
        </p:nvSpPr>
        <p:spPr>
          <a:xfrm>
            <a:off x="1066680" y="1523880"/>
            <a:ext cx="76320" cy="4608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0"/>
          <p:cNvSpPr/>
          <p:nvPr/>
        </p:nvSpPr>
        <p:spPr>
          <a:xfrm>
            <a:off x="5486400" y="1143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на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1"/>
          <p:cNvSpPr/>
          <p:nvPr/>
        </p:nvSpPr>
        <p:spPr>
          <a:xfrm>
            <a:off x="6705720" y="32767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Горизонтальный свиток 34"/>
          <p:cNvSpPr/>
          <p:nvPr/>
        </p:nvSpPr>
        <p:spPr>
          <a:xfrm>
            <a:off x="4952880" y="1905120"/>
            <a:ext cx="1524240" cy="38088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Горизонтальный свиток 35"/>
          <p:cNvSpPr/>
          <p:nvPr/>
        </p:nvSpPr>
        <p:spPr>
          <a:xfrm>
            <a:off x="7238880" y="1905120"/>
            <a:ext cx="1524240" cy="45720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36"/>
          <p:cNvSpPr/>
          <p:nvPr/>
        </p:nvSpPr>
        <p:spPr>
          <a:xfrm>
            <a:off x="5715000" y="2590920"/>
            <a:ext cx="2133720" cy="533160"/>
          </a:xfrm>
          <a:prstGeom prst="horizontalScroll">
            <a:avLst>
              <a:gd name="adj" fmla="val 12500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йна и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8"/>
          <p:cNvCxnSpPr>
            <a:endCxn id="69" idx="0"/>
          </p:cNvCxnSpPr>
          <p:nvPr/>
        </p:nvCxnSpPr>
        <p:spPr>
          <a:xfrm flipH="1">
            <a:off x="5714280" y="1675440"/>
            <a:ext cx="1067400" cy="276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Прямая со стрелкой 40"/>
          <p:cNvCxnSpPr>
            <a:stCxn id="67" idx="2"/>
            <a:endCxn id="70" idx="0"/>
          </p:cNvCxnSpPr>
          <p:nvPr/>
        </p:nvCxnSpPr>
        <p:spPr>
          <a:xfrm>
            <a:off x="6895080" y="1666800"/>
            <a:ext cx="1105560" cy="29556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Прямая со стрелкой 42"/>
          <p:cNvCxnSpPr>
            <a:stCxn id="67" idx="2"/>
          </p:cNvCxnSpPr>
          <p:nvPr/>
        </p:nvCxnSpPr>
        <p:spPr>
          <a:xfrm>
            <a:off x="6896160" y="1666440"/>
            <a:ext cx="38880" cy="924840"/>
          </a:xfrm>
          <a:prstGeom prst="straightConnector1">
            <a:avLst/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Прямоугольник 44"/>
          <p:cNvSpPr/>
          <p:nvPr/>
        </p:nvSpPr>
        <p:spPr>
          <a:xfrm>
            <a:off x="5105520" y="4343400"/>
            <a:ext cx="1828800" cy="457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л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5"/>
          <p:cNvSpPr/>
          <p:nvPr/>
        </p:nvSpPr>
        <p:spPr>
          <a:xfrm>
            <a:off x="6934320" y="4267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не со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Скругленная соединительная линия 47"/>
          <p:cNvCxnSpPr/>
          <p:nvPr/>
        </p:nvCxnSpPr>
        <p:spPr>
          <a:xfrm flipH="1" rot="16200000">
            <a:off x="6742800" y="1561680"/>
            <a:ext cx="1829520" cy="175356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rnd"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extBox 5"/>
          <p:cNvSpPr/>
          <p:nvPr/>
        </p:nvSpPr>
        <p:spPr>
          <a:xfrm>
            <a:off x="-27000" y="129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она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" name="Прямая со стрелкой 2"/>
          <p:cNvCxnSpPr/>
          <p:nvPr/>
        </p:nvCxnSpPr>
        <p:spPr>
          <a:xfrm>
            <a:off x="4343400" y="533520"/>
            <a:ext cx="76680" cy="5487120"/>
          </a:xfrm>
          <a:prstGeom prst="straightConnector1">
            <a:avLst/>
          </a:prstGeom>
          <a:ln cap="rnd"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0" name="Улыбающееся лицо 4"/>
          <p:cNvSpPr/>
          <p:nvPr/>
        </p:nvSpPr>
        <p:spPr>
          <a:xfrm>
            <a:off x="380880" y="2895480"/>
            <a:ext cx="914400" cy="6858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лыбающееся лицо 5"/>
          <p:cNvSpPr/>
          <p:nvPr/>
        </p:nvSpPr>
        <p:spPr>
          <a:xfrm>
            <a:off x="2743200" y="2895480"/>
            <a:ext cx="990720" cy="762120"/>
          </a:xfrm>
          <a:prstGeom prst="smileyFace">
            <a:avLst>
              <a:gd name="adj" fmla="val 9282"/>
            </a:avLst>
          </a:prstGeom>
          <a:solidFill>
            <a:srgbClr val="fac09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лыбающееся лицо 6"/>
          <p:cNvSpPr/>
          <p:nvPr/>
        </p:nvSpPr>
        <p:spPr>
          <a:xfrm>
            <a:off x="4876920" y="2743200"/>
            <a:ext cx="1143000" cy="914400"/>
          </a:xfrm>
          <a:prstGeom prst="smileyFace">
            <a:avLst>
              <a:gd name="adj" fmla="val 9282"/>
            </a:avLst>
          </a:prstGeom>
          <a:solidFill>
            <a:srgbClr val="fdeada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лыбающееся лицо 7"/>
          <p:cNvSpPr/>
          <p:nvPr/>
        </p:nvSpPr>
        <p:spPr>
          <a:xfrm>
            <a:off x="7238880" y="2743200"/>
            <a:ext cx="1219320" cy="990720"/>
          </a:xfrm>
          <a:prstGeom prst="smileyFace">
            <a:avLst>
              <a:gd name="adj" fmla="val 9282"/>
            </a:avLst>
          </a:prstGeom>
          <a:solidFill>
            <a:srgbClr val="fcd5b5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 rot="1179600">
            <a:off x="31680" y="368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о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 rot="20599200">
            <a:off x="2615400" y="36921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есть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верх стрелка 11"/>
          <p:cNvSpPr/>
          <p:nvPr/>
        </p:nvSpPr>
        <p:spPr>
          <a:xfrm rot="10800000">
            <a:off x="914040" y="3580920"/>
            <a:ext cx="1981080" cy="1143000"/>
          </a:xfrm>
          <a:custGeom>
            <a:avLst/>
            <a:gdLst>
              <a:gd name="textAreaLeft" fmla="*/ 388080 w 1981080"/>
              <a:gd name="textAreaRight" fmla="*/ 1450080 w 19810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64" hR="21600" stAng="10800000" swAng="5400000"/>
                <a:lnTo>
                  <a:pt x="11579" y="0"/>
                </a:lnTo>
                <a:arcTo wR="8464" hR="21600" stAng="-5400000" swAng="3397006"/>
                <a:lnTo>
                  <a:pt x="21331" y="16200"/>
                </a:lnTo>
                <a:lnTo>
                  <a:pt x="18485" y="21600"/>
                </a:lnTo>
                <a:lnTo>
                  <a:pt x="15100" y="16200"/>
                </a:lnTo>
                <a:lnTo>
                  <a:pt x="16658" y="16200"/>
                </a:lnTo>
                <a:arcTo wR="8464" hR="21600" stAng="-2002994" swAng="-3145266"/>
                <a:lnTo>
                  <a:pt x="10021" y="369"/>
                </a:lnTo>
                <a:arcTo wR="8464" hR="21600" stAng="-5651740" swAng="-5148260"/>
                <a:close/>
              </a:path>
              <a:path fill="darkenLess" w="21600" h="21600">
                <a:moveTo>
                  <a:pt x="0" y="21600"/>
                </a:moveTo>
                <a:arcTo wR="8464" hR="21600" stAng="10800000" swAng="5400000"/>
                <a:lnTo>
                  <a:pt x="8464" y="0"/>
                </a:lnTo>
                <a:arcTo wR="8464" hR="21600" stAng="-5400000" swAng="251740"/>
                <a:lnTo>
                  <a:pt x="10021" y="369"/>
                </a:lnTo>
                <a:arcTo wR="8464" hR="21600" stAng="-5651740" swAng="-5148260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Выгнутая вверх стрелка 12"/>
          <p:cNvSpPr/>
          <p:nvPr/>
        </p:nvSpPr>
        <p:spPr>
          <a:xfrm>
            <a:off x="762120" y="1676520"/>
            <a:ext cx="2438280" cy="1143000"/>
          </a:xfrm>
          <a:custGeom>
            <a:avLst/>
            <a:gdLst>
              <a:gd name="textAreaLeft" fmla="*/ 502200 w 2438280"/>
              <a:gd name="textAreaRight" fmla="*/ 1793160 w 243828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4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5" y="16200"/>
                </a:lnTo>
                <a:lnTo>
                  <a:pt x="17520" y="16200"/>
                </a:lnTo>
                <a:arcTo wR="8902" hR="21600" stAng="-1924114" swAng="-3272564"/>
                <a:lnTo>
                  <a:pt x="10168" y="220"/>
                </a:lnTo>
                <a:arcTo wR="8902" hR="21600" stAng="-5603322" swAng="-5196678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322"/>
                <a:lnTo>
                  <a:pt x="10168" y="220"/>
                </a:lnTo>
                <a:arcTo wR="8902" hR="21600" stAng="-5603322" swAng="-5196678"/>
                <a:close/>
              </a:path>
            </a:pathLst>
          </a:cu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1295280" y="19051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зем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479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б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 rot="1738800">
            <a:off x="4183200" y="3703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уржу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74674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гнутая вверх стрелка 18"/>
          <p:cNvSpPr/>
          <p:nvPr/>
        </p:nvSpPr>
        <p:spPr>
          <a:xfrm>
            <a:off x="5943600" y="1676520"/>
            <a:ext cx="1447920" cy="1143000"/>
          </a:xfrm>
          <a:custGeom>
            <a:avLst/>
            <a:gdLst>
              <a:gd name="textAreaLeft" fmla="*/ 254520 w 1447920"/>
              <a:gd name="textAreaRight" fmla="*/ 1050480 w 14479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3" hR="21600" stAng="10800000" swAng="5400000"/>
                <a:lnTo>
                  <a:pt x="11867" y="0"/>
                </a:lnTo>
                <a:arcTo wR="7603" hR="21600" stAng="-5400000" swAng="3224202"/>
                <a:lnTo>
                  <a:pt x="21359" y="16200"/>
                </a:lnTo>
                <a:lnTo>
                  <a:pt x="17337" y="21600"/>
                </a:lnTo>
                <a:lnTo>
                  <a:pt x="12833" y="16200"/>
                </a:lnTo>
                <a:lnTo>
                  <a:pt x="14964" y="16200"/>
                </a:lnTo>
                <a:arcTo wR="7603" hR="21600" stAng="-2175798" swAng="-2871937"/>
                <a:lnTo>
                  <a:pt x="9735" y="867"/>
                </a:lnTo>
                <a:arcTo wR="7603" hR="21600" stAng="-5752265" swAng="-5047735"/>
                <a:close/>
              </a:path>
              <a:path fill="darkenLess" w="21600" h="21600">
                <a:moveTo>
                  <a:pt x="0" y="21600"/>
                </a:moveTo>
                <a:arcTo wR="7603" hR="21600" stAng="10800000" swAng="5400000"/>
                <a:lnTo>
                  <a:pt x="7603" y="0"/>
                </a:lnTo>
                <a:arcTo wR="7603" hR="21600" stAng="-5400000" swAng="352265"/>
                <a:lnTo>
                  <a:pt x="9735" y="867"/>
                </a:lnTo>
                <a:arcTo wR="7603" hR="21600" stAng="-5752265" swAng="-5047735"/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Выгнутая вверх стрелка 20"/>
          <p:cNvSpPr/>
          <p:nvPr/>
        </p:nvSpPr>
        <p:spPr>
          <a:xfrm rot="10800000">
            <a:off x="5562720" y="3657600"/>
            <a:ext cx="1977840" cy="1417680"/>
          </a:xfrm>
          <a:custGeom>
            <a:avLst/>
            <a:gdLst>
              <a:gd name="textAreaLeft" fmla="*/ 361440 w 1977840"/>
              <a:gd name="textAreaRight" fmla="*/ 1439280 w 1977840"/>
              <a:gd name="textAreaTop" fmla="*/ 189720 h 1417680"/>
              <a:gd name="textAreaBottom" fmla="*/ 1227960 h 1417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98" hR="21600" stAng="10800000" swAng="5400000"/>
                <a:lnTo>
                  <a:pt x="11768" y="0"/>
                </a:lnTo>
                <a:arcTo wR="7898" hR="21600" stAng="-5400000" swAng="3286250"/>
                <a:lnTo>
                  <a:pt x="21349" y="16200"/>
                </a:lnTo>
                <a:lnTo>
                  <a:pt x="17730" y="21600"/>
                </a:lnTo>
                <a:lnTo>
                  <a:pt x="13609" y="16200"/>
                </a:lnTo>
                <a:lnTo>
                  <a:pt x="15544" y="16200"/>
                </a:lnTo>
                <a:arcTo wR="7898" hR="21600" stAng="-2113750" swAng="-2969503"/>
                <a:lnTo>
                  <a:pt x="9833" y="658"/>
                </a:lnTo>
                <a:arcTo wR="7898" hR="21600" stAng="-5716747" swAng="-5083253"/>
                <a:close/>
              </a:path>
              <a:path fill="darkenLess" w="21600" h="21600">
                <a:moveTo>
                  <a:pt x="0" y="21600"/>
                </a:moveTo>
                <a:arcTo wR="7898" hR="21600" stAng="10800000" swAng="5400000"/>
                <a:lnTo>
                  <a:pt x="7898" y="0"/>
                </a:lnTo>
                <a:arcTo wR="7898" hR="21600" stAng="-5400000" swAng="316747"/>
                <a:lnTo>
                  <a:pt x="9833" y="658"/>
                </a:lnTo>
                <a:arcTo wR="7898" hR="21600" stAng="-5716747" swAng="-5083253"/>
                <a:close/>
              </a:path>
            </a:pathLst>
          </a:custGeom>
          <a:solidFill>
            <a:srgbClr val="ff00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58672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р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6400800" y="4952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457200" y="30492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кажите, какая схема иллюстрирует феодальное общество, а какая – капиталистичес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380880" y="57913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шите синонимы к словам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еодал, буржуазия, рабоч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Сергей Корсун &quot;Продавец воздуха&quot;"/>
          <p:cNvPicPr/>
          <p:nvPr/>
        </p:nvPicPr>
        <p:blipFill>
          <a:blip r:embed="rId1"/>
          <a:stretch/>
        </p:blipFill>
        <p:spPr>
          <a:xfrm>
            <a:off x="4952880" y="1695600"/>
            <a:ext cx="3753000" cy="4886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кажите, к какому общественному строю относятся изображ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shuba.jpg"/>
          <p:cNvPicPr/>
          <p:nvPr/>
        </p:nvPicPr>
        <p:blipFill>
          <a:blip r:embed="rId2"/>
          <a:stretch/>
        </p:blipFill>
        <p:spPr>
          <a:xfrm>
            <a:off x="1139760" y="1981080"/>
            <a:ext cx="3203640" cy="4692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28600" y="2286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4952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g15_worker.png"/>
          <p:cNvPicPr/>
          <p:nvPr/>
        </p:nvPicPr>
        <p:blipFill>
          <a:blip r:embed="rId1"/>
          <a:stretch/>
        </p:blipFill>
        <p:spPr>
          <a:xfrm>
            <a:off x="380880" y="685800"/>
            <a:ext cx="34387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609480" y="1066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5720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4267080" y="1596960"/>
            <a:ext cx="4341960" cy="32101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Burguazia copy.jpg"/>
          <p:cNvPicPr/>
          <p:nvPr/>
        </p:nvPicPr>
        <p:blipFill>
          <a:blip r:embed="rId1"/>
          <a:stretch/>
        </p:blipFill>
        <p:spPr>
          <a:xfrm>
            <a:off x="5334120" y="1981080"/>
            <a:ext cx="3511440" cy="3740400"/>
          </a:xfrm>
          <a:prstGeom prst="rect">
            <a:avLst/>
          </a:prstGeom>
          <a:ln w="0">
            <a:noFill/>
          </a:ln>
        </p:spPr>
      </p:pic>
      <p:sp>
        <p:nvSpPr>
          <p:cNvPr id="108" name="Овал 4"/>
          <p:cNvSpPr/>
          <p:nvPr/>
        </p:nvSpPr>
        <p:spPr>
          <a:xfrm>
            <a:off x="6172200" y="2133720"/>
            <a:ext cx="1219320" cy="38088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уем пра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5720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54100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228600" y="2487600"/>
            <a:ext cx="4815000" cy="3344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class2.gif"/>
          <p:cNvPicPr/>
          <p:nvPr/>
        </p:nvPicPr>
        <p:blipFill>
          <a:blip r:embed="rId1"/>
          <a:stretch/>
        </p:blipFill>
        <p:spPr>
          <a:xfrm>
            <a:off x="685800" y="2362320"/>
            <a:ext cx="3629160" cy="270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 rot="19905000">
            <a:off x="2729880" y="34815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фсою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worker.gif"/>
          <p:cNvPicPr/>
          <p:nvPr/>
        </p:nvPicPr>
        <p:blipFill>
          <a:blip r:embed="rId2"/>
          <a:stretch/>
        </p:blipFill>
        <p:spPr>
          <a:xfrm>
            <a:off x="5943600" y="685800"/>
            <a:ext cx="2705040" cy="54100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324480" y="76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тр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791320" y="1523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st600_04.jpg"/>
          <p:cNvPicPr/>
          <p:nvPr/>
        </p:nvPicPr>
        <p:blipFill>
          <a:blip r:embed="rId1"/>
          <a:stretch/>
        </p:blipFill>
        <p:spPr>
          <a:xfrm>
            <a:off x="685800" y="1676520"/>
            <a:ext cx="8124840" cy="4495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99072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алентина</dc:creator>
  <dc:description/>
  <dc:language>en-US</dc:language>
  <cp:lastModifiedBy>User</cp:lastModifiedBy>
  <dcterms:modified xsi:type="dcterms:W3CDTF">2012-10-17T14:38:40Z</dcterms:modified>
  <cp:revision>14</cp:revision>
  <dc:subject/>
  <dc:title>Общественный строй.</dc:title>
</cp:coreProperties>
</file>