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44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8.jpeg" ContentType="image/jpeg"/>
  <Override PartName="/ppt/media/image49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media/image11.jpeg" ContentType="image/jpeg"/>
  <Override PartName="/ppt/media/image5.jpeg" ContentType="image/jpeg"/>
  <Override PartName="/ppt/media/image2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1B4D-08FD-44CA-80F9-27CB97D89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645D-E112-43D7-8E68-2B79E49FF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F0C0-ABDB-4652-8F8E-C4AEB834B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1B35-9E77-4411-8603-8E6568E5C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477E-6823-43F8-87BC-E0ED7D5CA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3490-8518-4795-8D49-51189C87D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D811-D362-47F1-AD32-64F528995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E755-B314-48B0-9C70-0461322A0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5CAA-5510-43F8-8A66-C9F1204A1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5229-E85E-4FC4-BA61-BCF4D2F3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C060-B031-4E1A-B5ED-7679196F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F17C-6067-45BE-9591-4248C463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AA740-036D-414D-9E38-AA56BB66893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19021-F363-4B49-AD41-969C7D458D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stud.ibi.spb.ru/159/dracnat/dokyment/title.htm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781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История денежных знаков Росси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4000" y="5805000"/>
            <a:ext cx="74484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едведева Татьяна Стефан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читель истории и общество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КОУ «Славянская средняя общеобразовательная школ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мская область. Шербакульский район. 2012 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:\Documents and Settings\Aida\Рабочий стол\клипарты рамки фончики\karty\karty\map20.jpg"/>
          <p:cNvPicPr/>
          <p:nvPr/>
        </p:nvPicPr>
        <p:blipFill>
          <a:blip r:embed="rId1"/>
          <a:stretch/>
        </p:blipFill>
        <p:spPr>
          <a:xfrm>
            <a:off x="714240" y="500040"/>
            <a:ext cx="2214720" cy="1500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:\Documents and Settings\Aida\Рабочий стол\клипарты рамки фончики\karty\karty\map19.jpg"/>
          <p:cNvPicPr/>
          <p:nvPr/>
        </p:nvPicPr>
        <p:blipFill>
          <a:blip r:embed="rId2"/>
          <a:stretch/>
        </p:blipFill>
        <p:spPr>
          <a:xfrm>
            <a:off x="6357960" y="500040"/>
            <a:ext cx="1928880" cy="1528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H:\Documents and Settings\Aida\Рабочий стол\клипарты рамки фончики\karty\karty\map21.jpg"/>
          <p:cNvPicPr/>
          <p:nvPr/>
        </p:nvPicPr>
        <p:blipFill>
          <a:blip r:embed="rId3"/>
          <a:stretch/>
        </p:blipFill>
        <p:spPr>
          <a:xfrm>
            <a:off x="4714920" y="50004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H:\Documents and Settings\Aida\Рабочий стол\клипарты рамки фончики\karty\karty\map19.jpg"/>
          <p:cNvPicPr/>
          <p:nvPr/>
        </p:nvPicPr>
        <p:blipFill>
          <a:blip r:embed="rId4"/>
          <a:stretch/>
        </p:blipFill>
        <p:spPr>
          <a:xfrm>
            <a:off x="3000240" y="500040"/>
            <a:ext cx="164304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ХII и ХIII веках русские монеты исчезли из обращения. Киевская Русь распалась на отдельные княжества, и чеканка единой для всех монеты прекратилась. Историки называют это время безмонетным периодом. 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еньгами стали служить слитки серебра - гривны. Весили они 170 - 200 г и были прямоугольной или шестиугольной формы. Покупательная способность гривны была очень высока. За одну гривну давали 200 беличьих шкурок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7" descr="00a4wzsx"/>
          <p:cNvPicPr/>
          <p:nvPr/>
        </p:nvPicPr>
        <p:blipFill>
          <a:blip r:embed="rId1"/>
          <a:stretch/>
        </p:blipFill>
        <p:spPr>
          <a:xfrm>
            <a:off x="755640" y="2421000"/>
            <a:ext cx="3209760" cy="3381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008-671"/>
          <p:cNvPicPr/>
          <p:nvPr/>
        </p:nvPicPr>
        <p:blipFill>
          <a:blip r:embed="rId2"/>
          <a:stretch/>
        </p:blipFill>
        <p:spPr>
          <a:xfrm>
            <a:off x="4211640" y="2133720"/>
            <a:ext cx="39211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лидная гривна не всегда оказывалась удобной для расчетов при небольших торговых операциях. Нужна была более мелкая "монета", и гривны стали рубить пополам.                                                                                                                                        Так появились на свет "рубли". 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5" descr="c-1"/>
          <p:cNvPicPr/>
          <p:nvPr/>
        </p:nvPicPr>
        <p:blipFill>
          <a:blip r:embed="rId1"/>
          <a:stretch/>
        </p:blipFill>
        <p:spPr>
          <a:xfrm>
            <a:off x="611280" y="2133720"/>
            <a:ext cx="2665440" cy="4103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c-2ее"/>
          <p:cNvPicPr/>
          <p:nvPr/>
        </p:nvPicPr>
        <p:blipFill>
          <a:blip r:embed="rId2"/>
          <a:stretch/>
        </p:blipFill>
        <p:spPr>
          <a:xfrm>
            <a:off x="3564000" y="1844640"/>
            <a:ext cx="507996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1534 г. во время правления Елены Глинской - матери Ивана Грозного - была создана единая для всего русского государства денежная система. На мелкой серебряной монете изображали всадника с мечом - монеты получили название мечевых. На деньгах покрупнее, чеканили всадника, вооруженного копьем. Такие монеты стали называть копейными -                                         отсюда и произошло слово "копейка". 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post-2-1285519892_thumb"/>
          <p:cNvPicPr/>
          <p:nvPr/>
        </p:nvPicPr>
        <p:blipFill>
          <a:blip r:embed="rId1"/>
          <a:stretch/>
        </p:blipFill>
        <p:spPr>
          <a:xfrm>
            <a:off x="1403280" y="2781360"/>
            <a:ext cx="3273480" cy="3394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image001_edited(6)"/>
          <p:cNvPicPr/>
          <p:nvPr/>
        </p:nvPicPr>
        <p:blipFill>
          <a:blip r:embed="rId2"/>
          <a:stretch/>
        </p:blipFill>
        <p:spPr>
          <a:xfrm>
            <a:off x="5626080" y="2565360"/>
            <a:ext cx="207000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8569080" cy="19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 Петре I, начался выпуск золотой монеты. В 18 в. наиболее распространенной золотой монетой был червонец. Чтобы пополнить казну, в 1656 г, Алексей Михайлович просто повелел изъять из обращения все серебряные монеты, а вместо них начеканить монеты того же номинала, но из меди. Это означало, что монеты общей стоимостью 100 руб. можно было изготовить из медного слитка, стоившего всего 2 руб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D2EDD-0C6D-44D8-B049-BB6B01FED41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D2938-B2F7-43A1-A4B3-1CEA10A45F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gan02"/>
          <p:cNvPicPr/>
          <p:nvPr/>
        </p:nvPicPr>
        <p:blipFill>
          <a:blip r:embed="rId1"/>
          <a:stretch/>
        </p:blipFill>
        <p:spPr>
          <a:xfrm>
            <a:off x="1187280" y="2708280"/>
            <a:ext cx="664848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4216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акой поступок вызвал возмущение граждан и привел к появлению в стране двух видов денег: те серебряные рубли, которые удалось сохранить, стали самым желанным средством обращения, медные рубли, принимать не хотели.   Следствием стал развал денежной системы. Кончился же денежный эксперимент царя Алексея Михайловича восстанием в Москве 4 августа 1662 г. Это восстание, вошедшее в историю под названием "Медного бунта", жестоко подавили.  Но  через год обесцененные медные деньги в России были изъяты из обращения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 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1260614613_ist25"/>
          <p:cNvPicPr/>
          <p:nvPr/>
        </p:nvPicPr>
        <p:blipFill>
          <a:blip r:embed="rId1"/>
          <a:stretch/>
        </p:blipFill>
        <p:spPr>
          <a:xfrm>
            <a:off x="1187280" y="2508120"/>
            <a:ext cx="6193080" cy="39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вые русские бумажные деньги появились в 1769 г. при Екатерине I. Они назывались ассигнациями и обращались в виде государственных казначейских билетов. У населения бумажные деньги на первых порах пользовались большой популярностью: по свидетельству современника, их принимали даже охотнее, чем серебро и медь. Действительно, преимущества "бумажек", особенно при переводах и транспортировке, неоспоримы.   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5" descr="denezhnye_kupjury_rossii_i_sssr_399804"/>
          <p:cNvPicPr/>
          <p:nvPr/>
        </p:nvPicPr>
        <p:blipFill>
          <a:blip r:embed="rId1"/>
          <a:stretch/>
        </p:blipFill>
        <p:spPr>
          <a:xfrm>
            <a:off x="468360" y="2637000"/>
            <a:ext cx="3816360" cy="2498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ea035841daf7a39abe6983d012e4736d"/>
          <p:cNvPicPr/>
          <p:nvPr/>
        </p:nvPicPr>
        <p:blipFill>
          <a:blip r:embed="rId2"/>
          <a:stretch/>
        </p:blipFill>
        <p:spPr>
          <a:xfrm>
            <a:off x="4788000" y="2708280"/>
            <a:ext cx="4030560" cy="2522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rusdengi"/>
          <p:cNvPicPr/>
          <p:nvPr/>
        </p:nvPicPr>
        <p:blipFill>
          <a:blip r:embed="rId3"/>
          <a:stretch/>
        </p:blipFill>
        <p:spPr>
          <a:xfrm>
            <a:off x="2195640" y="4365720"/>
            <a:ext cx="3433680" cy="21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6560" y="274680"/>
            <a:ext cx="741708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хнология печатания российских денег в 20 веке свой переживала расцвет. Это сплетение плавных волнистых линий, изысканный растительный орнамент, отсутствие правильных геометрических фигур - и неоклассические мотивы. Николаевский" рубль отличался виртуозной сложностью исполнения: изображения на нем нередко превосходили по утонченности даже рисунки и гравюры лучших художников разных эпох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удожественное совершенство не только свидетельствовало о высоком престиже рубля, но и служило ему лучшей защитой. Ведь точно воспроизвести индивидуальную манеру автора портретов Екатерины II и Петра Великого на 100- и 500-рублевых банкнотах не смог бы даже самый виртуозный мастер! Мнения всех специалистов сходятся на том, что 100- и 500-рублевые купюры начала XX века относятся к лучшим достижениям в истории валют. 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07c3e4ae5b21a2b7481d03b61e6"/>
          <p:cNvPicPr/>
          <p:nvPr/>
        </p:nvPicPr>
        <p:blipFill>
          <a:blip r:embed="rId1"/>
          <a:stretch/>
        </p:blipFill>
        <p:spPr>
          <a:xfrm>
            <a:off x="3203640" y="3556080"/>
            <a:ext cx="4681440" cy="2901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pict15"/>
          <p:cNvPicPr/>
          <p:nvPr/>
        </p:nvPicPr>
        <p:blipFill>
          <a:blip r:embed="rId2"/>
          <a:stretch/>
        </p:blipFill>
        <p:spPr>
          <a:xfrm>
            <a:off x="468360" y="549360"/>
            <a:ext cx="479412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приходом эпохи революций, меняются деньги. Царские деньги сменяются банкнотами «Временного правительства» затем «керенками». Новые деньги стала печатать «Добровольческая армия» Деникина. И наконец с приходом большевиков, появляются денежные знаки правительства большевик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5" descr="1314599079_245003263_20---"/>
          <p:cNvPicPr/>
          <p:nvPr/>
        </p:nvPicPr>
        <p:blipFill>
          <a:blip r:embed="rId1"/>
          <a:stretch/>
        </p:blipFill>
        <p:spPr>
          <a:xfrm>
            <a:off x="5219640" y="1700280"/>
            <a:ext cx="3384720" cy="2584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9181b9cd439a"/>
          <p:cNvPicPr/>
          <p:nvPr/>
        </p:nvPicPr>
        <p:blipFill>
          <a:blip r:embed="rId2"/>
          <a:stretch/>
        </p:blipFill>
        <p:spPr>
          <a:xfrm>
            <a:off x="395280" y="4095720"/>
            <a:ext cx="3960720" cy="2454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001"/>
          <p:cNvPicPr/>
          <p:nvPr/>
        </p:nvPicPr>
        <p:blipFill>
          <a:blip r:embed="rId3"/>
          <a:stretch/>
        </p:blipFill>
        <p:spPr>
          <a:xfrm>
            <a:off x="1332000" y="1484280"/>
            <a:ext cx="2682720" cy="2438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3"/>
          <p:cNvPicPr/>
          <p:nvPr/>
        </p:nvPicPr>
        <p:blipFill>
          <a:blip r:embed="rId4"/>
          <a:stretch/>
        </p:blipFill>
        <p:spPr>
          <a:xfrm>
            <a:off x="4788000" y="4221000"/>
            <a:ext cx="3106800" cy="23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началом НЭПа (новой экономической политики большевиков) проводиться самая масштабная денежная реформа. На смену обесцененных денег стали выпускать советские рубли, обеспеченные  золотом и серебром. Источником драгоценных металлов - стало разграбление церквей, монастырей, частных и государственных музеев. Так появляется «ЧЕРВОНЕЦ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5" descr="197461811"/>
          <p:cNvPicPr/>
          <p:nvPr/>
        </p:nvPicPr>
        <p:blipFill>
          <a:blip r:embed="rId1"/>
          <a:stretch/>
        </p:blipFill>
        <p:spPr>
          <a:xfrm>
            <a:off x="539640" y="2205000"/>
            <a:ext cx="3210120" cy="3333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vetkovski_raion_hleborob_7-СССР-3-червонца-1924-г"/>
          <p:cNvPicPr/>
          <p:nvPr/>
        </p:nvPicPr>
        <p:blipFill>
          <a:blip r:embed="rId2"/>
          <a:stretch/>
        </p:blipFill>
        <p:spPr>
          <a:xfrm>
            <a:off x="3995640" y="2133720"/>
            <a:ext cx="4753080" cy="2778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1928-5ch"/>
          <p:cNvPicPr/>
          <p:nvPr/>
        </p:nvPicPr>
        <p:blipFill>
          <a:blip r:embed="rId3"/>
          <a:stretch/>
        </p:blipFill>
        <p:spPr>
          <a:xfrm>
            <a:off x="2556000" y="4125960"/>
            <a:ext cx="410364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27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словия жизни наших предков были таковы, что продукты питания, одежда и убежища добывались тяжким трудом. Редко производилось что-то лишнее, чем можно было бы торговать.                                                                                                                                         Но с течением времени, охота и собирательство, были заменены более эффективными – культивированием растений и разведением скота: время от времени стали появляться излишки одного или другого товара. Племя, обладающее излишками шкур животных, но испытывающее нехватку зерна могло обмениваться с другим племенем, имевшим его избыток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к был рожден бартер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18E58-3010-459C-9641-D65B1FD8F1D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7F871-3BF9-4D64-915E-E8687645ED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cattle_00"/>
          <p:cNvPicPr/>
          <p:nvPr/>
        </p:nvPicPr>
        <p:blipFill>
          <a:blip r:embed="rId1"/>
          <a:stretch/>
        </p:blipFill>
        <p:spPr>
          <a:xfrm>
            <a:off x="250920" y="3068640"/>
            <a:ext cx="5327640" cy="3524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x5f72b344"/>
          <p:cNvPicPr/>
          <p:nvPr/>
        </p:nvPicPr>
        <p:blipFill>
          <a:blip r:embed="rId2"/>
          <a:stretch/>
        </p:blipFill>
        <p:spPr>
          <a:xfrm>
            <a:off x="5724360" y="3068640"/>
            <a:ext cx="27370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713800" cy="29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ле Великой Отечественной войны, на новых купюрах крупных номиналов изображался один и тот же "советский человек" - Владимир Ильич. По стилю денежная серия 1947 г. воспроизводила поздние ассигнации Российской империи. Особенно явственно было сходство 5-рублевок с банкнотами 1909 - 1912 гг. того же достоинства по формату, цвету, рисунку шрифтов и композиции. А 50-рублевая купюра 1947 г. в целом повторяла знаменитые «николаевские» 100 и 500 рублей. 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5" descr="tnоо"/>
          <p:cNvPicPr/>
          <p:nvPr/>
        </p:nvPicPr>
        <p:blipFill>
          <a:blip r:embed="rId1"/>
          <a:stretch/>
        </p:blipFill>
        <p:spPr>
          <a:xfrm>
            <a:off x="324000" y="3068640"/>
            <a:ext cx="4170240" cy="2421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RUSSIAN banknote 50 RUBLES 1947"/>
          <p:cNvPicPr/>
          <p:nvPr/>
        </p:nvPicPr>
        <p:blipFill>
          <a:blip r:embed="rId2"/>
          <a:stretch/>
        </p:blipFill>
        <p:spPr>
          <a:xfrm>
            <a:off x="4140360" y="2349360"/>
            <a:ext cx="4751280" cy="2219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Lenin na denjgah(1)"/>
          <p:cNvPicPr/>
          <p:nvPr/>
        </p:nvPicPr>
        <p:blipFill>
          <a:blip r:embed="rId3"/>
          <a:stretch/>
        </p:blipFill>
        <p:spPr>
          <a:xfrm>
            <a:off x="3564000" y="4365720"/>
            <a:ext cx="428616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вшества, внесенные в дизайн советских денег реформой 1961 г., логически завершают канонизацию идеи незыблемости и величия Советского Союза. Ленин на банкнотах лишился человеческих черт, и превратился в икону: теперь его изображали в профиль, с медальным лицом и недвижным взором, устремленным "в будущее"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5" descr="f2f44e7081b4"/>
          <p:cNvPicPr/>
          <p:nvPr/>
        </p:nvPicPr>
        <p:blipFill>
          <a:blip r:embed="rId1"/>
          <a:stretch/>
        </p:blipFill>
        <p:spPr>
          <a:xfrm>
            <a:off x="1547640" y="1989000"/>
            <a:ext cx="612144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, наконец, последние страницы нашей истории: крах коммунизма, распад СССР и калейдоскоп экономических и прочих реформ. Лавинообразный выпуск новых дензнаков - сначала советских, затем российских - все более крупного номинала. Наспех сработанные в условиях нараставшей инфляции, они столь же быстро исчезл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5" descr="1345051015_dengi-00"/>
          <p:cNvPicPr/>
          <p:nvPr/>
        </p:nvPicPr>
        <p:blipFill>
          <a:blip r:embed="rId1"/>
          <a:stretch/>
        </p:blipFill>
        <p:spPr>
          <a:xfrm>
            <a:off x="5292720" y="1773360"/>
            <a:ext cx="3333600" cy="3390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e80cc3e9e6"/>
          <p:cNvPicPr/>
          <p:nvPr/>
        </p:nvPicPr>
        <p:blipFill>
          <a:blip r:embed="rId2"/>
          <a:stretch/>
        </p:blipFill>
        <p:spPr>
          <a:xfrm>
            <a:off x="611280" y="1700280"/>
            <a:ext cx="3333600" cy="3295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1345068868_9e2559ba"/>
          <p:cNvPicPr/>
          <p:nvPr/>
        </p:nvPicPr>
        <p:blipFill>
          <a:blip r:embed="rId3"/>
          <a:stretch/>
        </p:blipFill>
        <p:spPr>
          <a:xfrm>
            <a:off x="2771640" y="3933720"/>
            <a:ext cx="2670480" cy="24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4319640" cy="625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временные бумажные деньги хорошо защищены от фальшивомонетчиков. Для изготовления банкнот используют бумагу, содержащую большое количество хлопковых и льняных волокон. Для придания механической прочности в нее вносят специальные проклеивающие вещества, ведь купюра должна выдерживать не менее 2,5 тысячи двойных перегибов.  Основное защитное свойство банкнотной бумаги - это отсутствие свечения под воздействием ультрафиолетового излучения. Если же бумага светится в УФ-лучах, то это может говорить либо о подделке, либо о том, что на настоящую купюру было оказано химическое воздействие. Заметим, что для того, чтобы купюра начала "светиться", ее достаточно просто выстирать в стиральном порошк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5" descr="rub-b"/>
          <p:cNvPicPr/>
          <p:nvPr/>
        </p:nvPicPr>
        <p:blipFill>
          <a:blip r:embed="rId1"/>
          <a:stretch/>
        </p:blipFill>
        <p:spPr>
          <a:xfrm>
            <a:off x="5022720" y="907920"/>
            <a:ext cx="33451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еперь эквивалент бумажных денег – золото, серебро и платина хранятся в слитках. Их объем называют золотым запасом страны.                                          Этими слитками расплачиваются между собой большинство стран мира.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5" descr="gold_flixa"/>
          <p:cNvPicPr/>
          <p:nvPr/>
        </p:nvPicPr>
        <p:blipFill>
          <a:blip r:embed="rId1"/>
          <a:stretch/>
        </p:blipFill>
        <p:spPr>
          <a:xfrm>
            <a:off x="1042920" y="1628640"/>
            <a:ext cx="6370560" cy="48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1042920" y="836640"/>
            <a:ext cx="7201080" cy="4824360"/>
          </a:xfrm>
          <a:prstGeom prst="rect">
            <a:avLst/>
          </a:prstGeom>
          <a:solidFill>
            <a:srgbClr val="bfb08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спользуемые интернет ресурс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stud.ibi.spb.ru/159/dracnat/dokyment/titl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radchenko-anna.livejournal.com/15606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go.mail.ru/search_images?rch=e&amp;type=all&amp;is=0&amp;q=lym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://ru.wikipedia.org/wiki/%D0%94%D0%B5%D0%BD%D1%8C%D0%B3%D0%B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развитием человеческого общества, бартер пышно расцвел. Самым знаменитым примером может послужить сделка Питера Миноты в 1626 году: за бусины и безделушки, стоимостью 24$ Минота получил остров в Манхеттене. В 1993 году этот остров был оценен в 50,4 миллиарда $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5" descr="манхеттен"/>
          <p:cNvPicPr/>
          <p:nvPr/>
        </p:nvPicPr>
        <p:blipFill>
          <a:blip r:embed="rId1"/>
          <a:stretch/>
        </p:blipFill>
        <p:spPr>
          <a:xfrm>
            <a:off x="900000" y="1773360"/>
            <a:ext cx="68407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Риме с солдатами часто расплачивались мешками с солью.                                             (слово “жалование” пришло оттуда)                                                                                       Соли было мало и она была необходима для консервации продуктов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Европе, в 13 веке, специи ценились очень высоко и часто были очень редкими, фунт шафрана стоил как тягловая лошадь. За фунт имбиря можно было приобрести корабль (сегодня имбирь стоит 2$ за фунт, но фунт шафрана стоит около 3.000$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meshki"/>
          <p:cNvPicPr/>
          <p:nvPr/>
        </p:nvPicPr>
        <p:blipFill>
          <a:blip r:embed="rId1"/>
          <a:stretch/>
        </p:blipFill>
        <p:spPr>
          <a:xfrm>
            <a:off x="6084720" y="2421000"/>
            <a:ext cx="2536920" cy="2827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spice100"/>
          <p:cNvPicPr/>
          <p:nvPr/>
        </p:nvPicPr>
        <p:blipFill>
          <a:blip r:embed="rId2"/>
          <a:stretch/>
        </p:blipFill>
        <p:spPr>
          <a:xfrm>
            <a:off x="755640" y="2781360"/>
            <a:ext cx="504036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27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артер на Руси проходил те же этапы в своем развитии, что и в других cтранах.  В северных областях "товарными" деньгами служили шкурки куниц, соболей, белок, лисиц. Название древнерусской денежной единицы "куна" берет свое происхождение от меха куницы. Память о "меховых деньгах" осталась в нашем языке в числительном "сорок". Слово "сорок" родственно слову "сорочка" (рубаха). Предполагают, что в древние времена на шитье мехового кафтана или шубы шла связка шкурок куницы или соболя, которую называли "сорок".  Позже название "сорок" распространилось и на число 40. Также у древних славян роль денег выполняли лен и изготовленная из него ткань - полотно. От слова "полотно" произошло всем нам известное слово - плати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674_9"/>
          <p:cNvPicPr/>
          <p:nvPr/>
        </p:nvPicPr>
        <p:blipFill>
          <a:blip r:embed="rId1"/>
          <a:stretch/>
        </p:blipFill>
        <p:spPr>
          <a:xfrm>
            <a:off x="395280" y="3645000"/>
            <a:ext cx="5616720" cy="2725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linen2"/>
          <p:cNvPicPr/>
          <p:nvPr/>
        </p:nvPicPr>
        <p:blipFill>
          <a:blip r:embed="rId2"/>
          <a:stretch/>
        </p:blipFill>
        <p:spPr>
          <a:xfrm>
            <a:off x="6156360" y="3141720"/>
            <a:ext cx="25192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33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витие торговли вынудило покупателей и продавцов согласовать систему, устанавливающую цену – идеальным решением проблемы товарообмена стали деньги. С течением времени, появился термин валюта. Это не всегда были деньги в привычном нам понимании – монеты и банкноты, история знает примеры, когда одной из форм валюты была корова. Формы валюты в древности в различных странах: 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менные деньги (Исландия) 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ль (Африка) 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шерсть слона (Африка) 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лоновая кость (Фиджи) 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абак (Соломоновы Острова) 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рикеты чая (Сибирь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images"/>
          <p:cNvPicPr/>
          <p:nvPr/>
        </p:nvPicPr>
        <p:blipFill>
          <a:blip r:embed="rId1"/>
          <a:stretch/>
        </p:blipFill>
        <p:spPr>
          <a:xfrm>
            <a:off x="3635280" y="2421000"/>
            <a:ext cx="1104840" cy="971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1242880449_3"/>
          <p:cNvPicPr/>
          <p:nvPr/>
        </p:nvPicPr>
        <p:blipFill>
          <a:blip r:embed="rId2"/>
          <a:stretch/>
        </p:blipFill>
        <p:spPr>
          <a:xfrm>
            <a:off x="5076720" y="1989000"/>
            <a:ext cx="1484280" cy="1866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6627111_6ac6b39f"/>
          <p:cNvPicPr/>
          <p:nvPr/>
        </p:nvPicPr>
        <p:blipFill>
          <a:blip r:embed="rId3"/>
          <a:stretch/>
        </p:blipFill>
        <p:spPr>
          <a:xfrm>
            <a:off x="6877080" y="2421000"/>
            <a:ext cx="1871640" cy="1404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000000"/>
          <p:cNvPicPr/>
          <p:nvPr/>
        </p:nvPicPr>
        <p:blipFill>
          <a:blip r:embed="rId4"/>
          <a:stretch/>
        </p:blipFill>
        <p:spPr>
          <a:xfrm>
            <a:off x="900000" y="4221000"/>
            <a:ext cx="2266920" cy="1700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primenenie-tabaka"/>
          <p:cNvPicPr/>
          <p:nvPr/>
        </p:nvPicPr>
        <p:blipFill>
          <a:blip r:embed="rId5"/>
          <a:stretch/>
        </p:blipFill>
        <p:spPr>
          <a:xfrm>
            <a:off x="3708360" y="4365720"/>
            <a:ext cx="1871640" cy="1812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Img1845_large"/>
          <p:cNvPicPr/>
          <p:nvPr/>
        </p:nvPicPr>
        <p:blipFill>
          <a:blip r:embed="rId6"/>
          <a:stretch/>
        </p:blipFill>
        <p:spPr>
          <a:xfrm>
            <a:off x="6084720" y="4149720"/>
            <a:ext cx="218628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878544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близительно в 2500 г. до н.э. в Египте и на территории малой Азии, при оплате товаров и услуг начали использовать различные металлы – золото, серебро и медь. Сначала они обращались в виде слитков, впоследствии, слитки стали клеймить.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0912bb4c16"/>
          <p:cNvPicPr/>
          <p:nvPr/>
        </p:nvPicPr>
        <p:blipFill>
          <a:blip r:embed="rId1"/>
          <a:stretch/>
        </p:blipFill>
        <p:spPr>
          <a:xfrm>
            <a:off x="1619280" y="2133720"/>
            <a:ext cx="583092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тем появились монеты, наличие которых существенно упростило товарообмен. Монеты были дорогими, прочными и удобными. Они не могли умереть или испортиться по дороге к рынку. Вдобавок, использование монет позволяло расплачиваться поштучно (отсчитывать), а не взвешивать и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hees_treasure"/>
          <p:cNvPicPr/>
          <p:nvPr/>
        </p:nvPicPr>
        <p:blipFill>
          <a:blip r:embed="rId1"/>
          <a:stretch/>
        </p:blipFill>
        <p:spPr>
          <a:xfrm>
            <a:off x="1403280" y="1844640"/>
            <a:ext cx="6264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Руси монеты появились в Х веке, они чеканились из серебра (ранее использовались деньги отчеканенные в других странах). Сохранились "серебряники" русского князя Владимира. На одной стороне изображен князь, сидящий на престоле ("столе"), а на другой - родовой знак. Надпись на монете гласит: "Володимир на столе, а се его серебро". 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Древнейшие монеты Руси"/>
          <p:cNvPicPr/>
          <p:nvPr/>
        </p:nvPicPr>
        <p:blipFill>
          <a:blip r:embed="rId1"/>
          <a:stretch/>
        </p:blipFill>
        <p:spPr>
          <a:xfrm>
            <a:off x="2843280" y="2637000"/>
            <a:ext cx="3460680" cy="34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9T05:32:49Z</dcterms:created>
  <dc:creator>Admin</dc:creator>
  <dc:description>http://aida.ucoz.ru</dc:description>
  <cp:keywords>http://aida.ucoz.ru</cp:keywords>
  <dc:language>en-US</dc:language>
  <cp:lastModifiedBy>Олег</cp:lastModifiedBy>
  <dcterms:modified xsi:type="dcterms:W3CDTF">2012-09-06T14:26:17Z</dcterms:modified>
  <cp:revision>5</cp:revision>
  <dc:subject>Шаблоны презентаций</dc:subject>
  <dc:title>История денежных знаков.</dc:title>
</cp:coreProperties>
</file>