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73F-98DC-4C85-863E-376D8FDD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E2C-A233-472C-8E51-8A570355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74E-B5FD-450E-B0A2-CDAD33EA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4B3-75D7-4381-BE31-65E843A7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E4E-24D7-4D63-B411-FA7C6AC0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2FE-F756-4FCD-A167-56D1FCD3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7F4-9C3D-45DC-8989-E0C56B5B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987-AE99-4C6E-94BD-460BC8EC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2DC-1D56-45D5-9719-A4269C5B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979-142E-43D8-A56C-86B4F947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53D-F12D-4A90-8655-EB274F3B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EFC-FA9F-4FD4-B529-AF10C015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1529-11F2-4FA0-9AA1-A2933C8775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87D7-4050-4AB9-898C-2ED397DCD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ud.ibi.spb.ru/159/dracnat/dokyment/titl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денежных знаков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7448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дведева Татьяна Стеф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КОУ «Славян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ская область. Шербакульский район. 201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клипарты рамки фончики\karty\karty\map20.jpg"/>
          <p:cNvPicPr/>
          <p:nvPr/>
        </p:nvPicPr>
        <p:blipFill>
          <a:blip r:embed="rId1"/>
          <a:stretch/>
        </p:blipFill>
        <p:spPr>
          <a:xfrm>
            <a:off x="714240" y="500040"/>
            <a:ext cx="22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клипарты рамки фончики\karty\karty\map19.jpg"/>
          <p:cNvPicPr/>
          <p:nvPr/>
        </p:nvPicPr>
        <p:blipFill>
          <a:blip r:embed="rId2"/>
          <a:stretch/>
        </p:blipFill>
        <p:spPr>
          <a:xfrm>
            <a:off x="6357960" y="500040"/>
            <a:ext cx="1928880" cy="15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клипарты рамки фончики\karty\karty\map21.jpg"/>
          <p:cNvPicPr/>
          <p:nvPr/>
        </p:nvPicPr>
        <p:blipFill>
          <a:blip r:embed="rId3"/>
          <a:stretch/>
        </p:blipFill>
        <p:spPr>
          <a:xfrm>
            <a:off x="4714920" y="5000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клипарты рамки фончики\karty\karty\map19.jpg"/>
          <p:cNvPicPr/>
          <p:nvPr/>
        </p:nvPicPr>
        <p:blipFill>
          <a:blip r:embed="rId4"/>
          <a:stretch/>
        </p:blipFill>
        <p:spPr>
          <a:xfrm>
            <a:off x="3000240" y="50004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II и ХIII веках русские монеты исчезли из обращения. Киевская Русь распалась на отдельные княжества, и чеканка единой для всех монеты прекратилась. Историки называют это время безмонетным периодом.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гами стали служить слитки серебра - гривны. Весили они 170 - 200 г и были прямоугольной или шестиугольной формы. Покупательная способность гривны была очень высока. За одну гривну давали 200 беличьих шкурок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a4wzsx"/>
          <p:cNvPicPr/>
          <p:nvPr/>
        </p:nvPicPr>
        <p:blipFill>
          <a:blip r:embed="rId1"/>
          <a:stretch/>
        </p:blipFill>
        <p:spPr>
          <a:xfrm>
            <a:off x="755640" y="2421000"/>
            <a:ext cx="32097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08-671"/>
          <p:cNvPicPr/>
          <p:nvPr/>
        </p:nvPicPr>
        <p:blipFill>
          <a:blip r:embed="rId2"/>
          <a:stretch/>
        </p:blipFill>
        <p:spPr>
          <a:xfrm>
            <a:off x="4211640" y="2133720"/>
            <a:ext cx="3921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дная гривна не всегда оказывалась удобной для расчетов при небольших торговых операциях. Нужна была более мелкая "монета", и гривны стали рубить пополам.                                                                                                                                        Так появились на свет "рубли"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-1"/>
          <p:cNvPicPr/>
          <p:nvPr/>
        </p:nvPicPr>
        <p:blipFill>
          <a:blip r:embed="rId1"/>
          <a:stretch/>
        </p:blipFill>
        <p:spPr>
          <a:xfrm>
            <a:off x="611280" y="2133720"/>
            <a:ext cx="2665440" cy="410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-2ее"/>
          <p:cNvPicPr/>
          <p:nvPr/>
        </p:nvPicPr>
        <p:blipFill>
          <a:blip r:embed="rId2"/>
          <a:stretch/>
        </p:blipFill>
        <p:spPr>
          <a:xfrm>
            <a:off x="3564000" y="1844640"/>
            <a:ext cx="50799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534 г. во время правления Елены Глинской - матери Ивана Грозного -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"копейка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ost-2-1285519892_thumb"/>
          <p:cNvPicPr/>
          <p:nvPr/>
        </p:nvPicPr>
        <p:blipFill>
          <a:blip r:embed="rId1"/>
          <a:stretch/>
        </p:blipFill>
        <p:spPr>
          <a:xfrm>
            <a:off x="1403280" y="2781360"/>
            <a:ext cx="3273480" cy="339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age001_edited(6)"/>
          <p:cNvPicPr/>
          <p:nvPr/>
        </p:nvPicPr>
        <p:blipFill>
          <a:blip r:embed="rId2"/>
          <a:stretch/>
        </p:blipFill>
        <p:spPr>
          <a:xfrm>
            <a:off x="5626080" y="2565360"/>
            <a:ext cx="2070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тре I, начался выпуск золотой монеты. В 18 в. наиболее распространенной золотой монетой был червонец. Чтобы пополнить казну, в 1656 г, Алексей Михайлович 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41AF-1D68-4709-8E02-6C94B067E0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DEDD-C192-46AE-B6A6-E334D8796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gan02"/>
          <p:cNvPicPr/>
          <p:nvPr/>
        </p:nvPicPr>
        <p:blipFill>
          <a:blip r:embed="rId1"/>
          <a:stretch/>
        </p:blipFill>
        <p:spPr>
          <a:xfrm>
            <a:off x="1187280" y="2708280"/>
            <a:ext cx="664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ой поступок вызвал возмущение граждан и привел к появлению в стране двух видов денег: те серебряные рубли, которые удалось сохранить, стали самым желанным средством обращения, медные рубли, принимать не хотели.   Следствием стал развал денежной системы. Кончился же денежный эксперимент царя Алексея Михайловича восстанием в Москве 4 августа 1662 г. Это восстание, вошедшее в историю под названием "Медного бунта", жестоко подавили.  Но  через год обесцененные медные деньги в России были изъяты из обраще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260614613_ist25"/>
          <p:cNvPicPr/>
          <p:nvPr/>
        </p:nvPicPr>
        <p:blipFill>
          <a:blip r:embed="rId1"/>
          <a:stretch/>
        </p:blipFill>
        <p:spPr>
          <a:xfrm>
            <a:off x="1187280" y="2508120"/>
            <a:ext cx="61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Екатерине I. Они назывались ассигнациями и обращались в виде государственных казначейских билетов. У населения бумажные деньги на первых порах пользовались большой популярностью: по свидетельству современника, их принимали даже охотнее, чем серебро и медь. Действительно, преимущества "бумажек", особенно при переводах и транспортировке, неоспоримы.  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denezhnye_kupjury_rossii_i_sssr_399804"/>
          <p:cNvPicPr/>
          <p:nvPr/>
        </p:nvPicPr>
        <p:blipFill>
          <a:blip r:embed="rId1"/>
          <a:stretch/>
        </p:blipFill>
        <p:spPr>
          <a:xfrm>
            <a:off x="468360" y="2637000"/>
            <a:ext cx="3816360" cy="249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a035841daf7a39abe6983d012e4736d"/>
          <p:cNvPicPr/>
          <p:nvPr/>
        </p:nvPicPr>
        <p:blipFill>
          <a:blip r:embed="rId2"/>
          <a:stretch/>
        </p:blipFill>
        <p:spPr>
          <a:xfrm>
            <a:off x="4788000" y="2708280"/>
            <a:ext cx="4030560" cy="252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usdengi"/>
          <p:cNvPicPr/>
          <p:nvPr/>
        </p:nvPicPr>
        <p:blipFill>
          <a:blip r:embed="rId3"/>
          <a:stretch/>
        </p:blipFill>
        <p:spPr>
          <a:xfrm>
            <a:off x="2195640" y="4365720"/>
            <a:ext cx="3433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417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ечатания российских денег в 20 веке свой переживала расцвет. Это сплетение плавных волнистых линий, изысканный растительный орнамент, отсутствие правильных геометрических фигур - и неоклассические мотивы. Николаевский" рубль отличался виртуозной сложностью исполнения: изображения на нем нередко превосходили по утонченности даже рисунки и гравюры лучших художников разных эпо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совершенство не только свидетельствовало о высоком престиже рубля, но и служило ему лучшей защитой. Ведь точно воспроизвести индивидуальную манеру автора портретов Екатерины II и Петра Великого на 100- и 500-рублевых банкнотах не смог бы даже самый виртуозный мастер! Мнения всех специалистов сходятся на том, что 100- и 500-рублевые купюры начала XX века относятся к лучшим достижениям в истории валют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7c3e4ae5b21a2b7481d03b61e6"/>
          <p:cNvPicPr/>
          <p:nvPr/>
        </p:nvPicPr>
        <p:blipFill>
          <a:blip r:embed="rId1"/>
          <a:stretch/>
        </p:blipFill>
        <p:spPr>
          <a:xfrm>
            <a:off x="3203640" y="3556080"/>
            <a:ext cx="4681440" cy="290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ict15"/>
          <p:cNvPicPr/>
          <p:nvPr/>
        </p:nvPicPr>
        <p:blipFill>
          <a:blip r:embed="rId2"/>
          <a:stretch/>
        </p:blipFill>
        <p:spPr>
          <a:xfrm>
            <a:off x="468360" y="549360"/>
            <a:ext cx="479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01"/>
          <p:cNvPicPr/>
          <p:nvPr/>
        </p:nvPicPr>
        <p:blipFill>
          <a:blip r:embed="rId3"/>
          <a:stretch/>
        </p:blipFill>
        <p:spPr>
          <a:xfrm>
            <a:off x="1332000" y="1484280"/>
            <a:ext cx="268272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3"/>
          <p:cNvPicPr/>
          <p:nvPr/>
        </p:nvPicPr>
        <p:blipFill>
          <a:blip r:embed="rId4"/>
          <a:stretch/>
        </p:blipFill>
        <p:spPr>
          <a:xfrm>
            <a:off x="4788000" y="4221000"/>
            <a:ext cx="31068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ом НЭПа (новой экономической политики большевиков) проводиться самая масштабная денежная реформа. На смену обесцененных денег стали выпускать советские рубли, обеспеченные  золотом и серебром. Источником драгоценных металлов - стало разграбление церквей, монастырей, частных и государственных музеев. Так появляется «ЧЕРВОНЕ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197461811"/>
          <p:cNvPicPr/>
          <p:nvPr/>
        </p:nvPicPr>
        <p:blipFill>
          <a:blip r:embed="rId1"/>
          <a:stretch/>
        </p:blipFill>
        <p:spPr>
          <a:xfrm>
            <a:off x="539640" y="2205000"/>
            <a:ext cx="321012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etkovski_raion_hleborob_7-СССР-3-червонца-1924-г"/>
          <p:cNvPicPr/>
          <p:nvPr/>
        </p:nvPicPr>
        <p:blipFill>
          <a:blip r:embed="rId2"/>
          <a:stretch/>
        </p:blipFill>
        <p:spPr>
          <a:xfrm>
            <a:off x="3995640" y="2133720"/>
            <a:ext cx="4753080" cy="277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928-5ch"/>
          <p:cNvPicPr/>
          <p:nvPr/>
        </p:nvPicPr>
        <p:blipFill>
          <a:blip r:embed="rId3"/>
          <a:stretch/>
        </p:blipFill>
        <p:spPr>
          <a:xfrm>
            <a:off x="2556000" y="4125960"/>
            <a:ext cx="4103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жизни наших предков были таковы, что продукты питания, одежда и убежища добывались тяжким трудом. Редко производилось что-то лишнее, чем можно было бы торговать.                                                                                                                                         Но с течением времени, охота и собирательство, были заменены более эффективными – культивированием растений и разведением скота: время от времени стали появляться излишки одного или другого товара. Племя, обладающее излишками шкур животных, но испытывающее нехватку зерна могло обмениваться с другим племенем, имевшим его избыт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был рожден барт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4213-436C-431E-9A84-0984F5FAE75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468E-72E8-46CC-8B39-39872A9BFA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attle_00"/>
          <p:cNvPicPr/>
          <p:nvPr/>
        </p:nvPicPr>
        <p:blipFill>
          <a:blip r:embed="rId1"/>
          <a:stretch/>
        </p:blipFill>
        <p:spPr>
          <a:xfrm>
            <a:off x="250920" y="3068640"/>
            <a:ext cx="5327640" cy="352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x5f72b344"/>
          <p:cNvPicPr/>
          <p:nvPr/>
        </p:nvPicPr>
        <p:blipFill>
          <a:blip r:embed="rId2"/>
          <a:stretch/>
        </p:blipFill>
        <p:spPr>
          <a:xfrm>
            <a:off x="5724360" y="3068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tnоо"/>
          <p:cNvPicPr/>
          <p:nvPr/>
        </p:nvPicPr>
        <p:blipFill>
          <a:blip r:embed="rId1"/>
          <a:stretch/>
        </p:blipFill>
        <p:spPr>
          <a:xfrm>
            <a:off x="324000" y="3068640"/>
            <a:ext cx="41702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RUSSIAN banknote 50 RUBLES 1947"/>
          <p:cNvPicPr/>
          <p:nvPr/>
        </p:nvPicPr>
        <p:blipFill>
          <a:blip r:embed="rId2"/>
          <a:stretch/>
        </p:blipFill>
        <p:spPr>
          <a:xfrm>
            <a:off x="4140360" y="2349360"/>
            <a:ext cx="475128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Lenin na denjgah(1)"/>
          <p:cNvPicPr/>
          <p:nvPr/>
        </p:nvPicPr>
        <p:blipFill>
          <a:blip r:embed="rId3"/>
          <a:stretch/>
        </p:blipFill>
        <p:spPr>
          <a:xfrm>
            <a:off x="3564000" y="43657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, наконец, последние страницы нашей истории: крах коммунизма, распад СССР и калейдоскоп экономических и прочих реформ. Лавинообразный выпуск новых дензнаков - сначала советских, затем российских - все более крупного номинала. Наспех сработанные в условиях нараставшей инфляции, они столь же быстро исчез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1345051015_dengi-00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9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80cc3e9e6"/>
          <p:cNvPicPr/>
          <p:nvPr/>
        </p:nvPicPr>
        <p:blipFill>
          <a:blip r:embed="rId2"/>
          <a:stretch/>
        </p:blipFill>
        <p:spPr>
          <a:xfrm>
            <a:off x="611280" y="1700280"/>
            <a:ext cx="3333600" cy="32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345068868_9e2559ba"/>
          <p:cNvPicPr/>
          <p:nvPr/>
        </p:nvPicPr>
        <p:blipFill>
          <a:blip r:embed="rId3"/>
          <a:stretch/>
        </p:blipFill>
        <p:spPr>
          <a:xfrm>
            <a:off x="2771640" y="3933720"/>
            <a:ext cx="267048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31964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бумажные деньги хорошо защищены от фальшивомонетчиков. Для изготовления банкнот используют бумагу, содержащую большое количество хлопковых и льняных волокон. Для придания механической прочности в нее вносят специальные проклеивающие вещества, ведь купюра должна выдерживать не менее 2,5 тысячи двойных перегибов.  Основное защитное свойство банкнотной бумаги - это отсутствие свечения под воздействием ультрафиолетового излучения. Если же бумага светится в УФ-лучах, то это может говорить либо о подделке, либо о том, что на настоящую купюру было оказано химическое воздействие. Заметим, что для того, чтобы купюра начала "светиться", ее достаточно просто выстирать в стиральном поро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rub-b"/>
          <p:cNvPicPr/>
          <p:nvPr/>
        </p:nvPicPr>
        <p:blipFill>
          <a:blip r:embed="rId1"/>
          <a:stretch/>
        </p:blipFill>
        <p:spPr>
          <a:xfrm>
            <a:off x="5022720" y="907920"/>
            <a:ext cx="3345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ерь эквивалент бумажных денег – золото, серебро и платина хранятся в слитках. Их объем называют золотым запасом страны.                                          Этими слитками расплачиваются между собой большинство стран мир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gold_flixa"/>
          <p:cNvPicPr/>
          <p:nvPr/>
        </p:nvPicPr>
        <p:blipFill>
          <a:blip r:embed="rId1"/>
          <a:stretch/>
        </p:blipFill>
        <p:spPr>
          <a:xfrm>
            <a:off x="1042920" y="1628640"/>
            <a:ext cx="637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042920" y="836640"/>
            <a:ext cx="7201080" cy="4824360"/>
          </a:xfrm>
          <a:prstGeom prst="rect">
            <a:avLst/>
          </a:prstGeom>
          <a:solidFill>
            <a:srgbClr val="bfb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ые интернет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ud.ibi.spb.ru/159/dracnat/dokyment/ti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radchenko-anna.livejournal.com/1560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o.mail.ru/search_images?rch=e&amp;type=all&amp;is=0&amp;q=lym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ru.wikipedia.org/wiki/%D0%94%D0%B5%D0%BD%D1%8C%D0%B3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азвитием человеческого общества, бартер пышно расцвел. Самым знаменитым примером может послужить сделка Питера Миноты в 1626 году: за бусины и безделушки, стоимостью 24$ Минота получил остров в Манхеттене. В 1993 году этот остров был оценен в 50,4 миллиарда $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манхеттен"/>
          <p:cNvPicPr/>
          <p:nvPr/>
        </p:nvPicPr>
        <p:blipFill>
          <a:blip r:embed="rId1"/>
          <a:stretch/>
        </p:blipFill>
        <p:spPr>
          <a:xfrm>
            <a:off x="900000" y="1773360"/>
            <a:ext cx="6840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име с солдатами часто расплачивались мешками с солью.                                             (слово “жалование” пришло оттуда)                                                                                       Соли было мало и она была необходима для консервации продук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Европе, в 13 веке, специи ценились очень высоко и часто были очень редкими, фунт шафрана стоил как тягловая лошадь. За фунт имбиря можно было приобрести корабль (сегодня имбирь стоит 2$ за фунт, но фунт шафрана стоит около 3.000$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meshki"/>
          <p:cNvPicPr/>
          <p:nvPr/>
        </p:nvPicPr>
        <p:blipFill>
          <a:blip r:embed="rId1"/>
          <a:stretch/>
        </p:blipFill>
        <p:spPr>
          <a:xfrm>
            <a:off x="6084720" y="2421000"/>
            <a:ext cx="253692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pice100"/>
          <p:cNvPicPr/>
          <p:nvPr/>
        </p:nvPicPr>
        <p:blipFill>
          <a:blip r:embed="rId2"/>
          <a:stretch/>
        </p:blipFill>
        <p:spPr>
          <a:xfrm>
            <a:off x="755640" y="2781360"/>
            <a:ext cx="5040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тер на Руси проходил те же этапы в своем развитии, что и в других cтранах.  В северных областях "товарными" деньгами служили шкурки куниц, соболей, белок, лисиц. Название древнерусской денежной единицы "куна" берет свое происхождение от меха куницы. Память о "меховых деньгах" осталась в нашем языке в числительном "сорок". Слово "сорок" родственно слову "сорочка" (рубаха). Предполагают, что в древние времена на шитье мехового кафтана или шубы шла связка шкурок куницы или соболя, которую называли "сорок".  Позже название "сорок" распространилось и на число 40. Также у древних славян роль денег выполняли лен и изготовленная из него ткань - полотно. От слова "полотно" произошло всем нам известное слово - пла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674_9"/>
          <p:cNvPicPr/>
          <p:nvPr/>
        </p:nvPicPr>
        <p:blipFill>
          <a:blip r:embed="rId1"/>
          <a:stretch/>
        </p:blipFill>
        <p:spPr>
          <a:xfrm>
            <a:off x="395280" y="3645000"/>
            <a:ext cx="5616720" cy="27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inen2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торговли вынудило покупателей и продавцов согласовать систему, устанавливающую цену – идеальным решением проблемы товарообмена стали деньги. С течением времени, появился термин валюта. Это не всегда были деньги в привычном нам понимании – монеты и банкноты, история знает примеры, когда одной из форм валюты была корова. Формы валюты в древности в различных странах: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енные деньги (Исландия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ь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рсть слона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новая кость (Фиджи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ак (Соломоновы Остров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икеты чая (Сиби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"/>
          <p:cNvPicPr/>
          <p:nvPr/>
        </p:nvPicPr>
        <p:blipFill>
          <a:blip r:embed="rId1"/>
          <a:stretch/>
        </p:blipFill>
        <p:spPr>
          <a:xfrm>
            <a:off x="3635280" y="24210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42880449_3"/>
          <p:cNvPicPr/>
          <p:nvPr/>
        </p:nvPicPr>
        <p:blipFill>
          <a:blip r:embed="rId2"/>
          <a:stretch/>
        </p:blipFill>
        <p:spPr>
          <a:xfrm>
            <a:off x="5076720" y="1989000"/>
            <a:ext cx="1484280" cy="1866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627111_6ac6b39f"/>
          <p:cNvPicPr/>
          <p:nvPr/>
        </p:nvPicPr>
        <p:blipFill>
          <a:blip r:embed="rId3"/>
          <a:stretch/>
        </p:blipFill>
        <p:spPr>
          <a:xfrm>
            <a:off x="6877080" y="242100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00000"/>
          <p:cNvPicPr/>
          <p:nvPr/>
        </p:nvPicPr>
        <p:blipFill>
          <a:blip r:embed="rId4"/>
          <a:stretch/>
        </p:blipFill>
        <p:spPr>
          <a:xfrm>
            <a:off x="900000" y="4221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rimenenie-tabaka"/>
          <p:cNvPicPr/>
          <p:nvPr/>
        </p:nvPicPr>
        <p:blipFill>
          <a:blip r:embed="rId5"/>
          <a:stretch/>
        </p:blipFill>
        <p:spPr>
          <a:xfrm>
            <a:off x="3708360" y="4365720"/>
            <a:ext cx="1871640" cy="18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g1845_large"/>
          <p:cNvPicPr/>
          <p:nvPr/>
        </p:nvPicPr>
        <p:blipFill>
          <a:blip r:embed="rId6"/>
          <a:stretch/>
        </p:blipFill>
        <p:spPr>
          <a:xfrm>
            <a:off x="6084720" y="4149720"/>
            <a:ext cx="2186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близительно в 2500 г. до н.э. в Египте и на территории малой Азии, при оплате товаров и услуг начали использовать различные металлы – золото, серебро и медь. Сначала они обращались в виде слитков, впоследствии, слитки стали клейми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0912bb4c16"/>
          <p:cNvPicPr/>
          <p:nvPr/>
        </p:nvPicPr>
        <p:blipFill>
          <a:blip r:embed="rId1"/>
          <a:stretch/>
        </p:blipFill>
        <p:spPr>
          <a:xfrm>
            <a:off x="1619280" y="2133720"/>
            <a:ext cx="5830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м появились монеты, наличие которых существенно упростило товарообмен. Монеты были дорогими, прочными и удобными. Они не могли умереть или испортиться по дороге к рынку. Вдобавок, использование монет позволяло расплачиваться поштучно (отсчитывать), а не взвешива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ees_treasure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уси монеты появились в Х веке, они чеканились из серебра (ранее использовались деньги отчеканенные в других странах). Сохранились "серебряники" русского князя Владимира. На одной стороне изображен князь, сидящий на престоле ("столе")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843280" y="2637000"/>
            <a:ext cx="34606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Олег</cp:lastModifiedBy>
  <dcterms:modified xsi:type="dcterms:W3CDTF">2012-09-06T14:26:17Z</dcterms:modified>
  <cp:revision>5</cp:revision>
  <dc:subject>Шаблоны презентаций</dc:subject>
  <dc:title>История денежных знаков.</dc:title>
</cp:coreProperties>
</file>