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6.wmf" ContentType="image/x-wmf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48F-845D-4115-9645-D3A7938E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C7B-FF4F-4579-B278-A01EA304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E26F-F93B-4BD4-B28B-DEC4FAAB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262-CF33-44BF-9981-C10ECB33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6FB-680E-4ACC-813E-3B1552FA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E41F-2CF5-4DBC-AC0C-CA6ABC68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33A-79FB-4510-86B9-5422C185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B729-448A-4A69-843F-3077D038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B644-91E0-47BA-A775-CC973445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F9B9-0B1C-41A0-A05E-26698B27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C8E-61AD-40B2-8F11-FEAE42B1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A7FF-CC4F-4AE8-A619-F3046F70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20B4-F69E-4DC8-9D5C-97F8240842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2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0"/>
          <p:cNvSpPr txBox="1"/>
          <p:nvPr/>
        </p:nvSpPr>
        <p:spPr>
          <a:xfrm>
            <a:off x="395280" y="1700280"/>
            <a:ext cx="8497800" cy="280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Распад СССР: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закономерность   или   случайност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971640" y="40464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Покров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042920" y="4365720"/>
            <a:ext cx="7769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огательный материал к уроку истории Отечества в 9 класс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Егорова Ольга Ивановна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99"/>
              </a:solidFill>
              <a:latin typeface="Monotype Corsiv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Ежегодные встречи на высшем уровн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Подписание договора об уничтожении ракет средней и меньшей даль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Соглашение об ОСНВ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ANd9GcQrUU49cXutzZK4S6lw07T2-etcUUthC4Nd4Ts5EzC3DQn5VFPJNgWqlX0Q"/>
          <p:cNvPicPr/>
          <p:nvPr/>
        </p:nvPicPr>
        <p:blipFill>
          <a:blip r:embed="rId3"/>
          <a:stretch/>
        </p:blipFill>
        <p:spPr>
          <a:xfrm>
            <a:off x="2124000" y="1125360"/>
            <a:ext cx="2913120" cy="291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ANd9GcQx5qWcsAbFwDsHwP4YV_HNEtNQoI9Sz9Ex7SPureehFtttkoPqTI31xl5n"/>
          <p:cNvPicPr/>
          <p:nvPr/>
        </p:nvPicPr>
        <p:blipFill>
          <a:blip r:embed="rId4"/>
          <a:stretch/>
        </p:blipFill>
        <p:spPr>
          <a:xfrm>
            <a:off x="2195640" y="4294080"/>
            <a:ext cx="28080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3457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709360" y="1916280"/>
            <a:ext cx="17139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Н. 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742720" y="5157720"/>
            <a:ext cx="21495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нки в Москв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ANd9GcRPF1eWct-Jse2eeHz5FUUbWRaK94j-sjxjJS7v0UBAwKBDcnuTOO_MEy8"/>
          <p:cNvPicPr/>
          <p:nvPr/>
        </p:nvPicPr>
        <p:blipFill>
          <a:blip r:embed="rId3"/>
          <a:stretch/>
        </p:blipFill>
        <p:spPr>
          <a:xfrm>
            <a:off x="1619280" y="3557520"/>
            <a:ext cx="3600360" cy="2706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ANd9GcQvLgHbdn7n1lyaa8vUXudhYsmxDo0t1tGfd6dXUYy4n1ffrjV1OAvDxiw"/>
          <p:cNvPicPr/>
          <p:nvPr/>
        </p:nvPicPr>
        <p:blipFill>
          <a:blip r:embed="rId4"/>
          <a:stretch/>
        </p:blipFill>
        <p:spPr>
          <a:xfrm>
            <a:off x="5292720" y="932040"/>
            <a:ext cx="3672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59280" y="333360"/>
            <a:ext cx="3457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КЧП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7347600" y="6237360"/>
            <a:ext cx="13161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К. Пу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440720" y="3141720"/>
            <a:ext cx="16711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.Баклан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9" descr="h4_28_PD_7"/>
          <p:cNvPicPr/>
          <p:nvPr/>
        </p:nvPicPr>
        <p:blipFill>
          <a:blip r:embed="rId3"/>
          <a:stretch/>
        </p:blipFill>
        <p:spPr>
          <a:xfrm>
            <a:off x="7164360" y="386064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h4_28_PD_6"/>
          <p:cNvPicPr/>
          <p:nvPr/>
        </p:nvPicPr>
        <p:blipFill>
          <a:blip r:embed="rId4"/>
          <a:stretch/>
        </p:blipFill>
        <p:spPr>
          <a:xfrm>
            <a:off x="3348000" y="765000"/>
            <a:ext cx="1673280" cy="2232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5401800" y="6165720"/>
            <a:ext cx="14623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Тизя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113800" y="3141720"/>
            <a:ext cx="21132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тародубц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657800" y="6237360"/>
            <a:ext cx="13496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.Т. Яз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346520" y="3141720"/>
            <a:ext cx="14958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Г.И. Яна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530160" y="6165720"/>
            <a:ext cx="17154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. Павл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1440" y="3141720"/>
            <a:ext cx="18770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А. Крюч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9" descr="h4_26_PD_15"/>
          <p:cNvPicPr/>
          <p:nvPr/>
        </p:nvPicPr>
        <p:blipFill>
          <a:blip r:embed="rId5"/>
          <a:stretch/>
        </p:blipFill>
        <p:spPr>
          <a:xfrm>
            <a:off x="3419640" y="3860640"/>
            <a:ext cx="1672920" cy="223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h4_28_PD_3"/>
          <p:cNvPicPr/>
          <p:nvPr/>
        </p:nvPicPr>
        <p:blipFill>
          <a:blip r:embed="rId6"/>
          <a:stretch/>
        </p:blipFill>
        <p:spPr>
          <a:xfrm>
            <a:off x="7308720" y="76500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3" descr="h4_28_PD_5"/>
          <p:cNvPicPr/>
          <p:nvPr/>
        </p:nvPicPr>
        <p:blipFill>
          <a:blip r:embed="rId7"/>
          <a:stretch/>
        </p:blipFill>
        <p:spPr>
          <a:xfrm>
            <a:off x="1547640" y="386064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5" descr="ANd9GcTHFCAsaoKefqCzzo8mh2gHa-EFJCuBhtKBzQYl7CgHJNG6xDIKL_QtJOYt"/>
          <p:cNvPicPr/>
          <p:nvPr/>
        </p:nvPicPr>
        <p:blipFill>
          <a:blip r:embed="rId8"/>
          <a:stretch/>
        </p:blipFill>
        <p:spPr>
          <a:xfrm>
            <a:off x="5364000" y="765000"/>
            <a:ext cx="1683000" cy="216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7" descr="ANd9GcRKbOh3zk0gly2z37bHQWMLb2ylmJV5-rHy302iS7BplRYvIIJWsFfnbI0"/>
          <p:cNvPicPr/>
          <p:nvPr/>
        </p:nvPicPr>
        <p:blipFill>
          <a:blip r:embed="rId9"/>
          <a:stretch/>
        </p:blipFill>
        <p:spPr>
          <a:xfrm>
            <a:off x="5364000" y="3860640"/>
            <a:ext cx="1600200" cy="223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1" descr="ANd9GcRgPmOMNvVKA_9BNez3qtQXTg543kBJsLHssbYfnViA3KbwNnht5TVUQnhi"/>
          <p:cNvPicPr/>
          <p:nvPr/>
        </p:nvPicPr>
        <p:blipFill>
          <a:blip r:embed="rId10"/>
          <a:stretch/>
        </p:blipFill>
        <p:spPr>
          <a:xfrm>
            <a:off x="1619280" y="836640"/>
            <a:ext cx="1308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640" y="1267920"/>
            <a:ext cx="7056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чем причины провала действий ГКЧП?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ог ли Комитет взять власть в свои ру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ag00317_"/>
          <p:cNvPicPr/>
          <p:nvPr/>
        </p:nvPicPr>
        <p:blipFill>
          <a:blip r:embed="rId3"/>
          <a:stretch/>
        </p:blipFill>
        <p:spPr>
          <a:xfrm>
            <a:off x="4427640" y="44370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спад СССР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547640" y="5661000"/>
            <a:ext cx="73440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Л.Кравчук, В.Шушкевич и Б.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осле подписания Беловежских соглаш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ANd9GcQY0PrDd-rdbWKyhYvEB65938XS6tUbE-i5BW6DyGDlYppJG8ILOt8YPFg"/>
          <p:cNvPicPr/>
          <p:nvPr/>
        </p:nvPicPr>
        <p:blipFill>
          <a:blip r:embed="rId3"/>
          <a:stretch/>
        </p:blipFill>
        <p:spPr>
          <a:xfrm>
            <a:off x="1403280" y="692280"/>
            <a:ext cx="3456000" cy="231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ANd9GcTwa_ouacyPfqG0FSEqbYS3rxKw634AsQs17vE43mlgDWBgn61X0qhInN8"/>
          <p:cNvPicPr/>
          <p:nvPr/>
        </p:nvPicPr>
        <p:blipFill>
          <a:blip r:embed="rId4"/>
          <a:stretch/>
        </p:blipFill>
        <p:spPr>
          <a:xfrm>
            <a:off x="5364000" y="2708280"/>
            <a:ext cx="34894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66560" y="59328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Покажите на карте республики бывшего СССР, вошедшие в состав СН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Н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sng-map-color"/>
          <p:cNvPicPr/>
          <p:nvPr/>
        </p:nvPicPr>
        <p:blipFill>
          <a:blip r:embed="rId3"/>
          <a:stretch/>
        </p:blipFill>
        <p:spPr>
          <a:xfrm>
            <a:off x="1979640" y="2133720"/>
            <a:ext cx="6624720" cy="4064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ag00317_"/>
          <p:cNvPicPr/>
          <p:nvPr/>
        </p:nvPicPr>
        <p:blipFill>
          <a:blip r:embed="rId4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омашнее задание: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мы потеря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 что приобре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 распадом ССС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следствия распада ССС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j0299125"/>
          <p:cNvPicPr/>
          <p:nvPr/>
        </p:nvPicPr>
        <p:blipFill>
          <a:blip r:embed="rId3"/>
          <a:stretch/>
        </p:blipFill>
        <p:spPr>
          <a:xfrm>
            <a:off x="4572000" y="4581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31640" y="54900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История 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России, 1945—2008 гг. : кн. для учителя / [А.В. Филиппов, А.И. Уткин, С.В. Алекс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"История России с древнейших времен до конца ХХ века" Пособие для поступающих в вузы / Под ред. В.В. Ке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www.nkj.ru/archive/articles/7602/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http://www.pnp.ru/newspaper/20100416/2926.ht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писок использованных источников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1. Внутренняя политика: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Эконом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циональная полит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2.   Внешняя политик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9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лан урок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3" descr="ag00029_"/>
          <p:cNvPicPr/>
          <p:nvPr/>
        </p:nvPicPr>
        <p:blipFill>
          <a:blip r:embed="rId3"/>
          <a:stretch/>
        </p:blipFill>
        <p:spPr>
          <a:xfrm>
            <a:off x="7236000" y="5157720"/>
            <a:ext cx="157464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Выяснить, 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был ли распад СССР исторической неизбежность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ние на урок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ag00317_"/>
          <p:cNvPicPr/>
          <p:nvPr/>
        </p:nvPicPr>
        <p:blipFill>
          <a:blip r:embed="rId3"/>
          <a:stretch/>
        </p:blipFill>
        <p:spPr>
          <a:xfrm>
            <a:off x="7740720" y="530064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Распад  СССР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закономерный результат         в распаде стр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исторического                виноваты конкрет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развития                                  политики,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«развалившие ССС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Line 7"/>
          <p:cNvSpPr/>
          <p:nvPr/>
        </p:nvSpPr>
        <p:spPr>
          <a:xfrm>
            <a:off x="5867280" y="1268280"/>
            <a:ext cx="10098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3708000" y="1341360"/>
            <a:ext cx="863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j0299125"/>
          <p:cNvPicPr/>
          <p:nvPr/>
        </p:nvPicPr>
        <p:blipFill>
          <a:blip r:embed="rId3"/>
          <a:stretch/>
        </p:blipFill>
        <p:spPr>
          <a:xfrm>
            <a:off x="4427640" y="429264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Внутренняя политика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Экономи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47280" y="33336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Внутренняя полит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4158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02b6430959e5d0dbf851f3e924250ecd"/>
          <p:cNvPicPr/>
          <p:nvPr/>
        </p:nvPicPr>
        <p:blipFill>
          <a:blip r:embed="rId3"/>
          <a:stretch/>
        </p:blipFill>
        <p:spPr>
          <a:xfrm>
            <a:off x="6588000" y="404640"/>
            <a:ext cx="2109960" cy="198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images"/>
          <p:cNvPicPr/>
          <p:nvPr/>
        </p:nvPicPr>
        <p:blipFill>
          <a:blip r:embed="rId4"/>
          <a:stretch/>
        </p:blipFill>
        <p:spPr>
          <a:xfrm>
            <a:off x="5219640" y="3141720"/>
            <a:ext cx="3753000" cy="25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images (1)"/>
          <p:cNvPicPr/>
          <p:nvPr/>
        </p:nvPicPr>
        <p:blipFill>
          <a:blip r:embed="rId5"/>
          <a:stretch/>
        </p:blipFill>
        <p:spPr>
          <a:xfrm>
            <a:off x="1547640" y="2637000"/>
            <a:ext cx="3575160" cy="2349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2843280" y="5877000"/>
            <a:ext cx="47530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продовольственных магазинах Советского Союз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403280" y="0"/>
          <a:ext cx="7740720" cy="6524640"/>
        </p:xfrm>
        <a:graphic>
          <a:graphicData uri="http://schemas.openxmlformats.org/drawingml/2006/table">
            <a:tbl>
              <a:tblPr/>
              <a:tblGrid>
                <a:gridCol w="4287960"/>
                <a:gridCol w="1671480"/>
                <a:gridCol w="1781280"/>
              </a:tblGrid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 ССС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й запас, тонн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й курс рубля к доллар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 рубл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рубле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е темпы роста советской экономик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,3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ий долг, млрд. долларо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Monotype Corsiva"/>
              </a:rPr>
              <a:t>Национальная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ANd9GcTDhaRE7drjef0STc5hxJpBm3tfmnSm39VVmTPUdDCDovg_r8fw2SuTJJ0"/>
          <p:cNvPicPr/>
          <p:nvPr/>
        </p:nvPicPr>
        <p:blipFill>
          <a:blip r:embed="rId3"/>
          <a:stretch/>
        </p:blipFill>
        <p:spPr>
          <a:xfrm>
            <a:off x="1979640" y="2133720"/>
            <a:ext cx="2940120" cy="206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Nd9GcQ0QxS3c2MS7vinAKwBI6tJVeAmCtW8Do5wV5dp2qMbt7pSBKmwDPtjHTO8"/>
          <p:cNvPicPr/>
          <p:nvPr/>
        </p:nvPicPr>
        <p:blipFill>
          <a:blip r:embed="rId4"/>
          <a:stretch/>
        </p:blipFill>
        <p:spPr>
          <a:xfrm>
            <a:off x="5796000" y="692280"/>
            <a:ext cx="3024000" cy="21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ANd9GcRK-SVlQ6tHw_ip8Z--Qz5xWk2jGRZpCb0C6FTb9msxRdgPpB7HDdjzEA"/>
          <p:cNvPicPr/>
          <p:nvPr/>
        </p:nvPicPr>
        <p:blipFill>
          <a:blip r:embed="rId5"/>
          <a:stretch/>
        </p:blipFill>
        <p:spPr>
          <a:xfrm>
            <a:off x="5867280" y="3068640"/>
            <a:ext cx="3006720" cy="2071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1749600" y="5373720"/>
            <a:ext cx="73944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8 г.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рмянское большинство населения Нагорно-Карабахско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втономной области Азербайджа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о передачи области в состав Армени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ANd9GcQA1WLzyaCzjkelTDzHoWEvj3B1iuosGacHXvPeAFeif0LdNdqO4lZ6teg8"/>
          <p:cNvPicPr/>
          <p:nvPr/>
        </p:nvPicPr>
        <p:blipFill>
          <a:blip r:embed="rId3"/>
          <a:stretch/>
        </p:blipFill>
        <p:spPr>
          <a:xfrm>
            <a:off x="1979640" y="260280"/>
            <a:ext cx="3139920" cy="236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ANd9GcTvgWTs4MXpjOgFaHConJFurTlttej01PBUhO8aWMtZ1Ac5eZumiQQWOH0"/>
          <p:cNvPicPr/>
          <p:nvPr/>
        </p:nvPicPr>
        <p:blipFill>
          <a:blip r:embed="rId4"/>
          <a:stretch/>
        </p:blipFill>
        <p:spPr>
          <a:xfrm>
            <a:off x="1979640" y="2997360"/>
            <a:ext cx="3162240" cy="207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Nd9GcT4z1122E6iqXQXs0d-FtBHENY0daQN6qt3lLCJqO4CxKOAUSRANRRHToE"/>
          <p:cNvPicPr/>
          <p:nvPr/>
        </p:nvPicPr>
        <p:blipFill>
          <a:blip r:embed="rId5"/>
          <a:stretch/>
        </p:blipFill>
        <p:spPr>
          <a:xfrm>
            <a:off x="5580000" y="1628640"/>
            <a:ext cx="3259080" cy="222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745000" y="5516640"/>
            <a:ext cx="5839560" cy="9169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9 г. митинг в Тбилис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 ликвидации автономи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 составе Грузии и выхода республики из СССР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2.  Внешняя поли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gor_reig"/>
          <p:cNvPicPr/>
          <p:nvPr/>
        </p:nvPicPr>
        <p:blipFill>
          <a:blip r:embed="rId3"/>
          <a:stretch/>
        </p:blipFill>
        <p:spPr>
          <a:xfrm>
            <a:off x="1692360" y="162864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мае 1988 г. начался вывод советских войск из Афганистана. Привел к неизбежному краху просоветского режима Наджибулл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6-24T18:59:46Z</dcterms:modified>
  <cp:revision>113</cp:revision>
  <dc:subject/>
  <dc:title>Слайд 1</dc:title>
</cp:coreProperties>
</file>