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6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A87-F61E-4565-A681-E35E91A7E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4DA-70AD-42A2-B944-E03FB1BED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5E12-BCA6-4D10-AF1F-2D12BC9E3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200-AEF2-45ED-AE7C-119A4E45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7776-B38E-470E-9247-1E14EB41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A1AB-E30A-4EA1-BA43-B668F3A5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BAB0-8301-4F17-939D-C9C6D643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B5E-00E4-4755-9DF5-87C95947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D12-4CF1-4C0E-BB37-E7C6BE50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4C45-65C7-4EC0-8184-E65F17E6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C672-27D7-4144-9466-4DC91859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572-26DC-485F-A09A-E4FB4DD1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4D47-BB24-489E-BE39-3A8FCC9A94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1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2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10"/>
          <p:cNvSpPr txBox="1"/>
          <p:nvPr/>
        </p:nvSpPr>
        <p:spPr>
          <a:xfrm>
            <a:off x="395280" y="1700280"/>
            <a:ext cx="8497800" cy="2808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Распад СССР: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закономерность   или   случайность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971640" y="404640"/>
            <a:ext cx="7559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яя общеобразовательная школа №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Покровс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042920" y="4365720"/>
            <a:ext cx="77691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помогательный материал к уроку истории Отечества в 9 класс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Егорова Ольга Ивановна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ffff99"/>
              </a:solidFill>
              <a:latin typeface="Monotype Corsiva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7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Ежегодные встречи на высшем уровн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Подписание договора об уничтожении ракет средней и меньшей дальност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99"/>
                </a:solidFill>
                <a:latin typeface="Monotype Corsiva"/>
              </a:rPr>
              <a:t>Соглашение об ОСНВ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9" descr="ANd9GcQrUU49cXutzZK4S6lw07T2-etcUUthC4Nd4Ts5EzC3DQn5VFPJNgWqlX0Q"/>
          <p:cNvPicPr/>
          <p:nvPr/>
        </p:nvPicPr>
        <p:blipFill>
          <a:blip r:embed="rId3"/>
          <a:stretch/>
        </p:blipFill>
        <p:spPr>
          <a:xfrm>
            <a:off x="2124000" y="1125360"/>
            <a:ext cx="2913120" cy="291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ANd9GcQx5qWcsAbFwDsHwP4YV_HNEtNQoI9Sz9Ex7SPureehFtttkoPqTI31xl5n"/>
          <p:cNvPicPr/>
          <p:nvPr/>
        </p:nvPicPr>
        <p:blipFill>
          <a:blip r:embed="rId4"/>
          <a:stretch/>
        </p:blipFill>
        <p:spPr>
          <a:xfrm>
            <a:off x="2195640" y="4294080"/>
            <a:ext cx="280800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3457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2709360" y="1916280"/>
            <a:ext cx="17139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Н. 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5742720" y="5157720"/>
            <a:ext cx="21495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анки в Моск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ANd9GcRPF1eWct-Jse2eeHz5FUUbWRaK94j-sjxjJS7v0UBAwKBDcnuTOO_MEy8"/>
          <p:cNvPicPr/>
          <p:nvPr/>
        </p:nvPicPr>
        <p:blipFill>
          <a:blip r:embed="rId3"/>
          <a:stretch/>
        </p:blipFill>
        <p:spPr>
          <a:xfrm>
            <a:off x="1619280" y="3557520"/>
            <a:ext cx="3600360" cy="27068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ANd9GcQvLgHbdn7n1lyaa8vUXudhYsmxDo0t1tGfd6dXUYy4n1ffrjV1OAvDxiw"/>
          <p:cNvPicPr/>
          <p:nvPr/>
        </p:nvPicPr>
        <p:blipFill>
          <a:blip r:embed="rId4"/>
          <a:stretch/>
        </p:blipFill>
        <p:spPr>
          <a:xfrm>
            <a:off x="5292720" y="932040"/>
            <a:ext cx="367200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59280" y="333360"/>
            <a:ext cx="3457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ГКЧП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347600" y="6237360"/>
            <a:ext cx="131616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Б.К. Пуг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440720" y="3141720"/>
            <a:ext cx="16711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О.Баклан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9" descr="h4_28_PD_7"/>
          <p:cNvPicPr/>
          <p:nvPr/>
        </p:nvPicPr>
        <p:blipFill>
          <a:blip r:embed="rId3"/>
          <a:stretch/>
        </p:blipFill>
        <p:spPr>
          <a:xfrm>
            <a:off x="7164360" y="3860640"/>
            <a:ext cx="1674720" cy="223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1" descr="h4_28_PD_6"/>
          <p:cNvPicPr/>
          <p:nvPr/>
        </p:nvPicPr>
        <p:blipFill>
          <a:blip r:embed="rId4"/>
          <a:stretch/>
        </p:blipFill>
        <p:spPr>
          <a:xfrm>
            <a:off x="3348000" y="765000"/>
            <a:ext cx="1673280" cy="22323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5401800" y="6165720"/>
            <a:ext cx="146232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А.Тизя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113800" y="3141720"/>
            <a:ext cx="21132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тародубц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657800" y="6237360"/>
            <a:ext cx="13496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.Т. Яз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7346520" y="3141720"/>
            <a:ext cx="14958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.И. Янае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530160" y="6165720"/>
            <a:ext cx="171540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С. Пав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41440" y="3141720"/>
            <a:ext cx="1877040" cy="39888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.А. Крючк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9" descr="h4_26_PD_15"/>
          <p:cNvPicPr/>
          <p:nvPr/>
        </p:nvPicPr>
        <p:blipFill>
          <a:blip r:embed="rId5"/>
          <a:stretch/>
        </p:blipFill>
        <p:spPr>
          <a:xfrm>
            <a:off x="3419640" y="3860640"/>
            <a:ext cx="1672920" cy="223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1" descr="h4_28_PD_3"/>
          <p:cNvPicPr/>
          <p:nvPr/>
        </p:nvPicPr>
        <p:blipFill>
          <a:blip r:embed="rId6"/>
          <a:stretch/>
        </p:blipFill>
        <p:spPr>
          <a:xfrm>
            <a:off x="7308720" y="76500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3" descr="h4_28_PD_5"/>
          <p:cNvPicPr/>
          <p:nvPr/>
        </p:nvPicPr>
        <p:blipFill>
          <a:blip r:embed="rId7"/>
          <a:stretch/>
        </p:blipFill>
        <p:spPr>
          <a:xfrm>
            <a:off x="1547640" y="3860640"/>
            <a:ext cx="1673280" cy="2232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5" descr="ANd9GcTHFCAsaoKefqCzzo8mh2gHa-EFJCuBhtKBzQYl7CgHJNG6xDIKL_QtJOYt"/>
          <p:cNvPicPr/>
          <p:nvPr/>
        </p:nvPicPr>
        <p:blipFill>
          <a:blip r:embed="rId8"/>
          <a:stretch/>
        </p:blipFill>
        <p:spPr>
          <a:xfrm>
            <a:off x="5364000" y="765000"/>
            <a:ext cx="1683000" cy="2160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7" descr="ANd9GcRKbOh3zk0gly2z37bHQWMLb2ylmJV5-rHy302iS7BplRYvIIJWsFfnbI0"/>
          <p:cNvPicPr/>
          <p:nvPr/>
        </p:nvPicPr>
        <p:blipFill>
          <a:blip r:embed="rId9"/>
          <a:stretch/>
        </p:blipFill>
        <p:spPr>
          <a:xfrm>
            <a:off x="5364000" y="3860640"/>
            <a:ext cx="1600200" cy="2232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1" descr="ANd9GcRgPmOMNvVKA_9BNez3qtQXTg543kBJsLHssbYfnViA3KbwNnht5TVUQnhi"/>
          <p:cNvPicPr/>
          <p:nvPr/>
        </p:nvPicPr>
        <p:blipFill>
          <a:blip r:embed="rId10"/>
          <a:stretch/>
        </p:blipFill>
        <p:spPr>
          <a:xfrm>
            <a:off x="1619280" y="836640"/>
            <a:ext cx="1308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47640" y="1267920"/>
            <a:ext cx="705672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чем причины провала действий ГКЧП? 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Мог ли Комитет взять власть в свои рук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ag00317_"/>
          <p:cNvPicPr/>
          <p:nvPr/>
        </p:nvPicPr>
        <p:blipFill>
          <a:blip r:embed="rId3"/>
          <a:stretch/>
        </p:blipFill>
        <p:spPr>
          <a:xfrm>
            <a:off x="4427640" y="443700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Распад СССР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547640" y="5661000"/>
            <a:ext cx="73440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.Кравчук, В.Шушкевич и Б.Ельци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сле подписания Беловежских соглаш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ANd9GcQY0PrDd-rdbWKyhYvEB65938XS6tUbE-i5BW6DyGDlYppJG8ILOt8YPFg"/>
          <p:cNvPicPr/>
          <p:nvPr/>
        </p:nvPicPr>
        <p:blipFill>
          <a:blip r:embed="rId3"/>
          <a:stretch/>
        </p:blipFill>
        <p:spPr>
          <a:xfrm>
            <a:off x="1403280" y="692280"/>
            <a:ext cx="3456000" cy="2313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ANd9GcTwa_ouacyPfqG0FSEqbYS3rxKw634AsQs17vE43mlgDWBgn61X0qhInN8"/>
          <p:cNvPicPr/>
          <p:nvPr/>
        </p:nvPicPr>
        <p:blipFill>
          <a:blip r:embed="rId4"/>
          <a:stretch/>
        </p:blipFill>
        <p:spPr>
          <a:xfrm>
            <a:off x="5364000" y="2708280"/>
            <a:ext cx="348948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366560" y="59328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Покажите на карте республики бывшего СССР, вошедшие в состав СН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НГ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sng-map-color"/>
          <p:cNvPicPr/>
          <p:nvPr/>
        </p:nvPicPr>
        <p:blipFill>
          <a:blip r:embed="rId3"/>
          <a:stretch/>
        </p:blipFill>
        <p:spPr>
          <a:xfrm>
            <a:off x="1979640" y="2133720"/>
            <a:ext cx="6624720" cy="406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ag00317_"/>
          <p:cNvPicPr/>
          <p:nvPr/>
        </p:nvPicPr>
        <p:blipFill>
          <a:blip r:embed="rId4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Домашнее задание: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Что мы потеря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и что приобрели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распадом СССР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оследствия распада ССС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9" descr="j0299125"/>
          <p:cNvPicPr/>
          <p:nvPr/>
        </p:nvPicPr>
        <p:blipFill>
          <a:blip r:embed="rId3"/>
          <a:stretch/>
        </p:blipFill>
        <p:spPr>
          <a:xfrm>
            <a:off x="4572000" y="458136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331640" y="54900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История 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России, 1945—2008 гг. : кн. для учителя / [А.В. Филиппов, А.И. Уткин, С.В. Алексе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"История России с древнейших времен до конца ХХ века" Пособие для поступающих в вузы / Под ред. В.В. Ке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cc"/>
                </a:solidFill>
                <a:latin typeface="Arial"/>
              </a:rPr>
              <a:t>http://www.nkj.ru/archive/articles/7602/</a:t>
            </a: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Arial"/>
              </a:rPr>
              <a:t>http://www.pnp.ru/newspaper/20100416/2926.htm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Список использованных источников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1. Внутренняя политика: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Эконом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Национальная полити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2.   Внешняя политика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3.   Август 1991 г.</a:t>
            </a:r>
            <a:br>
              <a:rPr sz="5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5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9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лан урока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3" descr="ag00029_"/>
          <p:cNvPicPr/>
          <p:nvPr/>
        </p:nvPicPr>
        <p:blipFill>
          <a:blip r:embed="rId3"/>
          <a:stretch/>
        </p:blipFill>
        <p:spPr>
          <a:xfrm>
            <a:off x="7236000" y="5157720"/>
            <a:ext cx="157464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5280" y="274320"/>
            <a:ext cx="685152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Выяснить, </a:t>
            </a:r>
            <a:br>
              <a:rPr sz="4800"/>
            </a:br>
            <a:r>
              <a:rPr b="1" i="1" lang="ru-RU" sz="4800" spc="-1" strike="noStrike">
                <a:solidFill>
                  <a:srgbClr val="000000"/>
                </a:solidFill>
                <a:latin typeface="Monotype Corsiva"/>
              </a:rPr>
              <a:t>был ли распад СССР исторической неизбежность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 на урок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ag00317_"/>
          <p:cNvPicPr/>
          <p:nvPr/>
        </p:nvPicPr>
        <p:blipFill>
          <a:blip r:embed="rId3"/>
          <a:stretch/>
        </p:blipFill>
        <p:spPr>
          <a:xfrm>
            <a:off x="7740720" y="530064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Распад  СССР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закономерный результат         в распаде стран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исторического                виноваты конкретн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развития                                  политики,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ffff99"/>
                </a:solidFill>
                <a:latin typeface="Monotype Corsiva"/>
              </a:rPr>
              <a:t>«развалившие ССС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Line 7"/>
          <p:cNvSpPr/>
          <p:nvPr/>
        </p:nvSpPr>
        <p:spPr>
          <a:xfrm>
            <a:off x="5867280" y="1268280"/>
            <a:ext cx="100980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H="1">
            <a:off x="3708000" y="1341360"/>
            <a:ext cx="863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j0299125"/>
          <p:cNvPicPr/>
          <p:nvPr/>
        </p:nvPicPr>
        <p:blipFill>
          <a:blip r:embed="rId3"/>
          <a:stretch/>
        </p:blipFill>
        <p:spPr>
          <a:xfrm>
            <a:off x="4427640" y="429264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нутренняя политика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Экономик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547280" y="33336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Внутренняя полити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Font typeface="Monotype Corsiv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Эконом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141588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02b6430959e5d0dbf851f3e924250ecd"/>
          <p:cNvPicPr/>
          <p:nvPr/>
        </p:nvPicPr>
        <p:blipFill>
          <a:blip r:embed="rId3"/>
          <a:stretch/>
        </p:blipFill>
        <p:spPr>
          <a:xfrm>
            <a:off x="6588000" y="404640"/>
            <a:ext cx="2109960" cy="1989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ages"/>
          <p:cNvPicPr/>
          <p:nvPr/>
        </p:nvPicPr>
        <p:blipFill>
          <a:blip r:embed="rId4"/>
          <a:stretch/>
        </p:blipFill>
        <p:spPr>
          <a:xfrm>
            <a:off x="5219640" y="3141720"/>
            <a:ext cx="3753000" cy="2520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images (1)"/>
          <p:cNvPicPr/>
          <p:nvPr/>
        </p:nvPicPr>
        <p:blipFill>
          <a:blip r:embed="rId5"/>
          <a:stretch/>
        </p:blipFill>
        <p:spPr>
          <a:xfrm>
            <a:off x="1547640" y="2637000"/>
            <a:ext cx="3575160" cy="2349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2843280" y="5877000"/>
            <a:ext cx="4753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продовольственных магазинах Советского Союз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1403280" y="0"/>
          <a:ext cx="7740720" cy="6524640"/>
        </p:xfrm>
        <a:graphic>
          <a:graphicData uri="http://schemas.openxmlformats.org/drawingml/2006/table">
            <a:tbl>
              <a:tblPr/>
              <a:tblGrid>
                <a:gridCol w="4287960"/>
                <a:gridCol w="1671480"/>
                <a:gridCol w="1781280"/>
              </a:tblGrid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 СССР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й запас, тонн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й курс рубля к доллару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4 рубл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рублей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ициальные темпы роста советской экономики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,3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1 %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ий долг, млрд. долларов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,9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Monotype Corsiva"/>
              </a:rPr>
              <a:t>Национальная поли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ANd9GcTDhaRE7drjef0STc5hxJpBm3tfmnSm39VVmTPUdDCDovg_r8fw2SuTJJ0"/>
          <p:cNvPicPr/>
          <p:nvPr/>
        </p:nvPicPr>
        <p:blipFill>
          <a:blip r:embed="rId3"/>
          <a:stretch/>
        </p:blipFill>
        <p:spPr>
          <a:xfrm>
            <a:off x="1979640" y="2133720"/>
            <a:ext cx="2940120" cy="206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Nd9GcQ0QxS3c2MS7vinAKwBI6tJVeAmCtW8Do5wV5dp2qMbt7pSBKmwDPtjHTO8"/>
          <p:cNvPicPr/>
          <p:nvPr/>
        </p:nvPicPr>
        <p:blipFill>
          <a:blip r:embed="rId4"/>
          <a:stretch/>
        </p:blipFill>
        <p:spPr>
          <a:xfrm>
            <a:off x="5796000" y="692280"/>
            <a:ext cx="3024000" cy="21571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ANd9GcRK-SVlQ6tHw_ip8Z--Qz5xWk2jGRZpCb0C6FTb9msxRdgPpB7HDdjzEA"/>
          <p:cNvPicPr/>
          <p:nvPr/>
        </p:nvPicPr>
        <p:blipFill>
          <a:blip r:embed="rId5"/>
          <a:stretch/>
        </p:blipFill>
        <p:spPr>
          <a:xfrm>
            <a:off x="5867280" y="3068640"/>
            <a:ext cx="3006720" cy="2071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1749600" y="5373720"/>
            <a:ext cx="7394400" cy="11912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8 г.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рмянское большинство населения Нагорно-Карабахско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втономной области Азербайджан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о передачи области в состав Армении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366560" y="259920"/>
            <a:ext cx="7777080" cy="626436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ANd9GcQA1WLzyaCzjkelTDzHoWEvj3B1iuosGacHXvPeAFeif0LdNdqO4lZ6teg8"/>
          <p:cNvPicPr/>
          <p:nvPr/>
        </p:nvPicPr>
        <p:blipFill>
          <a:blip r:embed="rId3"/>
          <a:stretch/>
        </p:blipFill>
        <p:spPr>
          <a:xfrm>
            <a:off x="1979640" y="260280"/>
            <a:ext cx="3139920" cy="2360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ANd9GcTvgWTs4MXpjOgFaHConJFurTlttej01PBUhO8aWMtZ1Ac5eZumiQQWOH0"/>
          <p:cNvPicPr/>
          <p:nvPr/>
        </p:nvPicPr>
        <p:blipFill>
          <a:blip r:embed="rId4"/>
          <a:stretch/>
        </p:blipFill>
        <p:spPr>
          <a:xfrm>
            <a:off x="1979640" y="2997360"/>
            <a:ext cx="3162240" cy="2077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ANd9GcT4z1122E6iqXQXs0d-FtBHENY0daQN6qt3lLCJqO4CxKOAUSRANRRHToE"/>
          <p:cNvPicPr/>
          <p:nvPr/>
        </p:nvPicPr>
        <p:blipFill>
          <a:blip r:embed="rId5"/>
          <a:stretch/>
        </p:blipFill>
        <p:spPr>
          <a:xfrm>
            <a:off x="5580000" y="1628640"/>
            <a:ext cx="3259080" cy="22258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2745000" y="5516640"/>
            <a:ext cx="5839560" cy="9169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1989 г. митинг в Тбилиси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потребовал ликвидации автономий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в составе Грузии и выхода республики из СССР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547280" y="260280"/>
            <a:ext cx="7272360" cy="6337440"/>
          </a:xfrm>
          <a:prstGeom prst="rect">
            <a:avLst/>
          </a:prstGeom>
          <a:gradFill rotWithShape="0">
            <a:gsLst>
              <a:gs pos="0">
                <a:srgbClr val="47182f"/>
              </a:gs>
              <a:gs pos="50000">
                <a:srgbClr val="993366"/>
              </a:gs>
              <a:gs pos="100000">
                <a:srgbClr val="4718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9"/>
                </a:solidFill>
                <a:latin typeface="Monotype Corsiva"/>
              </a:rPr>
              <a:t>2.  Внешняя поли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gor_reig"/>
          <p:cNvPicPr/>
          <p:nvPr/>
        </p:nvPicPr>
        <p:blipFill>
          <a:blip r:embed="rId3"/>
          <a:stretch/>
        </p:blipFill>
        <p:spPr>
          <a:xfrm>
            <a:off x="1692360" y="162864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5651640" y="907920"/>
            <a:ext cx="309384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Monotype Corsiva"/>
              </a:rPr>
              <a:t>мае 1988 г. начался вывод советских войск из Афганистана. Привел к неизбежному краху просоветского режима Наджибуллы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Олег</cp:lastModifiedBy>
  <dcterms:modified xsi:type="dcterms:W3CDTF">2012-06-24T18:59:46Z</dcterms:modified>
  <cp:revision>113</cp:revision>
  <dc:subject/>
  <dc:title>Слайд 1</dc:title>
</cp:coreProperties>
</file>