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873-DF9C-4784-8A98-53600771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122-EF70-4B14-8D0B-73A468CD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68D-448A-4CC4-84B4-A5081CCB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29A-3FB3-4023-AFD1-8EC49EC6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BB8-DADC-463F-8B6A-ABEC497E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4D7-652D-434E-AB43-5213F814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9D8-53ED-4732-B311-24160B27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E30-6D35-40C4-8789-F75A6657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38C-FF8C-485E-84C8-B9332D0E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4BD-653E-4729-ABF3-24CEC69F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B19-BF48-48F3-AA94-D88AE0A9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1D8-6594-49A1-BF44-A9B492D4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4C9D-C2EB-47F3-B8A4-8C6F4FF70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-111240"/>
            <a:ext cx="9524880" cy="707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80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56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нглийские колонии в Северной Америк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MayflowerHarbor.jpg"/>
          <p:cNvPicPr/>
          <p:nvPr/>
        </p:nvPicPr>
        <p:blipFill>
          <a:blip r:embed="rId2"/>
          <a:stretch/>
        </p:blipFill>
        <p:spPr>
          <a:xfrm>
            <a:off x="4572000" y="40291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Файл:Embarkation of the Pilgrims.jpg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5078160" cy="624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2971800"/>
            <a:ext cx="2743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ботае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лас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е коло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Вигвам.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Ирокезы середины 16 века. Создание Конфедерации ирокезов (Лиги Пяти Племён). 1) Деганавида (Миротворец), 2) Тадодахо, 3) Гайвата (Ayouhwatha), 4) Священная связка"/>
          <p:cNvPicPr/>
          <p:nvPr/>
        </p:nvPicPr>
        <p:blipFill>
          <a:blip r:embed="rId3"/>
          <a:stretch/>
        </p:blipFill>
        <p:spPr>
          <a:xfrm>
            <a:off x="925560" y="1447920"/>
            <a:ext cx="364644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867280"/>
            <a:ext cx="190476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рок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410080"/>
            <a:ext cx="32767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гвам алгонк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езультате колонизации индейцы были вытеснены за пределы колонии или истреблены, а их земли захвачены. Колонисты пытались объяснить свои действия религиозными убежд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28600"/>
            <a:ext cx="792468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ое обществ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зяйственна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671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91120" cy="31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5029200"/>
            <a:ext cx="3809880" cy="1219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ция хл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и таба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51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я 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Шри-Ланка. Рис. Фото: Сима Петрова/Великая Эпоха (The Epoch Times)"/>
          <p:cNvPicPr/>
          <p:nvPr/>
        </p:nvPicPr>
        <p:blipFill>
          <a:blip r:embed="rId2"/>
          <a:stretch/>
        </p:blipFill>
        <p:spPr>
          <a:xfrm>
            <a:off x="990720" y="137160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жизнь натуральное рис продукты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522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 колониальн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422892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403884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438280"/>
            <a:ext cx="5867280" cy="838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ёмные раб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42900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таторы - землевла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495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аконтрактованные слу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38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ры - 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Законтрактованные слуг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это иммигранты – бедняки, не имеющие средства для переезда за океан, заключившие кабальные соглашения с купцами и судовладельцами, которые их перепродавали в Амер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ЫБНЫМ ПРОМЫСЛОМ МОРЕПЛАВ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МАНУФАКТУР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северных колониях занима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ЕР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КОРАБЛЕ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Центральных колония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колонии и их 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иальное общество и хозяйствен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ло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формирования североамериканской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ология америк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 с метропол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ПЛАНТАЦИ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ХОЗЯЙСТВО - ПРИМЕН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ТРУДА НЕГРОВ-РА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южных коло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ение колония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 – глава коло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емый английским коро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85840" y="3047760"/>
            <a:ext cx="1523880" cy="10047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124080"/>
            <a:ext cx="27432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14800"/>
            <a:ext cx="29718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048120"/>
            <a:ext cx="2895840" cy="10666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1814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уществовало и местное самоуправл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альные ассамблеи, состоящие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палат: верхней (Совет) и ни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ые ассамбл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342720"/>
            <a:ext cx="914400" cy="2971800"/>
          </a:xfrm>
          <a:prstGeom prst="leftArrowCallout">
            <a:avLst>
              <a:gd name="adj1" fmla="val 81258"/>
              <a:gd name="adj2" fmla="val 81250"/>
              <a:gd name="adj3" fmla="val 16667"/>
              <a:gd name="adj4" fmla="val 66673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24160"/>
            <a:ext cx="41148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хняя пал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ом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стокра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362320"/>
            <a:ext cx="3733560" cy="21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па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иралась муж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822960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предоставляли жителям 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аточно широкие права, определяло жал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ам и его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североамерикан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1 – 21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деология америка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РОПОЛ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СУДАРСТВО,ЖИТЕЛИ КОТОРОГО ОСНОВАЛИ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Параграф 23, вопросы, запис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но уже Западная Европа смотрела на Новый Свет как на источник богатств. В начале XVII века англичане первыми образуют колонии в Северной Амер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C8%F0%EE%EA%E5%E7%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198036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varvar.ru/arhiv/slovo/images/mohawk-18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2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D0%90%D0%BB%D0%B3%D0%BE%D0%BD%D0%BA%D0%B8%D0%BD%D1%8B_(%D0%BD%D0%B0%D1%80%D0%BE%D0%B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36576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ochka.narod.ru/hlopo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886200"/>
            <a:ext cx="7391520" cy="2590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ициатива в освоении колоний принадлежала английской короне. В 1606 году Яков I пожаловал хартии на основание побережья двум торговым компаниям – Плимутской и Лон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я   Яков I (photo   James I)"/>
          <p:cNvPicPr/>
          <p:nvPr/>
        </p:nvPicPr>
        <p:blipFill>
          <a:blip r:embed="rId2"/>
          <a:stretch/>
        </p:blipFill>
        <p:spPr>
          <a:xfrm>
            <a:off x="990720" y="18669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29718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440" y="152280"/>
            <a:ext cx="876312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ы думаете, кто были 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ленцы? По какой причине пересел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80010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е пурита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жавш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ледования ко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807732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рестья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терявшие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на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925040" cy="13716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покойные бедня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, сред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много молодё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800100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пособные к т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MayflowerHarbor.jpg"/>
          <p:cNvPicPr/>
          <p:nvPr/>
        </p:nvPicPr>
        <p:blipFill>
          <a:blip r:embed="rId2"/>
          <a:stretch/>
        </p:blipFill>
        <p:spPr>
          <a:xfrm>
            <a:off x="990720" y="380880"/>
            <a:ext cx="7848360" cy="43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4724280"/>
            <a:ext cx="7848360" cy="1828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 декабре 1620 года на Атлантическое побережь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ыл корабль « Мэйфлауэр» со 102 пурита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е бежали от пре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цы- пилигримы са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ораб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Файл:Embarkation of the Pilgrims.jpg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жде чем сойти на берег, мужчины подписали соглашение о совместной организации жизни по законам и обычаям пуританской веры и морали. Затем на этом месте был построен город Новый Плимут, который положил начало колониям Новой Англии. День высадки переселенцев отмечается в США как праздник –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День отцов – пилигрим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тяжении 75 лет после появления в 1607 году первой английской колонии Виргиния возникло ещё 12 колоний — Нью-Хемпшир, Массачусетс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-Айленд, Коннектикут, Нью- Йорк, Нью-Джерси,  Делав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львания, Мэриленд, Северная Каролина, Южная Каролина и Джордж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кар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5-04T09:2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