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BDD-78F4-434B-9821-EE75E405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784-AB6B-413B-A520-7F9868DE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01D-DBE0-497C-BB2C-37E30EFA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E36-DF4D-465C-844C-EF0FF1B8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FD14-3596-41E0-A8ED-2D2FC4E4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EE0-2E69-4E5B-B12D-ACB8EBCC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7945-A583-43FB-A73C-033B20CD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A4B3-C41E-4DC1-ABB1-40A302C1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311C-DEBB-4312-9418-CD380CE4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04B-2D76-4E2F-B35D-417C8503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82C5-8BAD-46C7-B454-84E5797D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3149-A23B-4495-ABA0-9BC43330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6AB9-EA9C-457E-A129-C9697AB5A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80880" y="-111240"/>
            <a:ext cx="9524880" cy="7078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4800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560" y="18288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Английские колонии в Северной Америк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Файл:MayflowerHarbor.jpg"/>
          <p:cNvPicPr/>
          <p:nvPr/>
        </p:nvPicPr>
        <p:blipFill>
          <a:blip r:embed="rId2"/>
          <a:stretch/>
        </p:blipFill>
        <p:spPr>
          <a:xfrm>
            <a:off x="4572000" y="402912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Файл:Embarkation of the Pilgrims.jpg"/>
          <p:cNvPicPr/>
          <p:nvPr/>
        </p:nvPicPr>
        <p:blipFill>
          <a:blip r:embed="rId3"/>
          <a:stretch/>
        </p:blipFill>
        <p:spPr>
          <a:xfrm>
            <a:off x="838080" y="4038480"/>
            <a:ext cx="34290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5078160" cy="6248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5880" y="2971800"/>
            <a:ext cx="27432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аботаем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тласа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селение коло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Вигвам."/>
          <p:cNvPicPr/>
          <p:nvPr/>
        </p:nvPicPr>
        <p:blipFill>
          <a:blip r:embed="rId2"/>
          <a:stretch/>
        </p:blipFill>
        <p:spPr>
          <a:xfrm>
            <a:off x="4572000" y="1828800"/>
            <a:ext cx="4267080" cy="361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Ирокезы середины 16 века. Создание Конфедерации ирокезов (Лиги Пяти Племён). 1) Деганавида (Миротворец), 2) Тадодахо, 3) Гайвата (Ayouhwatha), 4) Священная связка"/>
          <p:cNvPicPr/>
          <p:nvPr/>
        </p:nvPicPr>
        <p:blipFill>
          <a:blip r:embed="rId3"/>
          <a:stretch/>
        </p:blipFill>
        <p:spPr>
          <a:xfrm>
            <a:off x="925560" y="1447920"/>
            <a:ext cx="3646440" cy="5122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90720" y="5867280"/>
            <a:ext cx="1904760" cy="9144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рок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410080"/>
            <a:ext cx="3276720" cy="685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гвам алгонк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езультате колонизации индейцы были вытеснены за пределы колонии или истреблены, а их земли захвачены. Колонисты пытались объяснить свои действия религиозными убеждени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90720" y="228600"/>
            <a:ext cx="792468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ониальное общество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озяйственная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567160" cy="3047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0" y="1447920"/>
            <a:ext cx="4191120" cy="3138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523880" y="4114800"/>
            <a:ext cx="3048120" cy="2282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876920" y="5029200"/>
            <a:ext cx="3809880" cy="1219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тация хл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тации таба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7772400" cy="5105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914400" y="1447920"/>
            <a:ext cx="79246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тация р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Шри-Ланка. Рис. Фото: Сима Петрова/Великая Эпоха (The Epoch Times)"/>
          <p:cNvPicPr/>
          <p:nvPr/>
        </p:nvPicPr>
        <p:blipFill>
          <a:blip r:embed="rId2"/>
          <a:stretch/>
        </p:blipFill>
        <p:spPr>
          <a:xfrm>
            <a:off x="990720" y="1371600"/>
            <a:ext cx="4190760" cy="2793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жизнь натуральное рис продукты"/>
          <p:cNvPicPr/>
          <p:nvPr/>
        </p:nvPicPr>
        <p:blipFill>
          <a:blip r:embed="rId3"/>
          <a:stretch/>
        </p:blipFill>
        <p:spPr>
          <a:xfrm>
            <a:off x="4876920" y="3429000"/>
            <a:ext cx="380988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1522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став колониальн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371600"/>
            <a:ext cx="4228920" cy="9144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ер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1371600"/>
            <a:ext cx="4038840" cy="9144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риним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438280"/>
            <a:ext cx="5867280" cy="838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ёмные рабо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42900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нтаторы - землевладель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449568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Законтрактованные слуг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63868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гры - ра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Законтрактованные слуг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это иммигранты – бедняки, не имеющие средства для переезда за океан, заключившие кабальные соглашения с купцами и судовладельцами, которые их перепродавали в Амери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ем 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ЫБНЫМ ПРОМЫСЛОМ МОРЕПЛАВАНИ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ЕМЁСЛ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МАНУФАКТУР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ФЕРМ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80880"/>
            <a:ext cx="8077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северных колониях занималис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ФЕРМЕРСКОЕ ХОЗЯЙ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ЕМЁ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КОРАБЛЕСТРО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Центральных колониях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ые колонии и их ж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ониальное общество и хозяйственная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вление коло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ло формирования североамериканской н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ология американского об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фликт  с метропол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ПЛАНТАЦИОН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ХОЗЯЙСТВО - ПРИМЕНЕН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ТРУДА НЕГРОВ-РАБ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южных колония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правление колония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523880"/>
            <a:ext cx="7620120" cy="15242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 – глава коло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начаемый английским корол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3885840" y="3047760"/>
            <a:ext cx="1523880" cy="100476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cc99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124080"/>
            <a:ext cx="2743200" cy="990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деб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114800"/>
            <a:ext cx="2971800" cy="990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ни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3048120"/>
            <a:ext cx="2895840" cy="106668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од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181480"/>
            <a:ext cx="7620120" cy="15242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существовало и местное самоуправлени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ониальные ассамблеи, состоящие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палат: верхней (Совет) и ниж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ониальные ассамбле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4381200" y="342720"/>
            <a:ext cx="914400" cy="2971800"/>
          </a:xfrm>
          <a:prstGeom prst="leftArrowCallout">
            <a:avLst>
              <a:gd name="adj1" fmla="val 81258"/>
              <a:gd name="adj2" fmla="val 81250"/>
              <a:gd name="adj3" fmla="val 16667"/>
              <a:gd name="adj4" fmla="val 66673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324160"/>
            <a:ext cx="4114800" cy="2209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хняя пал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нача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ом из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ристократ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ми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2362320"/>
            <a:ext cx="3733560" cy="21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жняя па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биралась мужс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е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572000"/>
            <a:ext cx="822960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и предоставляли жителям кол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аточно широкие права, определяло жал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ам и его админ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рмирование североамерикан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772400" cy="518148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Стр. 211 – 212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деология американск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ще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МЕТРОПОЛИЯ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ГОСУДАРСТВО,ЖИТЕЛИ КОТОРОГО ОСНОВАЛИ КОЛО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ем опреде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фликт с метропол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фликт с метрополи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Стр. 214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Параграф 23, вопросы, запис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авно уже Западная Европа смотрела на Новый Свет как на источник богатств. В начале XVII века англичане первыми образуют колонии в Северной Амер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ru.wikipedia.org/wiki/%C8%F0%EE%EA%E5%E7%F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аботе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20760" y="1980360"/>
            <a:ext cx="58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varvar.ru/arhiv/slovo/images/mohawk-18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512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ru.wikipedia.org/wiki/%D0%90%D0%BB%D0%B3%D0%BE%D0%BD%D0%BA%D0%B8%D0%BD%D1%8B_(%D0%BD%D0%B0%D1%80%D0%BE%D0%B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1400" y="365760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rochka.narod.ru/hlopo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66680" y="3886200"/>
            <a:ext cx="7391520" cy="2590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ая ООШ Тверская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384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ициатива в освоении колоний принадлежала английской короне. В 1606 году Яков I пожаловал хартии на основание побережья двум торговым компаниям – Плимутской и Лондон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рвые колонии и их 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отография   Яков I (photo   James I)"/>
          <p:cNvPicPr/>
          <p:nvPr/>
        </p:nvPicPr>
        <p:blipFill>
          <a:blip r:embed="rId2"/>
          <a:stretch/>
        </p:blipFill>
        <p:spPr>
          <a:xfrm>
            <a:off x="990720" y="186696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4952880"/>
            <a:ext cx="2971800" cy="5335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ков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0440" y="152280"/>
            <a:ext cx="876312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вы думаете, кто были пер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селенцы? По какой причине переселя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295280"/>
            <a:ext cx="80010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нглийские пурита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бежавшие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следования коро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514600"/>
            <a:ext cx="8077320" cy="12952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рестья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потерявшие сво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емельные наде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886200"/>
            <a:ext cx="7925040" cy="13716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еспокойные бедня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», среди котор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ло много молодё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334120"/>
            <a:ext cx="8001000" cy="12952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еступни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способные к тр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Файл:MayflowerHarbor.jpg"/>
          <p:cNvPicPr/>
          <p:nvPr/>
        </p:nvPicPr>
        <p:blipFill>
          <a:blip r:embed="rId2"/>
          <a:stretch/>
        </p:blipFill>
        <p:spPr>
          <a:xfrm>
            <a:off x="990720" y="380880"/>
            <a:ext cx="7848360" cy="4375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90720" y="4724280"/>
            <a:ext cx="7848360" cy="1828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 декабре 1620 года на Атлантическое побережь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был корабль « Мэйфлауэр» со 102 пуритан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орые бежали от пре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41008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цы- пилигримы садя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кораб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Файл:Embarkation of the Pilgrims.jpg"/>
          <p:cNvPicPr/>
          <p:nvPr/>
        </p:nvPicPr>
        <p:blipFill>
          <a:blip r:embed="rId2"/>
          <a:stretch/>
        </p:blipFill>
        <p:spPr>
          <a:xfrm>
            <a:off x="990720" y="380880"/>
            <a:ext cx="761976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жде чем сойти на берег, мужчины подписали соглашение о совместной организации жизни по законам и обычаям пуританской веры и морали. Затем на этом месте был построен город Новый Плимут, который положил начало колониям Новой Англии. День высадки переселенцев отмечается в США как праздник –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День отцов – пилигримо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90360" y="14475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ротяжении 75 лет после появления в 1607 году первой английской колонии Виргиния возникло ещё 12 колоний — Нью-Хемпшир, Массачусетс,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-Айленд, Коннектикут, Нью- Йорк, Нью-Джерси,  Делавэ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нсильвания, Мэриленд, Северная Каролина, Южная Каролина и Джордж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карт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5-04T09:22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