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070-15DB-49F2-BB8A-F66BF6F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0E3-9FE8-4033-86B1-CC4C17FE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E72-3C73-4277-A8ED-8AB7980A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E3C-ED4F-45C0-A541-85EBF788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C99-1CE0-4777-87DA-543D0F93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A46-E612-4ABD-B3E7-752348B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FD5-5175-42EE-86A0-50AD6C42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18D-8D99-4732-B444-421C893F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6D0-25A7-49FD-AA58-E18F79DA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2D0-BBE0-4269-AE3A-6B5CB23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2B3-A376-4830-92C9-C5588A8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D59-4BFA-4832-B17E-669F94D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0F0D-5D0D-42EF-A9F9-F792D219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80880" y="-111240"/>
            <a:ext cx="9524880" cy="707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4800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560" y="18288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нглийские колонии в Северной Америк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MayflowerHarbor.jpg"/>
          <p:cNvPicPr/>
          <p:nvPr/>
        </p:nvPicPr>
        <p:blipFill>
          <a:blip r:embed="rId2"/>
          <a:stretch/>
        </p:blipFill>
        <p:spPr>
          <a:xfrm>
            <a:off x="4572000" y="402912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Файл:Embarkation of the Pilgrims.jpg"/>
          <p:cNvPicPr/>
          <p:nvPr/>
        </p:nvPicPr>
        <p:blipFill>
          <a:blip r:embed="rId3"/>
          <a:stretch/>
        </p:blipFill>
        <p:spPr>
          <a:xfrm>
            <a:off x="838080" y="4038480"/>
            <a:ext cx="3429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5078160" cy="6248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5880" y="2971800"/>
            <a:ext cx="2743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аботае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тласа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селение коло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Вигвам."/>
          <p:cNvPicPr/>
          <p:nvPr/>
        </p:nvPicPr>
        <p:blipFill>
          <a:blip r:embed="rId2"/>
          <a:stretch/>
        </p:blipFill>
        <p:spPr>
          <a:xfrm>
            <a:off x="4572000" y="1828800"/>
            <a:ext cx="4267080" cy="361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Ирокезы середины 16 века. Создание Конфедерации ирокезов (Лиги Пяти Племён). 1) Деганавида (Миротворец), 2) Тадодахо, 3) Гайвата (Ayouhwatha), 4) Священная связка"/>
          <p:cNvPicPr/>
          <p:nvPr/>
        </p:nvPicPr>
        <p:blipFill>
          <a:blip r:embed="rId3"/>
          <a:stretch/>
        </p:blipFill>
        <p:spPr>
          <a:xfrm>
            <a:off x="925560" y="1447920"/>
            <a:ext cx="3646440" cy="5122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867280"/>
            <a:ext cx="190476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рок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410080"/>
            <a:ext cx="327672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гвам алгонк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езультате колонизации индейцы были вытеснены за пределы колонии или истреблены, а их земли захвачены. Колонисты пытались объяснить свои действия религиозными убеждени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90720" y="228600"/>
            <a:ext cx="792468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ое обществ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озяйственна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567160" cy="30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191120" cy="313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3880" y="41148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876920" y="5029200"/>
            <a:ext cx="3809880" cy="12193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ция хло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и таба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772400" cy="51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924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тация 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Шри-Ланка. Рис. Фото: Сима Петрова/Великая Эпоха (The Epoch Times)"/>
          <p:cNvPicPr/>
          <p:nvPr/>
        </p:nvPicPr>
        <p:blipFill>
          <a:blip r:embed="rId2"/>
          <a:stretch/>
        </p:blipFill>
        <p:spPr>
          <a:xfrm>
            <a:off x="990720" y="1371600"/>
            <a:ext cx="4190760" cy="2793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жизнь натуральное рис продукты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522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став колониальн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371600"/>
            <a:ext cx="422892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4038840" cy="9144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риним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438280"/>
            <a:ext cx="5867280" cy="838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ёмные рабо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42900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таторы - землевладель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495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аконтрактованные слуг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638680"/>
            <a:ext cx="7391520" cy="9907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ры - 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Законтрактованные слуг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это иммигранты – бедняки, не имеющие средства для переезда за океан, заключившие кабальные соглашения с купцами и судовладельцами, которые их перепродавали в Амер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ЫБНЫМ ПРОМЫСЛОМ МОРЕПЛАВ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МАНУФАКТУР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80880"/>
            <a:ext cx="8077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северных колониях занима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ФЕРМЕРСКОЕ ХОЗЯ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КОРАБЛЕСТРО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Центральных колониях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колонии и их жи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ониальное общество и хозяйствен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коло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о формирования североамериканской н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ология американск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 с метропол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ПЛАНТАЦИ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ХОЗЯЙСТВО - ПРИМЕНЕ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ТРУДА НЕГРОВ-РАБ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южных колония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правление колония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5238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 – глава коло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емый английским корол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885840" y="3047760"/>
            <a:ext cx="1523880" cy="10047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124080"/>
            <a:ext cx="27432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деб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114800"/>
            <a:ext cx="2971800" cy="990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048120"/>
            <a:ext cx="2895840" cy="10666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од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181480"/>
            <a:ext cx="7620120" cy="15242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существовало и местное самоуправлени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лониальные ассамблеи, состоящие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палат: верхней (Совет) и ниж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лониальные ассамбле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342720"/>
            <a:ext cx="914400" cy="2971800"/>
          </a:xfrm>
          <a:prstGeom prst="leftArrowCallout">
            <a:avLst>
              <a:gd name="adj1" fmla="val 81258"/>
              <a:gd name="adj2" fmla="val 81250"/>
              <a:gd name="adj3" fmla="val 16667"/>
              <a:gd name="adj4" fmla="val 66673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24160"/>
            <a:ext cx="41148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хняя пал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нача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ом из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стокра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362320"/>
            <a:ext cx="3733560" cy="21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жняя па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иралась муж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е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0"/>
            <a:ext cx="822960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и предоставляли жителям кол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аточно широкие права, определяло жал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убернаторам и его админ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ирование североамерикан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1 – 21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деология американск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ще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МЕТРОПОЛИЯ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ОСУДАРСТВО,ЖИТЕЛИ КОТОРОГО ОСНОВАЛИ КОЛО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фликт с метрополи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Стр. 2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Параграф 23, вопросы, запис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8001000" cy="1219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авно уже Западная Европа смотрела на Новый Свет как на источник богатств. В начале XVII века англичане первыми образуют колонии в Северной Амер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C8%F0%EE%EA%E5%E7%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0760" y="1980360"/>
            <a:ext cx="58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varvar.ru/arhiv/slovo/images/mohawk-18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12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ru.wikipedia.org/wiki/%D0%90%D0%BB%D0%B3%D0%BE%D0%BD%D0%BA%D0%B8%D0%BD%D1%8B_(%D0%BD%D0%B0%D1%80%D0%BE%D0%B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400" y="365760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rochka.narod.ru/hlopo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886200"/>
            <a:ext cx="7391520" cy="259092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ая ООШ Тверская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4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ициатива в освоении колоний принадлежала английской короне. В 1606 году Яков I пожаловал хартии на основание побережья двум торговым компаниям – Плимутской и Лондон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е колонии и их 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отография   Яков I (photo   James I)"/>
          <p:cNvPicPr/>
          <p:nvPr/>
        </p:nvPicPr>
        <p:blipFill>
          <a:blip r:embed="rId2"/>
          <a:stretch/>
        </p:blipFill>
        <p:spPr>
          <a:xfrm>
            <a:off x="990720" y="186696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2971800" cy="53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ков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0440" y="152280"/>
            <a:ext cx="876312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вы думаете, кто были пер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еленцы? По какой причине пересел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8001000" cy="1295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нглийские пурита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жавш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ледования коро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2514600"/>
            <a:ext cx="807732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рестьян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терявшие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наде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886200"/>
            <a:ext cx="7925040" cy="13716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еспокойные бедня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, среди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о много молодё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4120"/>
            <a:ext cx="8001000" cy="129528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еступн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пособные к т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MayflowerHarbor.jpg"/>
          <p:cNvPicPr/>
          <p:nvPr/>
        </p:nvPicPr>
        <p:blipFill>
          <a:blip r:embed="rId2"/>
          <a:stretch/>
        </p:blipFill>
        <p:spPr>
          <a:xfrm>
            <a:off x="990720" y="380880"/>
            <a:ext cx="7848360" cy="437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4724280"/>
            <a:ext cx="7848360" cy="1828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 декабре 1620 года на Атлантическое побережь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ыл корабль « Мэйфлауэр» со 102 пуритан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ые бежали от пре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4100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цы- пилигримы садя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кораб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Файл:Embarkation of the Pilgrims.jpg"/>
          <p:cNvPicPr/>
          <p:nvPr/>
        </p:nvPicPr>
        <p:blipFill>
          <a:blip r:embed="rId2"/>
          <a:stretch/>
        </p:blipFill>
        <p:spPr>
          <a:xfrm>
            <a:off x="990720" y="380880"/>
            <a:ext cx="76197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6320" y="648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жде чем сойти на берег, мужчины подписали соглашение о совместной организации жизни по законам и обычаям пуританской веры и морали. Затем на этом месте был построен город Новый Плимут, который положил начало колониям Новой Англии. День высадки переселенцев отмечается в США как праздник –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День отцов – пилигрим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ые колонии и их жит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тяжении 75 лет после появления в 1607 году первой английской колонии Виргиния возникло ещё 12 колоний — Нью-Хемпшир, Массачусетс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-Айленд, Коннектикут, Нью- Йорк, Нью-Джерси,  Делав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нсильвания, Мэриленд, Северная Каролина, Южная Каролина и Джордж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8088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кар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5-04T09:22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