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8720-840C-4F3B-A76C-972D6D5EA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030E-86BA-43C0-955E-CBF5331B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9A30-48F2-4AA7-A752-C2C6AC6EB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BCBD-69AA-4902-B9E1-05BA2A020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2E38-C5A3-46F9-B113-6DC9BAD6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FF2A-834B-4E91-8D05-1AB5B2DD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22D9-A6B8-461A-87F7-80C7A40E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A468-E3FC-4311-9BF0-77BB1E9F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E06F-5D74-43DC-8B3B-B60FDEA8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931C-DB9A-42E6-BA3F-484D9A98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58F3-3EDA-4278-A4CC-6898E5BA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7FB4-61A3-4FA1-8E47-A064D8B2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4EE4-21D9-4F8B-87D4-96D706DCA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80880" y="-111240"/>
            <a:ext cx="9524880" cy="7078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61960" y="304920"/>
            <a:ext cx="480060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Arial"/>
              </a:rPr>
              <a:t>Тема урок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52560" y="18288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«Английские колонии в Северной Америк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Файл:MayflowerHarbor.jpg"/>
          <p:cNvPicPr/>
          <p:nvPr/>
        </p:nvPicPr>
        <p:blipFill>
          <a:blip r:embed="rId2"/>
          <a:stretch/>
        </p:blipFill>
        <p:spPr>
          <a:xfrm>
            <a:off x="4572000" y="4029120"/>
            <a:ext cx="3962520" cy="2209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Файл:Embarkation of the Pilgrims.jpg"/>
          <p:cNvPicPr/>
          <p:nvPr/>
        </p:nvPicPr>
        <p:blipFill>
          <a:blip r:embed="rId3"/>
          <a:stretch/>
        </p:blipFill>
        <p:spPr>
          <a:xfrm>
            <a:off x="838080" y="4038480"/>
            <a:ext cx="34290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990720" y="304920"/>
            <a:ext cx="5078160" cy="6248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095880" y="2971800"/>
            <a:ext cx="274320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работаем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тласам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йдё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ло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селение коло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Вигвам."/>
          <p:cNvPicPr/>
          <p:nvPr/>
        </p:nvPicPr>
        <p:blipFill>
          <a:blip r:embed="rId2"/>
          <a:stretch/>
        </p:blipFill>
        <p:spPr>
          <a:xfrm>
            <a:off x="4572000" y="1828800"/>
            <a:ext cx="4267080" cy="3619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Ирокезы середины 16 века. Создание Конфедерации ирокезов (Лиги Пяти Племён). 1) Деганавида (Миротворец), 2) Тадодахо, 3) Гайвата (Ayouhwatha), 4) Священная связка"/>
          <p:cNvPicPr/>
          <p:nvPr/>
        </p:nvPicPr>
        <p:blipFill>
          <a:blip r:embed="rId3"/>
          <a:stretch/>
        </p:blipFill>
        <p:spPr>
          <a:xfrm>
            <a:off x="925560" y="1447920"/>
            <a:ext cx="3646440" cy="5122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90720" y="5867280"/>
            <a:ext cx="1904760" cy="9144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роке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5410080"/>
            <a:ext cx="3276720" cy="6858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гвам алгонки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результате колонизации индейцы были вытеснены за пределы колонии или истреблены, а их земли захвачены. Колонисты пытались объяснить свои действия религиозными убеждения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ервые колонии и их жител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90720" y="228600"/>
            <a:ext cx="7924680" cy="1143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лониальное общество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хозяйственная жиз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2567160" cy="3047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572000" y="1447920"/>
            <a:ext cx="4191120" cy="3138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523880" y="4114800"/>
            <a:ext cx="3048120" cy="2282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876920" y="5029200"/>
            <a:ext cx="3809880" cy="12193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антация хлоп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лантации таба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90720" y="1447920"/>
            <a:ext cx="7772400" cy="5105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914400" y="1447920"/>
            <a:ext cx="792468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лантация ри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Шри-Ланка. Рис. Фото: Сима Петрова/Великая Эпоха (The Epoch Times)"/>
          <p:cNvPicPr/>
          <p:nvPr/>
        </p:nvPicPr>
        <p:blipFill>
          <a:blip r:embed="rId2"/>
          <a:stretch/>
        </p:blipFill>
        <p:spPr>
          <a:xfrm>
            <a:off x="990720" y="1371600"/>
            <a:ext cx="4190760" cy="2793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жизнь натуральное рис продукты"/>
          <p:cNvPicPr/>
          <p:nvPr/>
        </p:nvPicPr>
        <p:blipFill>
          <a:blip r:embed="rId3"/>
          <a:stretch/>
        </p:blipFill>
        <p:spPr>
          <a:xfrm>
            <a:off x="4876920" y="3429000"/>
            <a:ext cx="380988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85800" y="1522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остав колониального об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371600"/>
            <a:ext cx="4228920" cy="9144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ер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1371600"/>
            <a:ext cx="4038840" cy="9144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едпринима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2438280"/>
            <a:ext cx="5867280" cy="83844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ёмные рабоч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3429000"/>
            <a:ext cx="7391520" cy="9907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лантаторы - землевладель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4495680"/>
            <a:ext cx="7391520" cy="9907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Законтрактованные слуг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638680"/>
            <a:ext cx="7391520" cy="9907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гры - ра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6600"/>
                </a:solidFill>
                <a:uFillTx/>
                <a:latin typeface="Arial"/>
              </a:rPr>
              <a:t>Законтрактованные слуг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– это иммигранты – бедняки, не имеющие средства для переезда за океан, заключившие кабальные соглашения с купцами и судовладельцами, которые их перепродавали в Амери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апишем опреде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РЫБНЫМ ПРОМЫСЛОМ МОРЕПЛАВАНИЕ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РЕМЁСЛА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МАНУФАКТУРО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ФЕРМА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380880"/>
            <a:ext cx="807732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северных колониях занималис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ФЕРМЕРСКОЕ ХОЗЯЙСТВ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РЕМЁСЛ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КОРАБЛЕСТРО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Центральных колониях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ые колонии и их жит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лониальное общество и хозяйственная жиз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правление колон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чало формирования североамериканской н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ология американского об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фликт  с метропол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ПЛАНТАЦИОННО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ХОЗЯЙСТВО - ПРИМЕНЕНИ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ТРУДА НЕГРОВ-РАБ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южных колониях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правление колониям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1523880"/>
            <a:ext cx="7620120" cy="15242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убернатор – глава колон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начаемый английским корол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0800000">
            <a:off x="3885840" y="3047760"/>
            <a:ext cx="1523880" cy="100476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1004760"/>
              <a:gd name="textAreaBottom" fmla="*/ 1005120 h 10047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cc99"/>
          </a:solidFill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3124080"/>
            <a:ext cx="2743200" cy="99072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деб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4114800"/>
            <a:ext cx="2971800" cy="99072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полните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10080" y="3048120"/>
            <a:ext cx="2895840" cy="106668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конодате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181480"/>
            <a:ext cx="7620120" cy="15242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о существовало и местное самоуправление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лониальные ассамблеи, состоящие 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палат: верхней (Совет) и ниж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лониальные ассамбле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4381200" y="342720"/>
            <a:ext cx="914400" cy="2971800"/>
          </a:xfrm>
          <a:prstGeom prst="leftArrowCallout">
            <a:avLst>
              <a:gd name="adj1" fmla="val 81258"/>
              <a:gd name="adj2" fmla="val 81250"/>
              <a:gd name="adj3" fmla="val 16667"/>
              <a:gd name="adj4" fmla="val 66673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2324160"/>
            <a:ext cx="4114800" cy="22096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рхняя пала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начала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убернатором из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ристократиче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амил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76920" y="2362320"/>
            <a:ext cx="3733560" cy="21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ижняя па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биралась мужск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сел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4572000"/>
            <a:ext cx="8229600" cy="19810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ни предоставляли жителям коло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статочно широкие права, определяло жало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убернаторам и его админист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ормирование североамериканск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14400" y="1447560"/>
            <a:ext cx="7772400" cy="518148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щая терри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щая рели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диный внутренний ры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орговые свя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щий язык – английский + слова из индейского, немецкого, французского язы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воеобразный быт нас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      </a:t>
            </a: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Стр. 211 – 212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152280"/>
            <a:ext cx="8001000" cy="12193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деология американско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бщест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МЕТРОПОЛИЯ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ГОСУДАРСТВО,ЖИТЕЛИ КОТОРОГО ОСНОВАЛИ КОЛО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апишем определ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нфликт с метрополи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он, лишавший колонии прав свободной торговли, разрешалось торговать только с Англи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глийский парламент ввёл много запретов(на открытие мануфактур, на производство изделий из железа, ввоз машин и т.д.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держание английское войско в колон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нфликт с метрополие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1763г. Королевский указ, запрещавший переселятся на Запа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1765г. Английский парламент принял закон о гербовом сборе( при покупке товара платить нало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      </a:t>
            </a: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Стр. 214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52280"/>
            <a:ext cx="8001000" cy="12193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дведём итог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      </a:t>
            </a: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Параграф 23, вопросы, запис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152280"/>
            <a:ext cx="8001000" cy="12193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авно уже Западная Европа смотрела на Новый Свет как на источник богатств. В начале XVII века англичане первыми образуют колонии в Северной Амери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ервые колонии и их жит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ru.wikipedia.org/wiki/%C8%F0%EE%EA%E5%E7%F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работе использован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20760" y="1980360"/>
            <a:ext cx="580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varvar.ru/arhiv/slovo/images/mohawk-18.JP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25128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ru.wikipedia.org/wiki/%D0%90%D0%BB%D0%B3%D0%BE%D0%BD%D0%BA%D0%B8%D0%BD%D1%8B_(%D0%BD%D0%B0%D1%80%D0%BE%D0%B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01400" y="3657600"/>
            <a:ext cx="32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arochka.narod.ru/hlopok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066680" y="3886200"/>
            <a:ext cx="7391520" cy="2590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итель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ая ООШ Тверская об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038480" y="1447920"/>
            <a:ext cx="4648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ициатива в освоении колоний принадлежала английской короне. В 1606 году Яков I пожаловал хартии на основание побережья двум торговым компаниям – Плимутской и Лондон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ервые колонии и их жит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Фотография   Яков I (photo   James I)"/>
          <p:cNvPicPr/>
          <p:nvPr/>
        </p:nvPicPr>
        <p:blipFill>
          <a:blip r:embed="rId2"/>
          <a:stretch/>
        </p:blipFill>
        <p:spPr>
          <a:xfrm>
            <a:off x="990720" y="1866960"/>
            <a:ext cx="3124080" cy="3124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66680" y="4952880"/>
            <a:ext cx="2971800" cy="53352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ков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0440" y="152280"/>
            <a:ext cx="876312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 вы думаете, кто были перв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селенцы? По какой причине переселяли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1295280"/>
            <a:ext cx="8001000" cy="12956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Английские пуритан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бежавшие 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еследования коро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2514600"/>
            <a:ext cx="8077320" cy="129528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Крестьян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потерявшие сво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емельные наде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3886200"/>
            <a:ext cx="7925040" cy="137160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Беспокойные бедняк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», среди котор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ыло много молодё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5334120"/>
            <a:ext cx="8001000" cy="129528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Преступник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способные к тру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Файл:MayflowerHarbor.jpg"/>
          <p:cNvPicPr/>
          <p:nvPr/>
        </p:nvPicPr>
        <p:blipFill>
          <a:blip r:embed="rId2"/>
          <a:stretch/>
        </p:blipFill>
        <p:spPr>
          <a:xfrm>
            <a:off x="990720" y="380880"/>
            <a:ext cx="7848360" cy="4375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90720" y="4724280"/>
            <a:ext cx="7848360" cy="18288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 декабре 1620 года на Атлантическое побережье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был корабль « Мэйфлауэр» со 102 пуритан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торые бежали от преслед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5410080"/>
            <a:ext cx="7772400" cy="1143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тцы- пилигримы садя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 кораб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Файл:Embarkation of the Pilgrims.jpg"/>
          <p:cNvPicPr/>
          <p:nvPr/>
        </p:nvPicPr>
        <p:blipFill>
          <a:blip r:embed="rId2"/>
          <a:stretch/>
        </p:blipFill>
        <p:spPr>
          <a:xfrm>
            <a:off x="990720" y="380880"/>
            <a:ext cx="7619760" cy="49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914040" y="14479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ежде чем сойти на берег, мужчины подписали соглашение о совместной организации жизни по законам и обычаям пуританской веры и морали. Затем на этом месте был построен город Новый Плимут, который положил начало колониям Новой Англии. День высадки переселенцев отмечается в США как праздник – </a:t>
            </a: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День отцов – пилигримо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ервые колонии и их жител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990360" y="14475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протяжении 75 лет после появления в 1607 году первой английской колонии Виргиния возникло ещё 12 колоний — Нью-Хемпшир, Массачусетс,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д-Айленд, Коннектикут, Нью- Йорк, Нью-Джерси,  Делавэ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нсильвания, Мэриленд, Северная Каролина, Южная Каролина и Джордж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работаем по карт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5-04T09:22:2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