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7.jpeg" ContentType="image/jpeg"/>
  <Override PartName="/ppt/media/image1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2.gif" ContentType="image/gif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5C23-CB59-4A61-AD51-7D8395F53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26D7-6149-4F6E-B230-D4DB7399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009E-3493-444D-975E-862EA7835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FA00-4745-4625-ACE7-B8D60EF95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0357-ABD1-4E6C-86CC-399EC18C6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D1AD-978F-42F9-A55B-5282196AC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2D12-6AA6-40BD-9305-2CF0C450D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5E85-B8D5-4526-B106-C97B9450A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A504-E794-42B9-AD61-13184AA30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5F49-8AC8-440F-8914-D67BB925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C604-47A0-45C9-91D3-7A359868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9F87-CB7E-4833-803C-C51E92C0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A2311-3AD8-4F62-A08E-DDD20C3632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0"/>
          <p:cNvSpPr txBox="1"/>
          <p:nvPr/>
        </p:nvSpPr>
        <p:spPr>
          <a:xfrm>
            <a:off x="755640" y="907920"/>
            <a:ext cx="777708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Monotype Corsiva"/>
              </a:rPr>
              <a:t>Экономические </a:t>
            </a:r>
            <a:endParaRPr b="1" lang="en-US" sz="4400" spc="1" strike="noStrike">
              <a:ln w="2844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Monotype Corsiva"/>
              </a:rPr>
              <a:t>реформы</a:t>
            </a:r>
            <a:endParaRPr b="1" lang="en-US" sz="4400" spc="1" strike="noStrike">
              <a:ln w="2844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Monotype Corsiva"/>
              </a:rPr>
              <a:t>1985 -1991 гг.</a:t>
            </a:r>
            <a:endParaRPr b="1" lang="en-US" sz="4400" spc="1" strike="noStrike">
              <a:ln w="2844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Monotype Corsiva"/>
              <a:ea typeface="Monotype Corsiva"/>
            </a:endParaRPr>
          </a:p>
        </p:txBody>
      </p:sp>
      <p:sp>
        <p:nvSpPr>
          <p:cNvPr id="42" name="Rectangle 11"/>
          <p:cNvSpPr/>
          <p:nvPr/>
        </p:nvSpPr>
        <p:spPr>
          <a:xfrm>
            <a:off x="2700360" y="5373720"/>
            <a:ext cx="6443640" cy="1484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риал разработан учителем истор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У Будинской ООШ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тоненковой А.В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5"/>
          <p:cNvSpPr/>
          <p:nvPr/>
        </p:nvSpPr>
        <p:spPr>
          <a:xfrm>
            <a:off x="395280" y="44280"/>
            <a:ext cx="8497800" cy="108108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"/>
              </a:rPr>
              <a:t>Экономическая реформа 1987 г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3"/>
          <p:cNvPicPr/>
          <p:nvPr/>
        </p:nvPicPr>
        <p:blipFill>
          <a:blip r:embed="rId1"/>
          <a:stretch/>
        </p:blipFill>
        <p:spPr>
          <a:xfrm>
            <a:off x="684360" y="1197000"/>
            <a:ext cx="8135640" cy="52131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4"/>
          <p:cNvPicPr/>
          <p:nvPr/>
        </p:nvPicPr>
        <p:blipFill>
          <a:blip r:embed="rId1"/>
          <a:stretch/>
        </p:blipFill>
        <p:spPr>
          <a:xfrm>
            <a:off x="4716360" y="476280"/>
            <a:ext cx="4176720" cy="31575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78920" y="3573000"/>
            <a:ext cx="8929800" cy="3240360"/>
          </a:xfrm>
          <a:prstGeom prst="rect">
            <a:avLst/>
          </a:prstGeom>
          <a:solidFill>
            <a:srgbClr val="ffcc99"/>
          </a:solidFill>
          <a:ln w="6048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формы 1987 года стали началом формирования частного сектора в экономике, хотя этот процесс шёл с большим трудом. К весне 1991 уже более 7 млн. человек были заняты в кооперативном секторе и ещё 1 млн.  - в  индивидуальной трудовой деятельности. Оборотной стороной стала фактическая легализация « теневой экономи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1656720" y="1844640"/>
            <a:ext cx="255528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Талоны на товар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395280" y="44280"/>
            <a:ext cx="8497800" cy="108108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"/>
              </a:rPr>
              <a:t>Экономическая реформа 1987 г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ru-RU" sz="4400" spc="-1" strike="noStrike">
                <a:solidFill>
                  <a:srgbClr val="ffffff"/>
                </a:solidFill>
                <a:latin typeface="comic"/>
              </a:rPr>
              <a:t>Стр. 325 - 3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14256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99"/>
                </a:solidFill>
                <a:latin typeface="comic"/>
              </a:rPr>
              <a:t>Второй этап экономической реформ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716360" y="1268280"/>
            <a:ext cx="4392720" cy="5400720"/>
          </a:xfrm>
          <a:prstGeom prst="rect">
            <a:avLst/>
          </a:prstGeom>
          <a:solidFill>
            <a:srgbClr val="ffcc99"/>
          </a:solidFill>
          <a:ln w="63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рочитайте п. на стр. 327 и назовите основные положения этой програм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324000" y="44280"/>
            <a:ext cx="8820000" cy="100836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"/>
              </a:rPr>
              <a:t>Программа « 500 дней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1547640" y="5805360"/>
            <a:ext cx="3024360" cy="459720"/>
          </a:xfrm>
          <a:prstGeom prst="rect">
            <a:avLst/>
          </a:prstGeom>
          <a:solidFill>
            <a:srgbClr val="ffcc99"/>
          </a:solidFill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Г.А.Явлински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1931"/>
          <p:cNvPicPr/>
          <p:nvPr/>
        </p:nvPicPr>
        <p:blipFill>
          <a:blip r:embed="rId1"/>
          <a:stretch/>
        </p:blipFill>
        <p:spPr>
          <a:xfrm>
            <a:off x="1979640" y="4149720"/>
            <a:ext cx="2448000" cy="1714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Файл:ShatalinSS.jpg"/>
          <p:cNvPicPr/>
          <p:nvPr/>
        </p:nvPicPr>
        <p:blipFill>
          <a:blip r:embed="rId2"/>
          <a:stretch/>
        </p:blipFill>
        <p:spPr>
          <a:xfrm>
            <a:off x="611280" y="1268280"/>
            <a:ext cx="1523880" cy="23907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2"/>
          <p:cNvSpPr/>
          <p:nvPr/>
        </p:nvSpPr>
        <p:spPr>
          <a:xfrm>
            <a:off x="324000" y="3170160"/>
            <a:ext cx="3024000" cy="459720"/>
          </a:xfrm>
          <a:prstGeom prst="rect">
            <a:avLst/>
          </a:prstGeom>
          <a:solidFill>
            <a:srgbClr val="ffcc99"/>
          </a:solidFill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С.С. Шатали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403280" y="2420640"/>
            <a:ext cx="6912000" cy="26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опросы на стр. 32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324000" y="44280"/>
            <a:ext cx="8820000" cy="100836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"/>
              </a:rPr>
              <a:t>Подведём итог урока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Параграф 48, записи, вопросы и задани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99"/>
                </a:solidFill>
                <a:latin typeface="comic"/>
              </a:rPr>
              <a:t>Домашнее задание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16000" y="1700280"/>
            <a:ext cx="8928000" cy="4968720"/>
          </a:xfrm>
          <a:prstGeom prst="rect">
            <a:avLst/>
          </a:prstGeom>
          <a:solidFill>
            <a:srgbClr val="ffcc99"/>
          </a:solidFill>
          <a:ln w="63360">
            <a:solidFill>
              <a:srgbClr val="ffffff"/>
            </a:solidFill>
            <a:miter/>
          </a:ln>
        </p:spPr>
        <p:txBody>
          <a:bodyPr anchor="t">
            <a:normAutofit fontScale="96000"/>
          </a:bodyPr>
          <a:p>
            <a:pPr marL="5119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"/>
              </a:rPr>
              <a:t>1.Экономическое развитие в 1985-86 г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"/>
              </a:rPr>
              <a:t>2.Экономическая реформа 1987 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"/>
              </a:rPr>
              <a:t>3.Социальные аспекты реформ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"/>
              </a:rPr>
              <a:t>4.Разработка планов перехода к рынк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9"/>
          <p:cNvSpPr/>
          <p:nvPr/>
        </p:nvSpPr>
        <p:spPr>
          <a:xfrm>
            <a:off x="738360" y="189000"/>
            <a:ext cx="7667280" cy="107928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00"/>
                </a:solidFill>
                <a:latin typeface="comic"/>
              </a:rPr>
              <a:t>Работаем по плану: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50560" y="1773000"/>
            <a:ext cx="8713800" cy="4895640"/>
          </a:xfrm>
          <a:prstGeom prst="rect">
            <a:avLst/>
          </a:prstGeom>
          <a:solidFill>
            <a:srgbClr val="ffcc99"/>
          </a:solidFill>
          <a:ln w="66600">
            <a:solidFill>
              <a:srgbClr val="ffffff"/>
            </a:solidFill>
            <a:miter/>
          </a:ln>
        </p:spPr>
        <p:txBody>
          <a:bodyPr anchor="t">
            <a:normAutofit fontScale="86000"/>
          </a:bodyPr>
          <a:p>
            <a:pPr marL="29484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000000"/>
                </a:solidFill>
                <a:latin typeface="Monotype Corsiva"/>
              </a:rPr>
              <a:t>Как вы считаете, почему  экономические преобразования не достигли своей цели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324000" y="189000"/>
            <a:ext cx="8496000" cy="115236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00"/>
                </a:solidFill>
                <a:latin typeface="comic"/>
              </a:rPr>
              <a:t>Задание на урок</a:t>
            </a:r>
            <a:r>
              <a:rPr b="1" lang="ru-RU" sz="5400" spc="-1" strike="noStrike">
                <a:solidFill>
                  <a:srgbClr val="ffcc00"/>
                </a:solidFill>
                <a:latin typeface="Monotype Corsiva"/>
              </a:rPr>
              <a:t>.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ag00317_"/>
          <p:cNvPicPr/>
          <p:nvPr/>
        </p:nvPicPr>
        <p:blipFill>
          <a:blip r:embed="rId1"/>
          <a:stretch/>
        </p:blipFill>
        <p:spPr>
          <a:xfrm>
            <a:off x="179280" y="4869000"/>
            <a:ext cx="134316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"/>
              </a:rPr>
              <a:t>« Стратегия ускорен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cc99"/>
          </a:solidFill>
          <a:ln w="6660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апреле 1985 г.новое советское руководство провозгласило курс на ускорение социально – экономического развития страны. Было объявлено об ускорении НТП, но финансирование в эту сферу не увеличилось. М.Горбачев делал ставку на «человеческий фактор» и призывал укрепить трудовую дисциплин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"/>
              </a:rPr>
              <a:t>« Стратегия ускорен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24000" y="1557360"/>
            <a:ext cx="5219640" cy="5184720"/>
          </a:xfrm>
          <a:prstGeom prst="rect">
            <a:avLst/>
          </a:prstGeom>
          <a:solidFill>
            <a:srgbClr val="ffcc99"/>
          </a:solidFill>
          <a:ln w="6660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сентябре 1985 г. Горбачёв призывал всех использовать                       « скрытые резервы»         ( максимальная загрузка производственных мощей, многосменный режим работы, укрепление трудовой дисциплины, повышение качества продукции и соцсоревн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1" descr="Файл:RIAN archive 359290 Mikhail Gorbachev.jpg"/>
          <p:cNvPicPr/>
          <p:nvPr/>
        </p:nvPicPr>
        <p:blipFill>
          <a:blip r:embed="rId1"/>
          <a:stretch/>
        </p:blipFill>
        <p:spPr>
          <a:xfrm>
            <a:off x="395280" y="1484280"/>
            <a:ext cx="3203640" cy="4753080"/>
          </a:xfrm>
          <a:prstGeom prst="rect">
            <a:avLst/>
          </a:prstGeom>
          <a:ln w="31680">
            <a:solidFill>
              <a:srgbClr val="ffff00"/>
            </a:solidFill>
            <a:miter/>
          </a:ln>
        </p:spPr>
      </p:pic>
      <p:sp>
        <p:nvSpPr>
          <p:cNvPr id="53" name="Rectangle 7"/>
          <p:cNvSpPr/>
          <p:nvPr/>
        </p:nvSpPr>
        <p:spPr>
          <a:xfrm>
            <a:off x="108000" y="5877000"/>
            <a:ext cx="3672000" cy="65412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.С. Горбачё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0" y="1700280"/>
            <a:ext cx="4248000" cy="4465440"/>
          </a:xfrm>
          <a:prstGeom prst="rect">
            <a:avLst/>
          </a:prstGeom>
          <a:solidFill>
            <a:srgbClr val="ffcc99"/>
          </a:solidFill>
          <a:ln w="6660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мае 1985 года началась антиалкогольная кампания, которая должна была не только обеспечить всеобщую трезвость, но и повысить производительность тру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3" descr="Файл:USSR stamp Trezvost1 1985 5k.jpg"/>
          <p:cNvPicPr/>
          <p:nvPr/>
        </p:nvPicPr>
        <p:blipFill>
          <a:blip r:embed="rId1"/>
          <a:stretch/>
        </p:blipFill>
        <p:spPr>
          <a:xfrm>
            <a:off x="179280" y="1628640"/>
            <a:ext cx="2013120" cy="28083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"/>
              </a:rPr>
              <a:t>« Стратегия ускорен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6" descr="is?Jxits7zKlsUqpgfabTkUsCJ0h7rq33D53cNgsQgBetM"/>
          <p:cNvPicPr/>
          <p:nvPr/>
        </p:nvPicPr>
        <p:blipFill>
          <a:blip r:embed="rId2"/>
          <a:stretch/>
        </p:blipFill>
        <p:spPr>
          <a:xfrm>
            <a:off x="755640" y="4724280"/>
            <a:ext cx="2665440" cy="1998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" descr="is?Zw9rVnWiY0vvomkpgEytlj73H4xzma_o7rZtAu8JmIQ"/>
          <p:cNvPicPr/>
          <p:nvPr/>
        </p:nvPicPr>
        <p:blipFill>
          <a:blip r:embed="rId3"/>
          <a:stretch/>
        </p:blipFill>
        <p:spPr>
          <a:xfrm>
            <a:off x="2124000" y="2023920"/>
            <a:ext cx="2106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99"/>
                </a:solidFill>
                <a:latin typeface="comic"/>
              </a:rPr>
              <a:t>« Стратегия ускорен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ля контроля за качеством продукции была введена контролирующая инстанция – госприёмка, которая потребовала роста управленческого аппара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авка на энтузиазм рабочих успехов не принесла. Усиленная эксплуатация оборудования, не подкреплённая нововведениями,  обернулась ростом числа авар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99"/>
                </a:solidFill>
                <a:latin typeface="comic"/>
              </a:rPr>
              <a:t>« Стратегия ускорен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3164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апреле 1986 года взрыв на Чернобыльской АЭС привёл к катастрофическим последствиям. В зоне радиоактивного заражения оказались жители РСФСР, Украины, Белоруссии и др. регион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Файл:Chernobyl Disaster.jpg"/>
          <p:cNvPicPr/>
          <p:nvPr/>
        </p:nvPicPr>
        <p:blipFill>
          <a:blip r:embed="rId1"/>
          <a:stretch/>
        </p:blipFill>
        <p:spPr>
          <a:xfrm>
            <a:off x="468360" y="1557360"/>
            <a:ext cx="3682800" cy="42908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9"/>
          <p:cNvSpPr/>
          <p:nvPr/>
        </p:nvSpPr>
        <p:spPr>
          <a:xfrm>
            <a:off x="250920" y="5589720"/>
            <a:ext cx="4105080" cy="10792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 энергобло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рнобыльской АЭ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07640" y="3933720"/>
            <a:ext cx="9001080" cy="2880000"/>
          </a:xfrm>
          <a:prstGeom prst="rect">
            <a:avLst/>
          </a:prstGeom>
          <a:solidFill>
            <a:srgbClr val="ffcc99"/>
          </a:solidFill>
          <a:ln w="63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ее создании участвовали крупнейшие экономисты того времени. В основу концепции было положено сохранение плановой экономики. В тоже время предполагалось:  ввести хозрасчет и самофинансирование, возродить частный сектор, отказ от монополии внешней торговли, интеграция в мировую экономику, сокращение министерств и ведомств, закрытие убыточных предприятий, создание коммерческих бан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179280" y="44280"/>
            <a:ext cx="8856720" cy="93672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"/>
              </a:rPr>
              <a:t>Экономическая реформа 1987 г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Файл:Академик Леонид Иванович Абалкин.jpg"/>
          <p:cNvPicPr/>
          <p:nvPr/>
        </p:nvPicPr>
        <p:blipFill>
          <a:blip r:embed="rId1"/>
          <a:stretch/>
        </p:blipFill>
        <p:spPr>
          <a:xfrm>
            <a:off x="1042920" y="1106640"/>
            <a:ext cx="1631880" cy="2322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Файл:TIZaslavskaya.jpg"/>
          <p:cNvPicPr/>
          <p:nvPr/>
        </p:nvPicPr>
        <p:blipFill>
          <a:blip r:embed="rId2"/>
          <a:stretch/>
        </p:blipFill>
        <p:spPr>
          <a:xfrm>
            <a:off x="2987640" y="1125360"/>
            <a:ext cx="1800360" cy="2303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Академик А. Г. Аганбегян"/>
          <p:cNvPicPr/>
          <p:nvPr/>
        </p:nvPicPr>
        <p:blipFill>
          <a:blip r:embed="rId3"/>
          <a:stretch/>
        </p:blipFill>
        <p:spPr>
          <a:xfrm>
            <a:off x="5003640" y="1125360"/>
            <a:ext cx="1643400" cy="2303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5" descr="Файл:Pavel Bunich portrait.jpg"/>
          <p:cNvPicPr/>
          <p:nvPr/>
        </p:nvPicPr>
        <p:blipFill>
          <a:blip r:embed="rId4"/>
          <a:stretch/>
        </p:blipFill>
        <p:spPr>
          <a:xfrm>
            <a:off x="6948360" y="1125360"/>
            <a:ext cx="1659240" cy="23036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6"/>
          <p:cNvSpPr/>
          <p:nvPr/>
        </p:nvSpPr>
        <p:spPr>
          <a:xfrm>
            <a:off x="539640" y="3284640"/>
            <a:ext cx="8390160" cy="703800"/>
          </a:xfrm>
          <a:prstGeom prst="rect">
            <a:avLst/>
          </a:prstGeom>
          <a:solidFill>
            <a:srgbClr val="ff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Авторы  реформы1987 г. Л.Абалкин,Т.Заславская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А.Аганбегян,П.Бунич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17:26:30Z</dcterms:created>
  <dc:creator>Чернов Алексей Иванович</dc:creator>
  <dc:description/>
  <dc:language>en-US</dc:language>
  <cp:lastModifiedBy>Олег</cp:lastModifiedBy>
  <dcterms:modified xsi:type="dcterms:W3CDTF">2012-04-17T20:07:55Z</dcterms:modified>
  <cp:revision>67</cp:revision>
  <dc:subject/>
  <dc:title>Слайд 1</dc:title>
</cp:coreProperties>
</file>