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8F9-8133-47F2-AAAF-F55E7916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DE2F-1EC5-4DC5-9F9F-2AB86B4A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2D1-11E3-44BD-84F3-F0371D3C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5A0E-E4F0-4597-B818-F610F97F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D04-B1E0-4A26-AFF0-2FDEEFD9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DB7-368B-4A76-B742-DD41032D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B6CF-FE14-4EA8-AC0E-DEE51DE9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6B8-1344-4FBC-B562-3A7EA479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2B1-D304-4D1C-A00A-23F64EAB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1A6F-A9D0-4722-A5F2-E4DBDA6E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43C6-F8BC-4424-A25B-8ADDD45E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A04-C8F1-4824-AD78-9A18174F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97BD-A9F5-4E70-8C35-9B362205B8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755640" y="907920"/>
            <a:ext cx="7777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Экономические 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реформы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1985 -1991 гг.</a:t>
            </a:r>
            <a:endParaRPr b="1" lang="en-US" sz="44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2700360" y="5373720"/>
            <a:ext cx="6443640" cy="1484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44280"/>
            <a:ext cx="8497800" cy="1081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3"/>
          <p:cNvPicPr/>
          <p:nvPr/>
        </p:nvPicPr>
        <p:blipFill>
          <a:blip r:embed="rId1"/>
          <a:stretch/>
        </p:blipFill>
        <p:spPr>
          <a:xfrm>
            <a:off x="684360" y="1197000"/>
            <a:ext cx="8135640" cy="5213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4"/>
          <p:cNvPicPr/>
          <p:nvPr/>
        </p:nvPicPr>
        <p:blipFill>
          <a:blip r:embed="rId1"/>
          <a:stretch/>
        </p:blipFill>
        <p:spPr>
          <a:xfrm>
            <a:off x="4716360" y="476280"/>
            <a:ext cx="4176720" cy="3157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8920" y="3573000"/>
            <a:ext cx="8929800" cy="324036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ормы 1987 года стали началом формирования частного сектора в экономике, хотя этот процесс шёл с большим трудом. К весне 1991 уже более 7 млн. человек были заняты в кооперативном секторе и ещё 1 млн.  - в  индивидуальной трудовой деятельности. Оборотной стороной стала фактическая легализация « теневой эконом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656720" y="1844640"/>
            <a:ext cx="25552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лоны на 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5280" y="44280"/>
            <a:ext cx="8497800" cy="1081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Стр. 325 - 3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14256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comic"/>
              </a:rPr>
              <a:t>Второй этап экономической рефор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716360" y="1268280"/>
            <a:ext cx="4392720" cy="5400720"/>
          </a:xfrm>
          <a:prstGeom prst="rect">
            <a:avLst/>
          </a:prstGeom>
          <a:solidFill>
            <a:srgbClr val="ffcc99"/>
          </a:solidFill>
          <a:ln w="63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читайте п. на стр. 327 и назовите основные положения этой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24000" y="44280"/>
            <a:ext cx="8820000" cy="1008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Программа « 500 дней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547640" y="5805360"/>
            <a:ext cx="3024360" cy="45972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Г.А.Явлинск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1931"/>
          <p:cNvPicPr/>
          <p:nvPr/>
        </p:nvPicPr>
        <p:blipFill>
          <a:blip r:embed="rId1"/>
          <a:stretch/>
        </p:blipFill>
        <p:spPr>
          <a:xfrm>
            <a:off x="1979640" y="4149720"/>
            <a:ext cx="2448000" cy="1714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Файл:ShatalinSS.jpg"/>
          <p:cNvPicPr/>
          <p:nvPr/>
        </p:nvPicPr>
        <p:blipFill>
          <a:blip r:embed="rId2"/>
          <a:stretch/>
        </p:blipFill>
        <p:spPr>
          <a:xfrm>
            <a:off x="611280" y="1268280"/>
            <a:ext cx="1523880" cy="2390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324000" y="3170160"/>
            <a:ext cx="3024000" cy="459720"/>
          </a:xfrm>
          <a:prstGeom prst="rect">
            <a:avLst/>
          </a:prstGeom>
          <a:solidFill>
            <a:srgbClr val="ffcc99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.С. Шатал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691200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ы на стр. 3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24000" y="44280"/>
            <a:ext cx="8820000" cy="1008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Подведём итог урока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48, записи, вопросы и зада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Домашнее задание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16000" y="1700280"/>
            <a:ext cx="8928000" cy="4968720"/>
          </a:xfrm>
          <a:prstGeom prst="rect">
            <a:avLst/>
          </a:prstGeom>
          <a:solidFill>
            <a:srgbClr val="ffcc99"/>
          </a:solidFill>
          <a:ln w="63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1.Экономическое развитие в 1985-86 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2.Экономическая реформа 1987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3.Социальные аспекты рефор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4.Разработка планов перехода к рын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738360" y="189000"/>
            <a:ext cx="7667280" cy="10792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comic"/>
              </a:rPr>
              <a:t>Работаем по плану: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89564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Monotype Corsiva"/>
              </a:rPr>
              <a:t>Как вы считаете, почему  экономические преобразования не достигли своей цели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189000"/>
            <a:ext cx="8496000" cy="1152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comic"/>
              </a:rPr>
              <a:t>Задание на урок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ag00317_"/>
          <p:cNvPicPr/>
          <p:nvPr/>
        </p:nvPicPr>
        <p:blipFill>
          <a:blip r:embed="rId1"/>
          <a:stretch/>
        </p:blipFill>
        <p:spPr>
          <a:xfrm>
            <a:off x="179280" y="4869000"/>
            <a:ext cx="13431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апреле 1985 г.новое советское руководство провозгласило курс на ускорение социально – экономического развития страны. Было объявлено об ускорении НТП, но финансирование в эту сферу не увеличилось. М.Горбачев делал ставку на «человеческий фактор» и призывал укрепить трудовую дисципл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24000" y="1557360"/>
            <a:ext cx="5219640" cy="518472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нтябре 1985 г. Горбачёв призывал всех использовать                       « скрытые резервы»         ( максимальная загрузка производственных мощей, многосменный режим работы, укрепление трудовой дисциплины, повышение качества продукции и соцсоревн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Файл:RIAN archive 359290 Mikhail Gorbachev.jpg"/>
          <p:cNvPicPr/>
          <p:nvPr/>
        </p:nvPicPr>
        <p:blipFill>
          <a:blip r:embed="rId1"/>
          <a:stretch/>
        </p:blipFill>
        <p:spPr>
          <a:xfrm>
            <a:off x="395280" y="1484280"/>
            <a:ext cx="3203640" cy="475308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sp>
        <p:nvSpPr>
          <p:cNvPr id="53" name="Rectangle 7"/>
          <p:cNvSpPr/>
          <p:nvPr/>
        </p:nvSpPr>
        <p:spPr>
          <a:xfrm>
            <a:off x="108000" y="5877000"/>
            <a:ext cx="3672000" cy="654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С. Горбачё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0" y="1700280"/>
            <a:ext cx="4248000" cy="4465440"/>
          </a:xfrm>
          <a:prstGeom prst="rect">
            <a:avLst/>
          </a:prstGeom>
          <a:solidFill>
            <a:srgbClr val="ffcc99"/>
          </a:solidFill>
          <a:ln w="66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мае 1985 года началась антиалкогольная кампания, которая должна была не только обеспечить всеобщую трезвость, но и повысить производительность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Файл:USSR stamp Trezvost1 1985 5k.jpg"/>
          <p:cNvPicPr/>
          <p:nvPr/>
        </p:nvPicPr>
        <p:blipFill>
          <a:blip r:embed="rId1"/>
          <a:stretch/>
        </p:blipFill>
        <p:spPr>
          <a:xfrm>
            <a:off x="179280" y="1628640"/>
            <a:ext cx="2013120" cy="2808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is?Jxits7zKlsUqpgfabTkUsCJ0h7rq33D53cNgsQgBetM"/>
          <p:cNvPicPr/>
          <p:nvPr/>
        </p:nvPicPr>
        <p:blipFill>
          <a:blip r:embed="rId2"/>
          <a:stretch/>
        </p:blipFill>
        <p:spPr>
          <a:xfrm>
            <a:off x="755640" y="4724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is?Zw9rVnWiY0vvomkpgEytlj73H4xzma_o7rZtAu8JmIQ"/>
          <p:cNvPicPr/>
          <p:nvPr/>
        </p:nvPicPr>
        <p:blipFill>
          <a:blip r:embed="rId3"/>
          <a:stretch/>
        </p:blipFill>
        <p:spPr>
          <a:xfrm>
            <a:off x="2124000" y="202392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контроля за качеством продукции была введена контролирующая инстанция – госприёмка, которая потребовала роста управленческого аппара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вка на энтузиазм рабочих успехов не принесла. Усиленная эксплуатация оборудования, не подкреплённая нововведениями,  обернулась ростом числа ава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comic"/>
              </a:rPr>
              <a:t>« Стратегия уско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апреле 1986 года взрыв на Чернобыльской АЭС привёл к катастрофическим последствиям. В зоне радиоактивного заражения оказались жители РСФСР, Украины, Белоруссии и др. реги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Файл:Chernobyl Disaster.jpg"/>
          <p:cNvPicPr/>
          <p:nvPr/>
        </p:nvPicPr>
        <p:blipFill>
          <a:blip r:embed="rId1"/>
          <a:stretch/>
        </p:blipFill>
        <p:spPr>
          <a:xfrm>
            <a:off x="468360" y="1557360"/>
            <a:ext cx="3682800" cy="4290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250920" y="5589720"/>
            <a:ext cx="4105080" cy="1079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энергобл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быльской АЭ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07640" y="3933720"/>
            <a:ext cx="9001080" cy="2880000"/>
          </a:xfrm>
          <a:prstGeom prst="rect">
            <a:avLst/>
          </a:prstGeom>
          <a:solidFill>
            <a:srgbClr val="ffcc99"/>
          </a:solidFill>
          <a:ln w="63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ее создании участвовали крупнейшие экономисты того времени. В основу концепции было положено сохранение плановой экономики. В тоже время предполагалось:  ввести хозрасчет и самофинансирование, возродить частный сектор, отказ от монополии внешней торговли, интеграция в мировую экономику, сокращение министерств и ведомств, закрытие убыточных предприятий, создание коммерческих ба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79280" y="44280"/>
            <a:ext cx="8856720" cy="93672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omic"/>
              </a:rPr>
              <a:t>Экономическая реформа 1987 г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Файл:Академик Леонид Иванович Абалкин.jpg"/>
          <p:cNvPicPr/>
          <p:nvPr/>
        </p:nvPicPr>
        <p:blipFill>
          <a:blip r:embed="rId1"/>
          <a:stretch/>
        </p:blipFill>
        <p:spPr>
          <a:xfrm>
            <a:off x="1042920" y="1106640"/>
            <a:ext cx="1631880" cy="232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Файл:TIZaslavskaya.jpg"/>
          <p:cNvPicPr/>
          <p:nvPr/>
        </p:nvPicPr>
        <p:blipFill>
          <a:blip r:embed="rId2"/>
          <a:stretch/>
        </p:blipFill>
        <p:spPr>
          <a:xfrm>
            <a:off x="2987640" y="112536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Академик А. Г. Аганбегян"/>
          <p:cNvPicPr/>
          <p:nvPr/>
        </p:nvPicPr>
        <p:blipFill>
          <a:blip r:embed="rId3"/>
          <a:stretch/>
        </p:blipFill>
        <p:spPr>
          <a:xfrm>
            <a:off x="5003640" y="1125360"/>
            <a:ext cx="1643400" cy="230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Файл:Pavel Bunich portrait.jpg"/>
          <p:cNvPicPr/>
          <p:nvPr/>
        </p:nvPicPr>
        <p:blipFill>
          <a:blip r:embed="rId4"/>
          <a:stretch/>
        </p:blipFill>
        <p:spPr>
          <a:xfrm>
            <a:off x="6948360" y="1125360"/>
            <a:ext cx="1659240" cy="2303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6"/>
          <p:cNvSpPr/>
          <p:nvPr/>
        </p:nvSpPr>
        <p:spPr>
          <a:xfrm>
            <a:off x="539640" y="3284640"/>
            <a:ext cx="8390160" cy="70380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вторы  реформы1987 г. Л.Абалкин,Т.Заславская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Аганбегян,П.Бунич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4-17T20:07:55Z</dcterms:modified>
  <cp:revision>67</cp:revision>
  <dc:subject/>
  <dc:title>Слайд 1</dc:title>
</cp:coreProperties>
</file>