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C90-E073-4D89-A119-9B8325FC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8FB-CDB6-4678-BB62-D3E6512D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7E0-87CF-4FD4-A26F-4BDF6D81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C88-A7F8-4A4E-BAC7-625AB3F5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B5B-9CCB-404E-A7EC-C81A4526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E6A-04A6-47B4-86FF-C8A0358C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7ED-E638-47B0-B2F8-40C83EBC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218-D65F-4925-AF29-08808EE8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AC2-335D-47C4-85A1-52E2CEC2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B52-783C-44BD-8AFC-7C0B012B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4C4-56A8-42B4-B132-C00BC0DD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F8D-9106-4FE6-86F9-69C4C31D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A0B3-FE77-440A-BDF9-1CDBE24BD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lodguard.ru/newphoto15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images.rambler.ru/pic_cache?url=http%3A//www.kino-teatr.ru/kino/movie/sov/6672/foto/&amp;bi=http%3A//www.kino-teatr.ru/movie/kadr/6672/pv_89396.jpg&amp;i=http%3A//media5.picsearch.com/is%3FFMSqyoTCc6IcV9d_V7D1a3jVnPvpmMmvwwirpKg72-c&amp;w=128&amp;h=96&amp;f=6&amp;q=%22%20&#1057;&#1086;&#1088;&#1086;&#1082;%20&#1087;&#1077;&#1088;&#1074;&#1099;&#1081;%22&amp;p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JINR_synchrophasotron.jpg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e/ed/Ilja_Grigorjewitsch_Ehrenburg_194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ru/1/16/&#1040;&#1073;&#1088;&#1072;&#1084;&#1086;&#1074;_&#1060;&#1040;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ru.wikipedia.org/wiki/&#1060;&#1072;&#1081;&#1083;:&#1055;&#1072;&#1085;&#1092;&#1105;&#1088;&#1086;&#1074;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ru.wikipedia.org/wiki/&#1060;&#1072;&#1081;&#1083;:Panova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« Оттепель»  в духовной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648320"/>
            <a:ext cx="6400800" cy="2209680"/>
          </a:xfrm>
          <a:prstGeom prst="rect">
            <a:avLst/>
          </a:prstGeom>
          <a:solidFill>
            <a:srgbClr val="bad58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62520" y="266760"/>
            <a:ext cx="5029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главе Союза писателей стал А.А. Фадеев, который пытался добиться изменения стиля руководства в Союзе писателей  и его отношений с ЦК КПСС. Но эти попытки привели к его опале, а затем и к самоубий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А.А. Фаде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3181320" cy="4876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5181480"/>
            <a:ext cx="37339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А. Фад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90080" y="1066680"/>
            <a:ext cx="8953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меня превратили в лошадь ломового извоза, всю жизнь я плелся под кладью бездарных, неоправданных, могущих быть выполненными любым человеком, неисчислимых бюрократических дел. И даже сейчас, когда подводишь итог жизни своей, невыносимо вспоминать все то количество окриков, внушений, поучений и просто идеологических пороков, которые обрушились на меня,- кем наш чудесный народ вправе был бы гордиться в силу подлинности и скромности внутренней глубоко коммунистического таланта моего. Литература – этот высший плод нового строя – унижена, затравлена, загублена. Самодовольство нуворишей от великого ленинского учения даже тогда, когда они клянутся им, этим учением, привело к полному недоверию к ним с моей стороны, ибо от них можно ждать худшего. Чем от сатрапа Сталина. Тот был хоть образован, а эти – нев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предсмертной запи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19512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762120"/>
            <a:ext cx="1916280" cy="281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3733920"/>
            <a:ext cx="8686800" cy="2971800"/>
          </a:xfrm>
          <a:prstGeom prst="rect">
            <a:avLst/>
          </a:prstGeom>
          <a:solidFill>
            <a:srgbClr val="bad58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 этом же говорили в сво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ях В. Дудинцев ( « Не хл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иным»), Д. Гранин (« Искатели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. Дорош (« Деревенский дневник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419720" y="7621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воение космоса, разработка новейших образцов техники сделали любимым жанром  читателей научную фантастику. Романы И.А. Ефремова, А.П. Казанцева, братьев Стругацких приоткрывали для читателей завесу буду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3909960" cy="449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5181480"/>
            <a:ext cx="41911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И Б.Н. Стругац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1640" y="30492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1957 года регулярными стали встречи руководства ЦК с деятелями литературы и искусства. Личные вкусы Хрущёва, который выступал на этих встречах с многословными речами, приобретали характер официаль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267440" cy="311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4267080"/>
            <a:ext cx="44197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встре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деятелям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762120"/>
            <a:ext cx="8991720" cy="5943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195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ыли сняты иде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с композ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кофьева, Шостаковича, Хачатуря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т период начинается твор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ь Э.Денис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Петрова, А.Шнит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Щедрина, А.Эшп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ой популяр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лись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Свиридов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ни А. Пахмутовой на стихи Н.Добронравов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343400" y="3049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 Дело Пастернака» - один из самых ярких примеров «оттепел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Б. Пастернаку присудили Нобелевскую премию за роман «Доктор Живаго»,то он подвергся гонениям и в октябре 1958 года был исключен из Союза писателей. Ему пришлось отказаться от премии, чтобы избежать высылки из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692520" cy="5410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522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остановления президиума правления СП СССР, бюро оргкомитета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резидиума правления Московского отделения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Пастерна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4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ая деятельность Пастернака давно иссякла в эгоцентрическом затворничестве, в самоизоляции от народа и времени. Роман «Доктор Живаго», вокруг которого поднята пропагандистская возня, обнаруживает только непомерное самомнение автора при нищете мысли, является воплем перепуганного обывателя, обиженного и устрашенного тем, что история не пошла по кривым путям, которые он хотел бы ей пред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я романа фальшива и ничтожна, вытащена с декадентской свалки. Б.Пастернак порвал последние связи со своей страной и ее народом, превратил свое имя и свою деятельность в политическое оружие в руках реакции. Присуждение Пастернаку Нобелевской премии, по существу, за роман «Доктор Живаго», наспех прикрытое высокопарными фразами о его лирике и прозе, в действительности подчеркивает политическую сторону нечистоплотной игры реакционных кругов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0" y="53316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тоящим потрясением для миллионов людей стал выход в свет произведения « Один день Ивана Денисовича»,                 « Матрёнин двор», поставившие проблему сталинского наследия в повседневной жизни советск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092320" y="2895480"/>
            <a:ext cx="2479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Солжениц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99548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89548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. 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24240" y="93348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342900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629400" y="457200"/>
            <a:ext cx="178740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16224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. Пауст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bad5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кой критике « за идеологиче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мнительность»,  « формализ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верглось творчество  не только поэ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и скульпторов, худож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жиссёров, философов, исто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61084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760" y="1600200"/>
            <a:ext cx="861048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57184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281952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 Шоло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183024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2819520"/>
            <a:ext cx="251460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эти годы дали немало замеч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й М. Шолохова « Судьба челове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 « Тишина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2743200" cy="208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ились кинофильмы, которые приобрели больш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лярность среди населения. Фильмы М.Калатоз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Летят журавли», Г. Чухрая « Баллада о солдат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Чистое небо», « сорок первы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1752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8380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Файл:Атомный ледокол &quot;Ленин&quot;.jpg"/>
          <p:cNvPicPr/>
          <p:nvPr/>
        </p:nvPicPr>
        <p:blipFill>
          <a:blip r:embed="rId4"/>
          <a:stretch/>
        </p:blipFill>
        <p:spPr>
          <a:xfrm>
            <a:off x="5257800" y="14479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487692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ный ледоко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Ленин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3024360"/>
            <a:ext cx="3962520" cy="80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скурсия над магнит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хрофазотро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1" name="" descr="Файл:Sputnik asm.jpg"/>
          <p:cNvPicPr/>
          <p:nvPr/>
        </p:nvPicPr>
        <p:blipFill>
          <a:blip r:embed="rId5"/>
          <a:stretch/>
        </p:blipFill>
        <p:spPr>
          <a:xfrm>
            <a:off x="2438280" y="3886200"/>
            <a:ext cx="3029040" cy="2108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752480" y="601992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й искусственн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утник Зем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Файл:Gagarin in Sweden.jpg"/>
          <p:cNvPicPr/>
          <p:nvPr/>
        </p:nvPicPr>
        <p:blipFill>
          <a:blip r:embed="rId2"/>
          <a:stretch/>
        </p:blipFill>
        <p:spPr>
          <a:xfrm>
            <a:off x="533520" y="1523880"/>
            <a:ext cx="2671560" cy="388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Файл:Laika Space Hero.png"/>
          <p:cNvPicPr/>
          <p:nvPr/>
        </p:nvPicPr>
        <p:blipFill>
          <a:blip r:embed="rId3"/>
          <a:stretch/>
        </p:blipFill>
        <p:spPr>
          <a:xfrm>
            <a:off x="5029200" y="1600200"/>
            <a:ext cx="205092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62120" y="54864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Ю.А. Гагари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67080" y="4267080"/>
            <a:ext cx="4648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айка, перв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ака, совершившая перв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итальный полё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Sergey Korolyov.jpg"/>
          <p:cNvPicPr/>
          <p:nvPr/>
        </p:nvPicPr>
        <p:blipFill>
          <a:blip r:embed="rId3"/>
          <a:stretch/>
        </p:blipFill>
        <p:spPr>
          <a:xfrm>
            <a:off x="228600" y="1523880"/>
            <a:ext cx="1828800" cy="289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280" y="441972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Файл:MVKeldish.jpg"/>
          <p:cNvPicPr/>
          <p:nvPr/>
        </p:nvPicPr>
        <p:blipFill>
          <a:blip r:embed="rId4"/>
          <a:stretch/>
        </p:blipFill>
        <p:spPr>
          <a:xfrm>
            <a:off x="2438280" y="1523880"/>
            <a:ext cx="1690920" cy="2667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33720" y="380988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В. Кел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1886040" cy="2409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24280" y="426708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Тупо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162920" y="1523880"/>
            <a:ext cx="1523880" cy="230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05720" y="342900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 Курч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181480"/>
            <a:ext cx="8686800" cy="1524240"/>
          </a:xfrm>
          <a:prstGeom prst="rect">
            <a:avLst/>
          </a:prstGeom>
          <a:solidFill>
            <a:srgbClr val="bad5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благо страны работали не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пнейшие учёные страны( С.Королё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Кедыш, А. Туполев и др.) , но и разве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. 286  прочитать самостоя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ветский спор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50-е гг.началось обновление сис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ования. Ликвидировалось раздельное обучение мальчиков и девочек. Открылись новые В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1958 г.началась школьная реформа. Вводилось обязательное 8-летнее обучение. Для желающих обучаться в ВУЗе вводился обяза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-годичный трудовой стаж. Была отменена плата за обучение в старших классах школы и ВУ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8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граф 41, вопросы, сообщение об одной из Олимпиаде ( 1952, 1956, 1960, 1964 годов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Почему духовная жизнь страны в сер.-50-х-сер.-60-х гг. получила название «Оттепель»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66720" y="228600"/>
            <a:ext cx="4876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…оттепель, наступившая после долгой и суровой сталинской «зимы». В то же время это была не « весна» с её полноводным и свободным «разливом» мыслей и чувств, а именно       « оттепель», за которой мог последовать                       « лёгкий мороз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Ilja Grigorjewitsch Ehrenburg 194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335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114800"/>
            <a:ext cx="4267080" cy="11430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ья Григо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рен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перемены, начавшиеся в обществе первыми откликнулись представители литературы. Ещё до ХХ cъезда КПСС появились произведения, обозначившие рождение нового направления – обновленческого, суть которого – обращение к внутреннему миру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3 году в своей  работе В. Померанцев « Об искренности в литературе» пиш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 …честно писать – это значит  не думать о выражении лиц высоких и невысоких читателе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Файл:Абрамов ФА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200016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29718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Абр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Панфёров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590400"/>
            <a:ext cx="237636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3809880"/>
            <a:ext cx="259056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И. Панфё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anova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228600"/>
            <a:ext cx="253044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4480" y="32004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 П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журнале « Новый мир» появились стат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 Овечкина, Ф. Абрамова, И. Эринбур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Пановой, которые впервые постав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о губительности той атмосф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ая сложилась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66720" y="4572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нако власть признала публикацию этих работ              « вредной» и отстранила Твардовского от руководства жур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3616560" cy="556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5715000"/>
            <a:ext cx="373356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Т. 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05T18:24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