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359-D94D-412A-BB03-FE4BCF19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DA0-2585-472A-AEF6-F11B6304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65A-3539-4C47-8CB6-51CC389F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0C3-A003-4240-96D7-77C46741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CE9-97BE-4D0E-9688-255FE0A8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DE9-0F3C-470E-A1AF-28BA4D10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998-2EFD-4214-AC5A-21215B18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714-A584-434D-A779-C7B053F5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254-2E83-4089-8062-3185050D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BE2-894E-4379-91B9-A5EAA98B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A19-D57C-48FA-A9B6-A5BCA7EB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041-34F1-4D65-8A28-212DA43F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0A12-47EA-4F21-B296-68CCBCF25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lodguard.ru/newphoto157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images.rambler.ru/pic_cache?url=http%3A//www.kino-teatr.ru/kino/movie/sov/6672/foto/&amp;bi=http%3A//www.kino-teatr.ru/movie/kadr/6672/pv_89396.jpg&amp;i=http%3A//media5.picsearch.com/is%3FFMSqyoTCc6IcV9d_V7D1a3jVnPvpmMmvwwirpKg72-c&amp;w=128&amp;h=96&amp;f=6&amp;q=%22%20&#1057;&#1086;&#1088;&#1086;&#1082;%20&#1087;&#1077;&#1088;&#1074;&#1099;&#1081;%22&amp;p=1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JINR_synchrophasotron.jpg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e/ed/Ilja_Grigorjewitsch_Ehrenburg_1943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ru/1/16/&#1040;&#1073;&#1088;&#1072;&#1084;&#1086;&#1074;_&#1060;&#1040;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ru.wikipedia.org/wiki/&#1060;&#1072;&#1081;&#1083;:&#1055;&#1072;&#1085;&#1092;&#1105;&#1088;&#1086;&#1074;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ru.wikipedia.org/wiki/&#1060;&#1072;&#1081;&#1083;:Panova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« Оттепель»  в духовной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4648320"/>
            <a:ext cx="6400800" cy="2209680"/>
          </a:xfrm>
          <a:prstGeom prst="rect">
            <a:avLst/>
          </a:prstGeom>
          <a:solidFill>
            <a:srgbClr val="bad58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62520" y="266760"/>
            <a:ext cx="5029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главе Союза писателей стал А.А. Фадеев, который пытался добиться изменения стиля руководства в Союзе писателей  и его отношений с ЦК КПСС. Но эти попытки привели к его опале, а затем и к самоубий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А.А. Фаде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04920"/>
            <a:ext cx="3181320" cy="4876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5181480"/>
            <a:ext cx="37339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А. Фад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90080" y="1066680"/>
            <a:ext cx="8953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меня превратили в лошадь ломового извоза, всю жизнь я плелся под кладью бездарных, неоправданных, могущих быть выполненными любым человеком, неисчислимых бюрократических дел. И даже сейчас, когда подводишь итог жизни своей, невыносимо вспоминать все то количество окриков, внушений, поучений и просто идеологических пороков, которые обрушились на меня,- кем наш чудесный народ вправе был бы гордиться в силу подлинности и скромности внутренней глубоко коммунистического таланта моего. Литература – этот высший плод нового строя – унижена, затравлена, загублена. Самодовольство нуворишей от великого ленинского учения даже тогда, когда они клянутся им, этим учением, привело к полному недоверию к ним с моей стороны, ибо от них можно ждать худшего. Чем от сатрапа Сталина. Тот был хоть образован, а эти – нев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 предсмертной запи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19512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762120"/>
            <a:ext cx="1916280" cy="2819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3733920"/>
            <a:ext cx="8686800" cy="2971800"/>
          </a:xfrm>
          <a:prstGeom prst="rect">
            <a:avLst/>
          </a:prstGeom>
          <a:solidFill>
            <a:srgbClr val="bad58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 этом же говорили в сво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ях В. Дудинцев ( « Не хле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иным»), Д. Гранин (« Искатели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. Дорош (« Деревенский дневник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419720" y="762120"/>
            <a:ext cx="4495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воение космоса, разработка новейших образцов техники сделали любимым жанром  читателей научную фантастику. Романы И.А. Ефремова, А.П. Казанцева, братьев Стругацких приоткрывали для читателей завесу буду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3909960" cy="4495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5181480"/>
            <a:ext cx="41911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И Б.Н. Стругац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1640" y="30492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1957 года регулярными стали встречи руководства ЦК с деятелями литературы и искусства. Личные вкусы Хрущёва, который выступал на этих встречах с многословными речами, приобретали характер официальных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267440" cy="3114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4267080"/>
            <a:ext cx="44197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встре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деятелям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762120"/>
            <a:ext cx="8991720" cy="5943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195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были сняты иде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с компози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кофьева, Шостаковича, Хачатуря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т период начинается твор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ь Э.Денис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Петрова, А.Шнит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.Щедрина, А.Эшпа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ой популяр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лись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Свиридов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сни А. Пахмутовой на стихи Н.Добронравов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343400" y="304920"/>
            <a:ext cx="4648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 Дело Пастернака» - один из самых ярких примеров «оттепел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гда Б. Пастернаку присудили Нобелевскую премию за роман «Доктор Живаго»,то он подвергся гонениям и в октябре 1958 года был исключен из Союза писателей. Ему пришлось отказаться от премии, чтобы избежать высылки из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692520" cy="5410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522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остановления президиума правления СП СССР, бюро оргкомитета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президиума правления Московского отделения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 Пастерна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4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ная деятельность Пастернака давно иссякла в эгоцентрическом затворничестве, в самоизоляции от народа и времени. Роман «Доктор Живаго», вокруг которого поднята пропагандистская возня, обнаруживает только непомерное самомнение автора при нищете мысли, является воплем перепуганного обывателя, обиженного и устрашенного тем, что история не пошла по кривым путям, которые он хотел бы ей пред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я романа фальшива и ничтожна, вытащена с декадентской свалки. Б.Пастернак порвал последние связи со своей страной и ее народом, превратил свое имя и свою деятельность в политическое оружие в руках реакции. Присуждение Пастернаку Нобелевской премии, по существу, за роман «Доктор Живаго», наспех прикрытое высокопарными фразами о его лирике и прозе, в действительности подчеркивает политическую сторону нечистоплотной игры реакционных кругов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0" y="533160"/>
            <a:ext cx="4572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тоящим потрясением для миллионов людей стал выход в свет произведения « Один день Ивана Денисовича»,                 « Матрёнин двор», поставившие проблему сталинского наследия в повседневной жизни советск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092320" y="2895480"/>
            <a:ext cx="2479680" cy="266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 Солжениц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99548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89548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. Вознес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24240" y="93348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95480" y="342900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629400" y="457200"/>
            <a:ext cx="1787400" cy="2666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3600" y="316224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. Пауст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bad5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кой критике « за идеологиче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мнительность»,  « формализ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верглось творчество  не только поэ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и скульпторов, худож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жиссёров, философов, исто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861084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760" y="1600200"/>
            <a:ext cx="861048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571840" cy="260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281952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 Шоло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183024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29200" y="2819520"/>
            <a:ext cx="251460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эти годы дали немало замеч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едений М. Шолохова « Судьба человек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 « Тишина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2743200" cy="208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ились кинофильмы, которые приобрели больш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лярность среди населения. Фильмы М.Калатоз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Летят журавли», Г. Чухрая « Баллада о солдате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Чистое небо», « сорок первы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17524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8380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Файл:Атомный ледокол &quot;Ленин&quot;.jpg"/>
          <p:cNvPicPr/>
          <p:nvPr/>
        </p:nvPicPr>
        <p:blipFill>
          <a:blip r:embed="rId4"/>
          <a:stretch/>
        </p:blipFill>
        <p:spPr>
          <a:xfrm>
            <a:off x="5257800" y="14479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487692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ный ледоко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Ленин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3024360"/>
            <a:ext cx="3962520" cy="80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скурсия над магнит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хрофазотро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1" name="" descr="Файл:Sputnik asm.jpg"/>
          <p:cNvPicPr/>
          <p:nvPr/>
        </p:nvPicPr>
        <p:blipFill>
          <a:blip r:embed="rId5"/>
          <a:stretch/>
        </p:blipFill>
        <p:spPr>
          <a:xfrm>
            <a:off x="2438280" y="3886200"/>
            <a:ext cx="3029040" cy="2108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752480" y="601992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ый искусственн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утник Земл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blipFill rotWithShape="0">
            <a:blip r:embed="rId6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Файл:Gagarin in Sweden.jpg"/>
          <p:cNvPicPr/>
          <p:nvPr/>
        </p:nvPicPr>
        <p:blipFill>
          <a:blip r:embed="rId2"/>
          <a:stretch/>
        </p:blipFill>
        <p:spPr>
          <a:xfrm>
            <a:off x="533520" y="1523880"/>
            <a:ext cx="2671560" cy="388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Файл:Laika Space Hero.png"/>
          <p:cNvPicPr/>
          <p:nvPr/>
        </p:nvPicPr>
        <p:blipFill>
          <a:blip r:embed="rId3"/>
          <a:stretch/>
        </p:blipFill>
        <p:spPr>
          <a:xfrm>
            <a:off x="5029200" y="1600200"/>
            <a:ext cx="205092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762120" y="54864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Ю.А. Гагари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67080" y="4267080"/>
            <a:ext cx="4648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айка, перв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бака, совершившая перв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итальный полё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Sergey Korolyov.jpg"/>
          <p:cNvPicPr/>
          <p:nvPr/>
        </p:nvPicPr>
        <p:blipFill>
          <a:blip r:embed="rId3"/>
          <a:stretch/>
        </p:blipFill>
        <p:spPr>
          <a:xfrm>
            <a:off x="228600" y="1523880"/>
            <a:ext cx="1828800" cy="2895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280" y="441972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Файл:MVKeldish.jpg"/>
          <p:cNvPicPr/>
          <p:nvPr/>
        </p:nvPicPr>
        <p:blipFill>
          <a:blip r:embed="rId4"/>
          <a:stretch/>
        </p:blipFill>
        <p:spPr>
          <a:xfrm>
            <a:off x="2438280" y="1523880"/>
            <a:ext cx="1690920" cy="2667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33720" y="380988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В. Кел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800600" y="1828800"/>
            <a:ext cx="1886040" cy="2409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24280" y="426708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Тупо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162920" y="1523880"/>
            <a:ext cx="1523880" cy="230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05720" y="342900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 Курч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181480"/>
            <a:ext cx="8686800" cy="1524240"/>
          </a:xfrm>
          <a:prstGeom prst="rect">
            <a:avLst/>
          </a:prstGeom>
          <a:solidFill>
            <a:srgbClr val="bad5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благо страны работали не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пнейшие учёные страны( С.Королё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 Кедыш, А. Туполев и др.) , но и разве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. 286  прочитать самостояте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ветский спор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50-е гг.началось обновление сис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азования. Ликвидировалось раздельное обучение мальчиков и девочек. Открылись новые В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1958 г.началась школьная реформа. Вводилось обязательное 8-летнее обучение. Для желающих обучаться в ВУЗе вводился обязате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-годичный трудовой стаж. Была отменена плата за обучение в старших классах школы и ВУЗ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образ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8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граф 41, вопросы, сообщение об одной из Олимпиаде ( 1952, 1956, 1960, 1964 годов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Monotype Corsiva"/>
              </a:rPr>
              <a:t>Почему духовная жизнь страны в сер.-50-х-сер.-60-х гг. получила название «Оттепель»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66720" y="228600"/>
            <a:ext cx="4876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…оттепель, наступившая после долгой и суровой сталинской «зимы». В то же время это была не « весна» с её полноводным и свободным «разливом» мыслей и чувств, а именно       « оттепель», за которой мог последовать                       « лёгкий мороз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Ilja Grigorjewitsch Ehrenburg 194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3352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4114800"/>
            <a:ext cx="4267080" cy="11430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лья Григор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рен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перемены, начавшиеся в обществе первыми откликнулись представители литературы. Ещё до ХХ cъезда КПСС появились произведения, обозначившие рождение нового направления – обновленческого, суть которого – обращение к внутреннему миру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3 году в своей  работе В. Померанцев « Об искренности в литературе» пиш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 …честно писать – это значит  не думать о выражении лиц высоких и невысоких читателе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Файл:Абрамов ФА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2000160" cy="2819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29718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Абра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Панфёров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590400"/>
            <a:ext cx="237636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76720" y="3809880"/>
            <a:ext cx="259056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И. Панфё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anova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24480" y="228600"/>
            <a:ext cx="253044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4480" y="32004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 Па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журнале « Новый мир» появились стать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 Овечкина, Ф. Абрамова, И. Эринбур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Пановой, которые впервые постав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 о губительности той атмосфе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орая сложилась в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266720" y="4572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днако власть признала публикацию этих работ              « вредной» и отстранила Твардовского от руководства жур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3616560" cy="556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04920" y="5715000"/>
            <a:ext cx="373356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Т. Тва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05T18:24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