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267-C2A3-4C99-97A6-B342EC90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C55D-9EE6-4B60-BB1B-CD8E2B68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6950-8589-4811-8E0A-0DA2B799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519-2356-44AD-B42F-C1939988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21F-A5E4-4908-9C2F-7CC4C8F4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4999-34B5-4D85-AB1B-1A53B540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DC4-3F59-4638-A076-B301D97A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DA2-489B-4558-A920-43443F1A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5BB-A887-406F-808E-A13FFEB6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607-25C7-4737-BBDD-FC640579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879-B984-4ED7-861C-B0BCA531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EC1-C4E0-46CF-B9E6-E3CDFF9B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4F8D-9D18-499D-9A77-B65FF63CC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olodguard.ru/newphoto157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hyperlink" Target="http://images.rambler.ru/pic_cache?url=http%3A//www.kino-teatr.ru/kino/movie/sov/6672/foto/&amp;bi=http%3A//www.kino-teatr.ru/movie/kadr/6672/pv_89396.jpg&amp;i=http%3A//media5.picsearch.com/is%3FFMSqyoTCc6IcV9d_V7D1a3jVnPvpmMmvwwirpKg72-c&amp;w=128&amp;h=96&amp;f=6&amp;q=%22%20&#1057;&#1086;&#1088;&#1086;&#1082;%20&#1087;&#1077;&#1088;&#1074;&#1099;&#1081;%22&amp;p=1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JINR_synchrophasotron.jpg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e/ed/Ilja_Grigorjewitsch_Ehrenburg_1943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ru/1/16/&#1040;&#1073;&#1088;&#1072;&#1084;&#1086;&#1074;_&#1060;&#1040;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ru.wikipedia.org/wiki/&#1060;&#1072;&#1081;&#1083;:&#1055;&#1072;&#1085;&#1092;&#1105;&#1088;&#1086;&#1074;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ru.wikipedia.org/wiki/&#1060;&#1072;&#1081;&#1083;:Panova.jpg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2285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« Оттепель»  в духовной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4648320"/>
            <a:ext cx="6400800" cy="2209680"/>
          </a:xfrm>
          <a:prstGeom prst="rect">
            <a:avLst/>
          </a:prstGeom>
          <a:solidFill>
            <a:srgbClr val="bad58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62520" y="266760"/>
            <a:ext cx="5029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 главе Союза писателей стал А.А. Фадеев, который пытался добиться изменения стиля руководства в Союзе писателей  и его отношений с ЦК КПСС. Но эти попытки привели к его опале, а затем и к самоубийст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А.А. Фадее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04920"/>
            <a:ext cx="3181320" cy="4876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5181480"/>
            <a:ext cx="37339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А. Фад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90080" y="1066680"/>
            <a:ext cx="8953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меня превратили в лошадь ломового извоза, всю жизнь я плелся под кладью бездарных, неоправданных, могущих быть выполненными любым человеком, неисчислимых бюрократических дел. И даже сейчас, когда подводишь итог жизни своей, невыносимо вспоминать все то количество окриков, внушений, поучений и просто идеологических пороков, которые обрушились на меня,- кем наш чудесный народ вправе был бы гордиться в силу подлинности и скромности внутренней глубоко коммунистического таланта моего. Литература – этот высший плод нового строя – унижена, затравлена, загублена. Самодовольство нуворишей от великого ленинского учения даже тогда, когда они клянутся им, этим учением, привело к полному недоверию к ним с моей стороны, ибо от них можно ждать худшего. Чем от сатрапа Сталина. Тот был хоть образован, а эти – нев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з предсмертной запи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195120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800600" y="762120"/>
            <a:ext cx="1916280" cy="2819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3733920"/>
            <a:ext cx="8686800" cy="2971800"/>
          </a:xfrm>
          <a:prstGeom prst="rect">
            <a:avLst/>
          </a:prstGeom>
          <a:solidFill>
            <a:srgbClr val="bad58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 этом же говорили в сво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ях В. Дудинцев ( « Не хлеб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диным»), Д. Гранин (« Искатели»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. Дорош (« Деревенский дневник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419720" y="762120"/>
            <a:ext cx="44956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воение космоса, разработка новейших образцов техники сделали любимым жанром  читателей научную фантастику. Романы И.А. Ефремова, А.П. Казанцева, братьев Стругацких приоткрывали для читателей завесу буду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3909960" cy="4495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280" y="5181480"/>
            <a:ext cx="41911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Н. И Б.Н. Стругац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1640" y="304920"/>
            <a:ext cx="4419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1957 года регулярными стали встречи руководства ЦК с деятелями литературы и искусства. Личные вкусы Хрущёва, который выступал на этих встречах с многословными речами, приобретали характер официальных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267440" cy="3114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0" y="4267080"/>
            <a:ext cx="44197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С. Хрущёв встре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деятелям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762120"/>
            <a:ext cx="8991720" cy="5943600"/>
          </a:xfrm>
          <a:prstGeom prst="rect">
            <a:avLst/>
          </a:prstGeom>
          <a:solidFill>
            <a:srgbClr val="bad58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195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были сняты иде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винения с компози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кофьева, Шостаковича, Хачатуря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т период начинается твор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ятельность Э.Денис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Петрова, А.Шнит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.Щедрина, А.Эшпа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омной популяр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ьзовались произ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Свиридов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сни А. Пахмутовой на стихи Н.Добронравов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343400" y="304920"/>
            <a:ext cx="4648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 Дело Пастернака» - один из самых ярких примеров «оттепел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гда Б. Пастернаку присудили Нобелевскую премию за роман «Доктор Живаго»,то он подвергся гонениям и в октябре 1958 года был исключен из Союза писателей. Ему пришлось отказаться от премии, чтобы избежать высылки из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3692520" cy="5410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52280" y="5562720"/>
            <a:ext cx="419112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ис 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постановления президиума правления СП СССР, бюро оргкомитета СП РСФСР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президиума правления Московского отделения СП РСФСР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 Пастерна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044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ературная деятельность Пастернака давно иссякла в эгоцентрическом затворничестве, в самоизоляции от народа и времени. Роман «Доктор Живаго», вокруг которого поднята пропагандистская возня, обнаруживает только непомерное самомнение автора при нищете мысли, является воплем перепуганного обывателя, обиженного и устрашенного тем, что история не пошла по кривым путям, которые он хотел бы ей пред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ея романа фальшива и ничтожна, вытащена с декадентской свалки. Б.Пастернак порвал последние связи со своей страной и ее народом, превратил свое имя и свою деятельность в политическое оружие в руках реакции. Присуждение Пастернаку Нобелевской премии, по существу, за роман «Доктор Живаго», наспех прикрытое высокопарными фразами о его лирике и прозе, в действительности подчеркивает политическую сторону нечистоплотной игры реакционных кругов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0" y="533160"/>
            <a:ext cx="4572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тоящим потрясением для миллионов людей стал выход в свет произведения « Один день Ивана Денисовича»,                 « Матрёнин двор», поставившие проблему сталинского наследия в повседневной жизни советск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092320" y="2895480"/>
            <a:ext cx="2479680" cy="2667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5562720"/>
            <a:ext cx="419112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 Солжениц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995480" cy="2666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289548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. Вознес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324240" y="933480"/>
            <a:ext cx="2495520" cy="2495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95480" y="342900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. Евтуш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629400" y="457200"/>
            <a:ext cx="1787400" cy="2666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943600" y="316224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. Пауст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bad58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кой критике « за идеологичес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мнительность»,  « формализ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верглось творчество  не только поэ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 и скульпторов, художни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жиссёров, философов, истор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228600"/>
            <a:ext cx="861084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66760" y="1600200"/>
            <a:ext cx="861048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571840" cy="2600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281952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 Шоло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486400" y="228600"/>
            <a:ext cx="1830240" cy="2666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029200" y="2819520"/>
            <a:ext cx="251460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 Бондар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8763120" cy="2971800"/>
          </a:xfrm>
          <a:prstGeom prst="rect">
            <a:avLst/>
          </a:prstGeom>
          <a:solidFill>
            <a:srgbClr val="bad58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эти годы дали немало замеч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едений М. Шолохова « Судьба человек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 Бондарев « Тишина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2743200" cy="2087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280" y="3733920"/>
            <a:ext cx="8763120" cy="2971800"/>
          </a:xfrm>
          <a:prstGeom prst="rect">
            <a:avLst/>
          </a:prstGeom>
          <a:solidFill>
            <a:srgbClr val="bad58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вились кинофильмы, которые приобрели больш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улярность среди населения. Фильмы М.Калатоз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Летят журавли», Г. Чухрая « Баллада о солдате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Чистое небо», « сорок первы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5000" y="17524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83808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Файл:Атомный ледокол &quot;Ленин&quot;.jpg"/>
          <p:cNvPicPr/>
          <p:nvPr/>
        </p:nvPicPr>
        <p:blipFill>
          <a:blip r:embed="rId4"/>
          <a:stretch/>
        </p:blipFill>
        <p:spPr>
          <a:xfrm>
            <a:off x="5257800" y="14479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638680" y="4876920"/>
            <a:ext cx="3353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томный ледоко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 Ленин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600" y="3024360"/>
            <a:ext cx="3962520" cy="80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скурсия над магнито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хрофазотрон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1" name="" descr="Файл:Sputnik asm.jpg"/>
          <p:cNvPicPr/>
          <p:nvPr/>
        </p:nvPicPr>
        <p:blipFill>
          <a:blip r:embed="rId5"/>
          <a:stretch/>
        </p:blipFill>
        <p:spPr>
          <a:xfrm>
            <a:off x="2438280" y="3886200"/>
            <a:ext cx="3029040" cy="2108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752480" y="6019920"/>
            <a:ext cx="3619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вый искусственн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утник Земл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990720"/>
          </a:xfrm>
          <a:prstGeom prst="rect">
            <a:avLst/>
          </a:prstGeom>
          <a:blipFill rotWithShape="0">
            <a:blip r:embed="rId6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Файл:Gagarin in Sweden.jpg"/>
          <p:cNvPicPr/>
          <p:nvPr/>
        </p:nvPicPr>
        <p:blipFill>
          <a:blip r:embed="rId2"/>
          <a:stretch/>
        </p:blipFill>
        <p:spPr>
          <a:xfrm>
            <a:off x="533520" y="1523880"/>
            <a:ext cx="2671560" cy="3886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Файл:Laika Space Hero.png"/>
          <p:cNvPicPr/>
          <p:nvPr/>
        </p:nvPicPr>
        <p:blipFill>
          <a:blip r:embed="rId3"/>
          <a:stretch/>
        </p:blipFill>
        <p:spPr>
          <a:xfrm>
            <a:off x="5029200" y="1600200"/>
            <a:ext cx="2050920" cy="2438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762120" y="54864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Ю.А. Гагари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67080" y="4267080"/>
            <a:ext cx="4648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айка, перв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бака, совершившая перв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ритальный полё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Файл:Sergey Korolyov.jpg"/>
          <p:cNvPicPr/>
          <p:nvPr/>
        </p:nvPicPr>
        <p:blipFill>
          <a:blip r:embed="rId3"/>
          <a:stretch/>
        </p:blipFill>
        <p:spPr>
          <a:xfrm>
            <a:off x="228600" y="1523880"/>
            <a:ext cx="1828800" cy="2895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280" y="4419720"/>
            <a:ext cx="243864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.П.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Файл:MVKeldish.jpg"/>
          <p:cNvPicPr/>
          <p:nvPr/>
        </p:nvPicPr>
        <p:blipFill>
          <a:blip r:embed="rId4"/>
          <a:stretch/>
        </p:blipFill>
        <p:spPr>
          <a:xfrm>
            <a:off x="2438280" y="1523880"/>
            <a:ext cx="1690920" cy="2667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33720" y="380988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В. Келд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800600" y="1828800"/>
            <a:ext cx="1886040" cy="2409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24280" y="4267080"/>
            <a:ext cx="243864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Н. Тупол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7162920" y="1523880"/>
            <a:ext cx="1523880" cy="2305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05720" y="342900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. Курч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181480"/>
            <a:ext cx="8686800" cy="1524240"/>
          </a:xfrm>
          <a:prstGeom prst="rect">
            <a:avLst/>
          </a:prstGeom>
          <a:solidFill>
            <a:srgbClr val="bad5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благо страны работали не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пнейшие учёные страны( С.Королё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. Кедыш, А. Туполев и др.) , но и развед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. 286  прочитать самостоятель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ветский спор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50-е гг.началось обновление сист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разования. Ликвидировалось раздельное обучение мальчиков и девочек. Открылись новые ВУ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1958 г.началась школьная реформа. Вводилось обязательное 8-летнее обучение. Для желающих обучаться в ВУЗе вводился обязате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-годичный трудовой стаж. Была отменена плата за обучение в старших классах школы и ВУЗ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образ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8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граф 41, вопросы, сообщение об одной из Олимпиаде ( 1952, 1956, 1960, 1964 годов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52280"/>
            <a:ext cx="86104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аботаем по план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53452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52280"/>
            <a:ext cx="86104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Monotype Corsiva"/>
              </a:rPr>
              <a:t>Почему духовная жизнь страны в сер.-50-х-сер.-60-х гг. получила название «Оттепель»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66720" y="228600"/>
            <a:ext cx="4876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…оттепель, наступившая после долгой и суровой сталинской «зимы». В то же время это была не « весна» с её полноводным и свободным «разливом» мыслей и чувств, а именно       « оттепель», за которой мог последовать                       « лёгкий морозе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Ilja Grigorjewitsch Ehrenburg 194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33520"/>
            <a:ext cx="4343400" cy="3475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4114800"/>
            <a:ext cx="4267080" cy="11430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лья Григорь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рен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перемены, начавшиеся в обществе первыми откликнулись представители литературы. Ещё до ХХ cъезда КПСС появились произведения, обозначившие рождение нового направления – обновленческого, суть которого – обращение к внутреннему миру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одоление сталинизма в литерату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одоление сталинизма в литерату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53 году в своей  работе В. Померанцев « Об искренности в литературе» пиш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 …честно писать – это значит  не думать о выражении лиц высоких и невысоких читателе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Файл:Абрамов ФА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2000160" cy="2819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2971800"/>
            <a:ext cx="259092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. Абра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Панфёров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76720" y="590400"/>
            <a:ext cx="2376360" cy="3219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76720" y="3809880"/>
            <a:ext cx="259056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. И. Панфё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Panova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24480" y="228600"/>
            <a:ext cx="2530440" cy="3048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324480" y="3200400"/>
            <a:ext cx="259092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 Па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bad58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журнале « Новый мир» появились стать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 Овечкина, Ф. Абрамова, И. Эринбург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Пановой, которые впервые постав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прос о губительности той атмосфер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торая сложилась в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266720" y="4572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днако власть признала публикацию этих работ              « вредной» и отстранила Твардовского от руководства жур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3616560" cy="556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304920" y="5715000"/>
            <a:ext cx="373356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Т. Твард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05T18:24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