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C654-C15F-4FEE-BFA0-572946CFC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5DCF-BA11-4F84-9C3F-6742B038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5CDB-64C7-43B9-82A6-3096F21F9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E088-6EBD-42AE-94FB-4F54ECE0A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3559-6210-4A4B-B600-30DB2D07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A4D9-B1C6-4520-A71C-C9394D99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2FC4-A19A-4D79-81EE-E005F88A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98B4-604A-4D82-91B1-CF8AB5A9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843A-8DF4-4154-B45D-4F45A60E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B200-A64E-431A-8AD8-808CF924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4DC4-B73F-48DE-A07C-96D1BE75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A906-9BCC-44C3-A42F-56C9CEBE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E516-4C07-4D87-A3E0-D21379522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olodguard.ru/newphoto157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hyperlink" Target="http://images.rambler.ru/pic_cache?url=http%3A//www.kino-teatr.ru/kino/movie/sov/6672/foto/&amp;bi=http%3A//www.kino-teatr.ru/movie/kadr/6672/pv_89396.jpg&amp;i=http%3A//media5.picsearch.com/is%3FFMSqyoTCc6IcV9d_V7D1a3jVnPvpmMmvwwirpKg72-c&amp;w=128&amp;h=96&amp;f=6&amp;q=%22%20&#1057;&#1086;&#1088;&#1086;&#1082;%20&#1087;&#1077;&#1088;&#1074;&#1099;&#1081;%22&amp;p=1" TargetMode="External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72;&#1081;&#1083;:JINR_synchrophasotron.jpg" TargetMode="External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e/ed/Ilja_Grigorjewitsch_Ehrenburg_1943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ru/1/16/&#1040;&#1073;&#1088;&#1072;&#1084;&#1086;&#1074;_&#1060;&#1040;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ru.wikipedia.org/wiki/&#1060;&#1072;&#1081;&#1083;:&#1055;&#1072;&#1085;&#1092;&#1105;&#1088;&#1086;&#1074;.jpg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ru.wikipedia.org/wiki/&#1060;&#1072;&#1081;&#1083;:Panova.jpg" TargetMode="Externa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22856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« Оттепель»  в духовной жизн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4648320"/>
            <a:ext cx="6400800" cy="2209680"/>
          </a:xfrm>
          <a:prstGeom prst="rect">
            <a:avLst/>
          </a:prstGeom>
          <a:solidFill>
            <a:srgbClr val="bad58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 Тве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62520" y="266760"/>
            <a:ext cx="50292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 главе Союза писателей стал А.А. Фадеев, который пытался добиться изменения стиля руководства в Союзе писателей  и его отношений с ЦК КПСС. Но эти попытки привели к его опале, а затем и к самоубийст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А.А. Фадеев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304920"/>
            <a:ext cx="3181320" cy="4876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52280" y="5181480"/>
            <a:ext cx="3733920" cy="83844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.А. Фаде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3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90080" y="1066680"/>
            <a:ext cx="8953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о меня превратили в лошадь ломового извоза, всю жизнь я плелся под кладью бездарных, неоправданных, могущих быть выполненными любым человеком, неисчислимых бюрократических дел. И даже сейчас, когда подводишь итог жизни своей, невыносимо вспоминать все то количество окриков, внушений, поучений и просто идеологических пороков, которые обрушились на меня,- кем наш чудесный народ вправе был бы гордиться в силу подлинности и скромности внутренней глубоко коммунистического таланта моего. Литература – этот высший плод нового строя – унижена, затравлена, загублена. Самодовольство нуворишей от великого ленинского учения даже тогда, когда они клянутся им, этим учением, привело к полному недоверию к ним с моей стороны, ибо от них можно ждать худшего. Чем от сатрапа Сталина. Тот был хоть образован, а эти – невеж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з предсмертной запис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1951200" cy="2971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800600" y="762120"/>
            <a:ext cx="1916280" cy="2819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280" y="3733920"/>
            <a:ext cx="8686800" cy="2971800"/>
          </a:xfrm>
          <a:prstGeom prst="rect">
            <a:avLst/>
          </a:prstGeom>
          <a:solidFill>
            <a:srgbClr val="bad58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 этом же говорили в сво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зведениях В. Дудинцев ( « Не хлеб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диным»), Д. Гранин (« Искатели»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. Дорош (« Деревенский дневник»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419720" y="762120"/>
            <a:ext cx="44956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воение космоса, разработка новейших образцов техники сделали любимым жанром  читателей научную фантастику. Романы И.А. Ефремова, А.П. Казанцева, братьев Стругацких приоткрывали для читателей завесу буду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80880" y="685800"/>
            <a:ext cx="3909960" cy="4495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2280" y="5181480"/>
            <a:ext cx="4191120" cy="83844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.Н. И Б.Н. Стругац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1640" y="304920"/>
            <a:ext cx="44197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 1957 года регулярными стали встречи руководства ЦК с деятелями литературы и искусства. Личные вкусы Хрущёва, который выступал на этих встречах с многословными речами, приобретали характер официальных оце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52280" y="990720"/>
            <a:ext cx="4267440" cy="3114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0" y="4267080"/>
            <a:ext cx="4419720" cy="83844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.С. Хрущёв встреч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 деятелями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52280" y="762120"/>
            <a:ext cx="8991720" cy="5943600"/>
          </a:xfrm>
          <a:prstGeom prst="rect">
            <a:avLst/>
          </a:prstGeom>
          <a:solidFill>
            <a:srgbClr val="bad58f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1958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.были сняты идеолог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винения с компози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кофьева, Шостаковича, Хачатуря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этот период начинается творчес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ятельность Э.Денисо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Петрова, А.Шнит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.Щедрина, А.Эшпая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громной популярность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ьзовались произ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.Свиридова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сни А. Пахмутовой на стихи Н.Добронравов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343400" y="304920"/>
            <a:ext cx="4648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 Дело Пастернака» - один из самых ярких примеров «оттепел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гда Б. Пастернаку присудили Нобелевскую премию за роман «Доктор Живаго»,то он подвергся гонениям и в октябре 1958 года был исключен из Союза писателей. Ему пришлось отказаться от премии, чтобы избежать высылки из стр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3692520" cy="5410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152280" y="5562720"/>
            <a:ext cx="4191120" cy="83808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рис Пастерн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 постановления президиума правления СП СССР, бюро оргкомитета СП РСФСР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президиума правления Московского отделения СП РСФСР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 Пастерна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0440" y="14479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тературная деятельность Пастернака давно иссякла в эгоцентрическом затворничестве, в самоизоляции от народа и времени. Роман «Доктор Живаго», вокруг которого поднята пропагандистская возня, обнаруживает только непомерное самомнение автора при нищете мысли, является воплем перепуганного обывателя, обиженного и устрашенного тем, что история не пошла по кривым путям, которые он хотел бы ей предпис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дея романа фальшива и ничтожна, вытащена с декадентской свалки. Б.Пастернак порвал последние связи со своей страной и ее народом, превратил свое имя и свою деятельность в политическое оружие в руках реакции. Присуждение Пастернаку Нобелевской премии, по существу, за роман «Доктор Живаго», наспех прикрытое высокопарными фразами о его лирике и прозе, в действительности подчеркивает политическую сторону нечистоплотной игры реакционных кругов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0" y="533160"/>
            <a:ext cx="4572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стоящим потрясением для миллионов людей стал выход в свет произведения « Один день Ивана Денисовича»,                 « Матрёнин двор», поставившие проблему сталинского наследия в повседневной жизни советских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092320" y="2895480"/>
            <a:ext cx="2479680" cy="2667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5562720"/>
            <a:ext cx="4191120" cy="83808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ександр Солженицы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1995480" cy="2666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2895480"/>
            <a:ext cx="3048120" cy="53352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. Вознесе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324240" y="933480"/>
            <a:ext cx="2495520" cy="2495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895480" y="3429000"/>
            <a:ext cx="3048120" cy="53352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. Евтуш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6629400" y="457200"/>
            <a:ext cx="1787400" cy="2666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943600" y="3162240"/>
            <a:ext cx="3048120" cy="53352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. Пауст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bad58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зкой критике « за идеологическ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мнительность»,  « формализм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дверглось творчество  не только поэт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о и скульпторов, художник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жиссёров, философов, истор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228600"/>
            <a:ext cx="8610840" cy="114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егодня на урок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66760" y="1600200"/>
            <a:ext cx="8610480" cy="5029200"/>
          </a:xfrm>
          <a:prstGeom prst="rect">
            <a:avLst/>
          </a:prstGeom>
          <a:solidFill>
            <a:srgbClr val="cbce81"/>
          </a:solidFill>
          <a:ln w="25560">
            <a:solidFill>
              <a:srgbClr val="6b766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571840" cy="2600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28600" y="2819520"/>
            <a:ext cx="243828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. Шоло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486400" y="228600"/>
            <a:ext cx="1830240" cy="2666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029200" y="2819520"/>
            <a:ext cx="251460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Ю. Бондар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733920"/>
            <a:ext cx="8763120" cy="2971800"/>
          </a:xfrm>
          <a:prstGeom prst="rect">
            <a:avLst/>
          </a:prstGeom>
          <a:solidFill>
            <a:srgbClr val="bad58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о эти годы дали немало замеч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изведений М. Шолохова « Судьба человека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Ю. Бондарев « Тишина»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2381400" cy="3333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200400" y="380880"/>
            <a:ext cx="2743200" cy="2087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52280" y="3733920"/>
            <a:ext cx="8763120" cy="2971800"/>
          </a:xfrm>
          <a:prstGeom prst="rect">
            <a:avLst/>
          </a:prstGeom>
          <a:solidFill>
            <a:srgbClr val="bad58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явились кинофильмы, которые приобрели большу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пулярность среди населения. Фильмы М.Калатоз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 Летят журавли», Г. Чухрая « Баллада о солдате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 Чистое небо», « сорок первый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 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15000" y="175248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280" y="838080"/>
            <a:ext cx="3276720" cy="2184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Файл:Атомный ледокол &quot;Ленин&quot;.jpg"/>
          <p:cNvPicPr/>
          <p:nvPr/>
        </p:nvPicPr>
        <p:blipFill>
          <a:blip r:embed="rId4"/>
          <a:stretch/>
        </p:blipFill>
        <p:spPr>
          <a:xfrm>
            <a:off x="5257800" y="144792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5638680" y="4876920"/>
            <a:ext cx="3353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томный ледоко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 Ленин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28600" y="3024360"/>
            <a:ext cx="3962520" cy="80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Экскурсия над магнитом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инхрофазотрон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11" name="" descr="Файл:Sputnik asm.jpg"/>
          <p:cNvPicPr/>
          <p:nvPr/>
        </p:nvPicPr>
        <p:blipFill>
          <a:blip r:embed="rId5"/>
          <a:stretch/>
        </p:blipFill>
        <p:spPr>
          <a:xfrm>
            <a:off x="2438280" y="3886200"/>
            <a:ext cx="3029040" cy="21081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752480" y="6019920"/>
            <a:ext cx="3619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ервый искусственны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утник Земл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990720"/>
          </a:xfrm>
          <a:prstGeom prst="rect">
            <a:avLst/>
          </a:prstGeom>
          <a:blipFill rotWithShape="0">
            <a:blip r:embed="rId6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витие нау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Файл:Gagarin in Sweden.jpg"/>
          <p:cNvPicPr/>
          <p:nvPr/>
        </p:nvPicPr>
        <p:blipFill>
          <a:blip r:embed="rId2"/>
          <a:stretch/>
        </p:blipFill>
        <p:spPr>
          <a:xfrm>
            <a:off x="533520" y="1523880"/>
            <a:ext cx="2671560" cy="3886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Файл:Laika Space Hero.png"/>
          <p:cNvPicPr/>
          <p:nvPr/>
        </p:nvPicPr>
        <p:blipFill>
          <a:blip r:embed="rId3"/>
          <a:stretch/>
        </p:blipFill>
        <p:spPr>
          <a:xfrm>
            <a:off x="5029200" y="1600200"/>
            <a:ext cx="2050920" cy="2438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762120" y="5486400"/>
            <a:ext cx="23619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Ю.А. Гагари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267080" y="4267080"/>
            <a:ext cx="46483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айка, перва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обака, совершившая первы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бритальный полёт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витие нау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витие нау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Файл:Sergey Korolyov.jpg"/>
          <p:cNvPicPr/>
          <p:nvPr/>
        </p:nvPicPr>
        <p:blipFill>
          <a:blip r:embed="rId3"/>
          <a:stretch/>
        </p:blipFill>
        <p:spPr>
          <a:xfrm>
            <a:off x="228600" y="1523880"/>
            <a:ext cx="1828800" cy="2895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52280" y="4419720"/>
            <a:ext cx="243864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.П. Корол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Файл:MVKeldish.jpg"/>
          <p:cNvPicPr/>
          <p:nvPr/>
        </p:nvPicPr>
        <p:blipFill>
          <a:blip r:embed="rId4"/>
          <a:stretch/>
        </p:blipFill>
        <p:spPr>
          <a:xfrm>
            <a:off x="2438280" y="1523880"/>
            <a:ext cx="1690920" cy="2667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133720" y="3809880"/>
            <a:ext cx="243828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.В. Келды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4800600" y="1828800"/>
            <a:ext cx="1886040" cy="2409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724280" y="4267080"/>
            <a:ext cx="243864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.Н. Тупол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7162920" y="1523880"/>
            <a:ext cx="1523880" cy="2305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705720" y="3429000"/>
            <a:ext cx="243828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. Курч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5181480"/>
            <a:ext cx="8686800" cy="1524240"/>
          </a:xfrm>
          <a:prstGeom prst="rect">
            <a:avLst/>
          </a:prstGeom>
          <a:solidFill>
            <a:srgbClr val="bad5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благо страны работали не толь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упнейшие учёные страны( С.Королё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. Кедыш, А. Туполев и др.) , но и развед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р. 286  прочитать самостоятель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ветский спор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50-е гг.началось обновление систе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разования. Ликвидировалось раздельное обучение мальчиков и девочек. Открылись новые ВУ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1958 г.началась школьная реформа. Вводилось обязательное 8-летнее обучение. Для желающих обучаться в ВУЗе вводился обязатель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-годичный трудовой стаж. Была отменена плата за обучение в старших классах школы и ВУЗ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витие образо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опросы на стр. 28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араграф 41, вопросы, сообщение об одной из Олимпиаде ( 1952, 1956, 1960, 1964 годов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52280"/>
            <a:ext cx="8610480" cy="114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Работаем по плану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8534520" cy="5029200"/>
          </a:xfrm>
          <a:prstGeom prst="rect">
            <a:avLst/>
          </a:prstGeom>
          <a:solidFill>
            <a:srgbClr val="cbce81"/>
          </a:solidFill>
          <a:ln w="25560">
            <a:solidFill>
              <a:srgbClr val="6b766f"/>
            </a:solidFill>
            <a:miter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760" y="152280"/>
            <a:ext cx="8610480" cy="114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Задание на урок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solidFill>
            <a:srgbClr val="cbce81"/>
          </a:solidFill>
          <a:ln w="25560">
            <a:solidFill>
              <a:srgbClr val="6b766f"/>
            </a:solidFill>
            <a:miter/>
          </a:ln>
        </p:spPr>
        <p:txBody>
          <a:bodyPr anchor="t">
            <a:normAutofit fontScale="95000"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Monotype Corsiva"/>
              </a:rPr>
              <a:t>Почему духовная жизнь страны в сер.-50-х-сер.-60-х гг. получила название «Оттепель»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266720" y="228600"/>
            <a:ext cx="48769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…оттепель, наступившая после долгой и суровой сталинской «зимы». В то же время это была не « весна» с её полноводным и свободным «разливом» мыслей и чувств, а именно       « оттепель», за которой мог последовать                       « лёгкий морозец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Файл:Ilja Grigorjewitsch Ehrenburg 194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533520"/>
            <a:ext cx="4343400" cy="3475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4114800"/>
            <a:ext cx="4267080" cy="11430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лья Григорь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ренб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solidFill>
            <a:srgbClr val="cbce81"/>
          </a:solidFill>
          <a:ln w="25560">
            <a:solidFill>
              <a:srgbClr val="6b766f"/>
            </a:solidFill>
            <a:miter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перемены, начавшиеся в обществе первыми откликнулись представители литературы. Ещё до ХХ cъезда КПСС появились произведения, обозначившие рождение нового направления – обновленческого, суть которого – обращение к внутреннему миру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еодоление сталинизма в литератур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еодоление сталинизма в литератур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5029200"/>
          </a:xfrm>
          <a:prstGeom prst="rect">
            <a:avLst/>
          </a:prstGeom>
          <a:solidFill>
            <a:srgbClr val="cbce81"/>
          </a:solidFill>
          <a:ln w="25560">
            <a:solidFill>
              <a:srgbClr val="6b766f"/>
            </a:solidFill>
            <a:miter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1953 году в своей  работе В. Померанцев « Об искренности в литературе» пиш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« …честно писать – это значит  не думать о выражении лиц высоких и невысоких читателей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Файл:Абрамов ФА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228600"/>
            <a:ext cx="2000160" cy="2819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52280" y="2971800"/>
            <a:ext cx="259092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. Абра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Панфёров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76720" y="590400"/>
            <a:ext cx="2376360" cy="3219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76720" y="3809880"/>
            <a:ext cx="259056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. И. Панфё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Panova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324480" y="228600"/>
            <a:ext cx="2530440" cy="3048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324480" y="3200400"/>
            <a:ext cx="259092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. Пан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bad58f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журнале « Новый мир» появились стать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. Овечкина, Ф. Абрамова, И. Эринбург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.Пановой, которые впервые постав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прос о губительности той атмосфер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торая сложилась в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266720" y="457200"/>
            <a:ext cx="4876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днако власть признала публикацию этих работ              « вредной» и отстранила Твардовского от руководства журнал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3616560" cy="5562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304920" y="5715000"/>
            <a:ext cx="3733560" cy="83808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.Т. Твард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05T18:24:3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