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22C4D-A231-4BC1-AFD1-30D553C85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DCE23-6E34-436C-A47B-10C1167E5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6CC64-1593-4F1A-B7A0-EA83DB5B0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09D32-4356-45DB-86B5-E5F7EFEFF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2E66E-6CB8-4C5E-A958-A977536B3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78783-63C3-4F37-AA0F-28E31A7B4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04FA0-1F4D-404D-A5FF-EB531F22C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5179E-49DD-4C00-A6F3-B94A1907F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D83F1-EA75-4486-BDDD-451D1967A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23851-F69E-4E27-BAD6-0B2EC6CCB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B5768-0C6D-4A9F-84D6-1214D7D78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C7423-947F-4D98-A1D4-B25F71C84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64251-27E8-4ABD-BC1D-4767FF440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2AB86-8754-4E98-BF6F-F8E36E83B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4D836-904E-4086-9966-91908A443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5273F-440A-492D-8FE5-797D5E5F9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07F08-5DF8-4F13-8AC5-63F67CF4D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DF051-F50D-4596-A326-86738A14F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D05E7-0637-4D64-AC47-162D917A9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2D7AC-7DF2-4ADD-B5DC-87A77BD93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EBCC5-17E1-4C6E-896D-2D22D4FC2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1B912-685B-4E4A-8B93-038DAB6FD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34549-76FA-4F0F-ACD0-3A7286160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A0915-AC2E-4709-903F-469F849B8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5800" y="0"/>
              <a:ext cx="2514600" cy="106668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88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15655-4508-4473-B698-D332F8DC243B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" name=""/>
          <p:cNvGrpSpPr/>
          <p:nvPr/>
        </p:nvGrpSpPr>
        <p:grpSpPr>
          <a:xfrm>
            <a:off x="228600" y="1981080"/>
            <a:ext cx="7391520" cy="319320"/>
            <a:chOff x="228600" y="1981080"/>
            <a:chExt cx="7391520" cy="319320"/>
          </a:xfrm>
        </p:grpSpPr>
        <p:sp>
          <p:nvSpPr>
            <p:cNvPr id="10" name=""/>
            <p:cNvSpPr/>
            <p:nvPr/>
          </p:nvSpPr>
          <p:spPr>
            <a:xfrm>
              <a:off x="609480" y="1981080"/>
              <a:ext cx="701064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>
              <a:off x="228600" y="1981080"/>
              <a:ext cx="393840" cy="31932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1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6"/>
          </p:nvPr>
        </p:nvSpPr>
        <p:spPr>
          <a:xfrm>
            <a:off x="9360" y="6358320"/>
            <a:ext cx="58752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36D46-8532-4EC2-97B4-5505E9269F7C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upload.wikimedia.org/wikipedia/commons/1/10/Kosheljov%2C_Aleksandr_Ivanovich.jpg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file://upload.wikimedia.org/wikipedia/commons/f/f8/KonstantinAksakov.jpg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upload.wikimedia.org/wikipedia/ru/8/8e/KrajevskyAndrey.jpg" TargetMode="External"/><Relationship Id="rId2" Type="http://schemas.openxmlformats.org/officeDocument/2006/relationships/image" Target="../media/image7.jpeg"/><Relationship Id="rId3" Type="http://schemas.openxmlformats.org/officeDocument/2006/relationships/hyperlink" Target="file://upload.wikimedia.org/wikipedia/commons/3/30/Druzhinin.jpg" TargetMode="External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72;&#1081;&#1083;:&#1043;&#1086;&#1083;&#1086;&#1089;&#1072;_&#1080;&#1079;_&#1056;&#1086;&#1089;&#1089;&#1080;&#1080;._N2._&#1058;&#1080;&#1090;&#1091;&#1083;&#1100;&#1085;&#1099;&#1081;_&#1083;&#1080;&#1089;&#1090;.jpg" TargetMode="External"/><Relationship Id="rId2" Type="http://schemas.openxmlformats.org/officeDocument/2006/relationships/image" Target="../media/image9.jpeg"/><Relationship Id="rId3" Type="http://schemas.openxmlformats.org/officeDocument/2006/relationships/hyperlink" Target="http://ru.wikipedia.org/wiki/&#1060;&#1072;&#1081;&#1083;:PolarStar(Hertzen)_title_page_1855.jpg" TargetMode="External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upload.wikimedia.org/wikipedia/commons/1/1a/Kavelin_Konstantin_Dmitrievich.jpg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upload.wikimedia.org/wikipedia/commons/7/74/Alexander_II_of_Russia_%28Nikolay_Lavrov_01%29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3366"/>
                </a:solidFill>
                <a:latin typeface="Times New Roman"/>
              </a:rPr>
              <a:t>Тема урока:</a:t>
            </a:r>
            <a:endParaRPr b="1" lang="en-US" sz="5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358560" y="620640"/>
            <a:ext cx="878508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3366"/>
                </a:solidFill>
                <a:latin typeface="Times New Roman"/>
              </a:rPr>
              <a:t>« Общественное движение: либералы и консерваторы»</a:t>
            </a:r>
            <a:endParaRPr b="0" lang="en-US" sz="5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700360" y="4941720"/>
            <a:ext cx="6443640" cy="1916280"/>
          </a:xfrm>
          <a:prstGeom prst="rect">
            <a:avLst/>
          </a:prstGeom>
          <a:gradFill rotWithShape="0">
            <a:gsLst>
              <a:gs pos="0">
                <a:srgbClr val="b7c0c1"/>
              </a:gs>
              <a:gs pos="100000">
                <a:srgbClr val="545858"/>
              </a:gs>
            </a:gsLst>
            <a:lin ang="5400000"/>
          </a:gra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Учитель истории МОУ Будинской ООШ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Тверская область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Антоненкова Анжелика Викторовна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3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3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3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3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3851280" y="1561680"/>
            <a:ext cx="4968720" cy="47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авославие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амодержавие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рестьянскую общину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Но не допускали вмешательства государства в частную жизнь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7" name="" descr="Файл:Kosheljov, Aleksandr Ivanovich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9280" y="1413000"/>
            <a:ext cx="3672000" cy="417672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287280" y="260280"/>
            <a:ext cx="8569440" cy="1009800"/>
          </a:xfrm>
          <a:prstGeom prst="rect">
            <a:avLst/>
          </a:prstGeom>
          <a:solidFill>
            <a:srgbClr val="c0c0c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Особенности российского либерализма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79280" y="5445000"/>
            <a:ext cx="3745080" cy="64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.И. Кошелев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8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8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8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8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284360" y="2205000"/>
            <a:ext cx="4630680" cy="38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« …сила власти должна принадлежать царю, но сила мнения – народу…»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1" name="" descr="Файл:KonstantinAksakov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5280" y="1413000"/>
            <a:ext cx="3738600" cy="486864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287280" y="260280"/>
            <a:ext cx="8569440" cy="1009800"/>
          </a:xfrm>
          <a:prstGeom prst="rect">
            <a:avLst/>
          </a:prstGeom>
          <a:solidFill>
            <a:srgbClr val="c0c0c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Особенности российского либерализма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95280" y="6021360"/>
            <a:ext cx="3745080" cy="6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.С. Аксаков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287280" y="189000"/>
            <a:ext cx="8569440" cy="1009440"/>
          </a:xfrm>
          <a:prstGeom prst="rect">
            <a:avLst/>
          </a:prstGeom>
          <a:solidFill>
            <a:srgbClr val="c0c0c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Особенности российского либерализма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35" name="" descr="Файл:KrajevskyAndrey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4360" y="1341360"/>
            <a:ext cx="3078000" cy="3573720"/>
          </a:xfrm>
          <a:prstGeom prst="rect">
            <a:avLst/>
          </a:prstGeom>
          <a:ln w="22320">
            <a:solidFill>
              <a:srgbClr val="000000"/>
            </a:solidFill>
            <a:miter/>
          </a:ln>
        </p:spPr>
      </p:pic>
      <p:sp>
        <p:nvSpPr>
          <p:cNvPr id="136" name=""/>
          <p:cNvSpPr/>
          <p:nvPr/>
        </p:nvSpPr>
        <p:spPr>
          <a:xfrm>
            <a:off x="395280" y="4221000"/>
            <a:ext cx="3816360" cy="64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.А. Краевский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37" name="" descr="Файл:Druzhini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651640" y="1268280"/>
            <a:ext cx="2646360" cy="3649680"/>
          </a:xfrm>
          <a:prstGeom prst="rect">
            <a:avLst/>
          </a:prstGeom>
          <a:ln w="22320">
            <a:solidFill>
              <a:srgbClr val="000000"/>
            </a:solidFill>
            <a:miter/>
          </a:ln>
        </p:spPr>
      </p:pic>
      <p:sp>
        <p:nvSpPr>
          <p:cNvPr id="138" name=""/>
          <p:cNvSpPr/>
          <p:nvPr/>
        </p:nvSpPr>
        <p:spPr>
          <a:xfrm>
            <a:off x="4932360" y="4437000"/>
            <a:ext cx="3816360" cy="6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.В. Дружинин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5157720"/>
            <a:ext cx="9144000" cy="1700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Либеральные идеи звучали также на страницах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« Отечественных записок» А.А. Краевского и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« Библиотеки для чтения» А.В. Дружинина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5076720" y="1267920"/>
            <a:ext cx="406728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 сентябре 1858 года Б.Н. Чичерин отправляется в Лондон для переговоров с А.И. Герценом об изменении содержания изданий Вольной русской типографии. Эта встреча привела к разрыву с ним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9280" y="1268280"/>
            <a:ext cx="2381400" cy="34387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287280" y="189000"/>
            <a:ext cx="8569440" cy="1009440"/>
          </a:xfrm>
          <a:prstGeom prst="rect">
            <a:avLst/>
          </a:prstGeom>
          <a:solidFill>
            <a:srgbClr val="c0c0c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Особенности российского либерализма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43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332000" y="2060640"/>
            <a:ext cx="1922400" cy="316692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5"/>
          <a:stretch/>
        </p:blipFill>
        <p:spPr>
          <a:xfrm>
            <a:off x="2627280" y="2492280"/>
            <a:ext cx="2381400" cy="332424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179280" y="5661000"/>
            <a:ext cx="4824360" cy="119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Журналы, которые печатала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ольная русская типография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 Лондоне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3563640" y="1125000"/>
            <a:ext cx="53514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одился в сельце Дмитрюкове, Тверского уезда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кончив курс на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юридическом факультете Московского университет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 поступил на службу в московский главный архив министерства иностранных дел, но вскоре вышел в отставку и поселился в своём имении. Избранный депутатом дворянства от Тверского уезда, он раскрыл злоупотребления в расходовании общественных сумм учреждениями, подведомственными дворянству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87280" y="189000"/>
            <a:ext cx="8569440" cy="1009440"/>
          </a:xfrm>
          <a:prstGeom prst="rect">
            <a:avLst/>
          </a:prstGeom>
          <a:solidFill>
            <a:srgbClr val="c0c0c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Тверской адрес 1862 г.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48" name="" descr="Файл:Unkovskiy Alexay Mikhailovich.jpg"/>
          <p:cNvPicPr/>
          <p:nvPr/>
        </p:nvPicPr>
        <p:blipFill>
          <a:blip r:embed="rId1"/>
          <a:stretch/>
        </p:blipFill>
        <p:spPr>
          <a:xfrm>
            <a:off x="539640" y="1268280"/>
            <a:ext cx="2909880" cy="472464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179280" y="5950080"/>
            <a:ext cx="3816360" cy="6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.М. Унковский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202680" y="907560"/>
            <a:ext cx="8736120" cy="468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Либералы действовали в рамках дворянских губернских комитетов. В </a:t>
            </a: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1857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г. А. Унковский стал предводителем тверского дворянства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1859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г. его сослали за протест против запрета обсуждать в печати крестьянский вопрос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1862г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. тверское дворянство в адресе на имя царя отказалось  своих привилегий. Но лидеры либералов выступили против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title"/>
          </p:nvPr>
        </p:nvSpPr>
        <p:spPr>
          <a:xfrm>
            <a:off x="539280" y="188640"/>
            <a:ext cx="8393400" cy="765000"/>
          </a:xfrm>
          <a:prstGeom prst="rect">
            <a:avLst/>
          </a:prstGeom>
          <a:solidFill>
            <a:srgbClr val="c0c0c0"/>
          </a:solidFill>
          <a:ln w="9360">
            <a:solidFill>
              <a:srgbClr val="003366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Тверской адрес 1862 г.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5579640" y="1483920"/>
            <a:ext cx="33354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861 год – группа петербургских профессоров осудила действия властей по наведению «порядка» в петербургском университете и ушла в отставку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39640" y="189000"/>
            <a:ext cx="8393400" cy="765000"/>
          </a:xfrm>
          <a:prstGeom prst="rect">
            <a:avLst/>
          </a:prstGeom>
          <a:solidFill>
            <a:srgbClr val="c0c0c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Разногласия в либеральном движении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826920" y="1125360"/>
            <a:ext cx="1724040" cy="258768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155" name=""/>
          <p:cNvSpPr/>
          <p:nvPr/>
        </p:nvSpPr>
        <p:spPr>
          <a:xfrm>
            <a:off x="395280" y="3429000"/>
            <a:ext cx="230508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.Д. Кавелин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56" name="" descr="Файл:Nikolay Ge 037.jpg"/>
          <p:cNvPicPr/>
          <p:nvPr/>
        </p:nvPicPr>
        <p:blipFill>
          <a:blip r:embed="rId2"/>
          <a:stretch/>
        </p:blipFill>
        <p:spPr>
          <a:xfrm>
            <a:off x="3276720" y="2421000"/>
            <a:ext cx="1957320" cy="249696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3203640" y="4869000"/>
            <a:ext cx="230508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.Н. Пыпин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58" name="" descr="Spasowicz by Repin.jpg"/>
          <p:cNvPicPr/>
          <p:nvPr/>
        </p:nvPicPr>
        <p:blipFill>
          <a:blip r:embed="rId3"/>
          <a:stretch/>
        </p:blipFill>
        <p:spPr>
          <a:xfrm>
            <a:off x="755640" y="4005360"/>
            <a:ext cx="1905120" cy="25048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539640" y="6237360"/>
            <a:ext cx="230508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.Д. Спасович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10920" y="188640"/>
            <a:ext cx="8304120" cy="17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1866 году « мятежные» профессора основали журнал «Вестник Европы», ставший влиятельным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иберальным органом западнического направления.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333600" y="209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62" name="gontsharoffbig" descr=""/>
          <p:cNvPicPr/>
          <p:nvPr/>
        </p:nvPicPr>
        <p:blipFill>
          <a:blip r:embed="rId1"/>
          <a:stretch/>
        </p:blipFill>
        <p:spPr>
          <a:xfrm>
            <a:off x="685800" y="2095560"/>
            <a:ext cx="2476440" cy="2666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3809880" y="223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64" name="danilevskij" descr=""/>
          <p:cNvPicPr/>
          <p:nvPr/>
        </p:nvPicPr>
        <p:blipFill>
          <a:blip r:embed="rId2"/>
          <a:stretch/>
        </p:blipFill>
        <p:spPr>
          <a:xfrm>
            <a:off x="2057400" y="3809880"/>
            <a:ext cx="1785960" cy="279108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4086360" y="285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66" name="images14" descr=""/>
          <p:cNvPicPr/>
          <p:nvPr/>
        </p:nvPicPr>
        <p:blipFill>
          <a:blip r:embed="rId3"/>
          <a:stretch/>
        </p:blipFill>
        <p:spPr>
          <a:xfrm>
            <a:off x="3544920" y="1700280"/>
            <a:ext cx="2054160" cy="243828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3166920" y="1538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68" name="17_01" descr=""/>
          <p:cNvPicPr/>
          <p:nvPr/>
        </p:nvPicPr>
        <p:blipFill>
          <a:blip r:embed="rId4"/>
          <a:stretch/>
        </p:blipFill>
        <p:spPr>
          <a:xfrm>
            <a:off x="5219640" y="3716280"/>
            <a:ext cx="2125800" cy="286056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5"/>
          <a:stretch/>
        </p:blipFill>
        <p:spPr>
          <a:xfrm>
            <a:off x="6732720" y="1628640"/>
            <a:ext cx="207324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323640" y="2133720"/>
            <a:ext cx="8591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отиворечия среди либералов обострились в связи с польским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осстанием 1861-63 гг. М.Катков поддержал действия правительства и занял крайне националистические позиции, а его имя вскоре стало символом реакции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323640" y="333000"/>
            <a:ext cx="8569080" cy="1143000"/>
          </a:xfrm>
          <a:prstGeom prst="rect">
            <a:avLst/>
          </a:prstGeom>
          <a:solidFill>
            <a:srgbClr val="c0c0c0"/>
          </a:solidFill>
          <a:ln w="9360">
            <a:solidFill>
              <a:srgbClr val="003366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Разногласия в либеральном движении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571320" y="234936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Какова роль земского движения для подъёма либерального движения в конце 70-х годов?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4000" y="333360"/>
            <a:ext cx="8569080" cy="1143000"/>
          </a:xfrm>
          <a:prstGeom prst="rect">
            <a:avLst/>
          </a:prstGeom>
          <a:solidFill>
            <a:srgbClr val="c0c0c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Земское движение конца 70-х годов.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9492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Цели урока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50560" y="1562040"/>
            <a:ext cx="856908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Times New Roman"/>
              </a:rPr>
              <a:t>Выяснить особенности либерального движения в 60-70 гг., основные идеи консерваторов;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Times New Roman"/>
              </a:rPr>
              <a:t>Развивать умение выделять главное, определять и объяснять понятия;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4571640" y="1197000"/>
            <a:ext cx="432108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лавной задачей консерваторов стала попытка оградить императора от влияния либералов и стремление ограничить реформы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1866 г. П.Шувалов стал шефом жандармов и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становил полный контроль над императором. До 1874 г. он ведал назначением министров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лавным идеологом консерваторов стал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.Катков, бывший либерал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title"/>
          </p:nvPr>
        </p:nvSpPr>
        <p:spPr>
          <a:xfrm>
            <a:off x="323640" y="333360"/>
            <a:ext cx="8569080" cy="719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3366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Консерваторы.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76" name="" descr="Файл:Shuvalov P A.jpg"/>
          <p:cNvPicPr/>
          <p:nvPr/>
        </p:nvPicPr>
        <p:blipFill>
          <a:blip r:embed="rId1"/>
          <a:stretch/>
        </p:blipFill>
        <p:spPr>
          <a:xfrm>
            <a:off x="468360" y="1271520"/>
            <a:ext cx="3762360" cy="431496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324000" y="5661000"/>
            <a:ext cx="388764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.А. Шувалов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Подведём итог урока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Ответьте на вопросы в конце учебника стр. 173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53" dur="5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Домашнее задание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68360" y="2205000"/>
            <a:ext cx="8447040" cy="38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араграф 24, вопросы, термины, задания в рабочей тетради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6" dur="5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Консерваторы                   Либералы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- отмену крепостного права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- смягчение политического режима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Но: ждали от власти таких действий, которые соответствовали бы её собственным представлениям о реформах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743200" y="2819520"/>
            <a:ext cx="1219320" cy="60948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5181120" y="2819520"/>
            <a:ext cx="1143000" cy="60948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115920"/>
            <a:ext cx="8569080" cy="1009440"/>
          </a:xfrm>
          <a:prstGeom prst="rect">
            <a:avLst/>
          </a:prstGeom>
          <a:solidFill>
            <a:srgbClr val="c0c0c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Особенности российского либерализма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9280" y="4292280"/>
            <a:ext cx="83217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Начало царствования Александра II явилось периодом дальнейшего развития российского либерального движения. В середине 50-х годов видные либералы – западники установили связь с Герценом.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857760" y="2571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05" name="" descr="Файл:Kavelin Konstantin Dmitrievich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5280" y="1268280"/>
            <a:ext cx="2022480" cy="296712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324000" y="4005360"/>
            <a:ext cx="2916000" cy="431640"/>
          </a:xfrm>
          <a:prstGeom prst="rect">
            <a:avLst/>
          </a:prstGeom>
          <a:solidFill>
            <a:srgbClr val="b7c0c1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К.Д. Кавелин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6121440" y="1268280"/>
            <a:ext cx="2054160" cy="2730600"/>
          </a:xfrm>
          <a:prstGeom prst="rect">
            <a:avLst/>
          </a:prstGeom>
          <a:ln w="76320">
            <a:solidFill>
              <a:srgbClr val="666699"/>
            </a:solidFill>
            <a:miter/>
          </a:ln>
        </p:spPr>
      </p:pic>
      <p:sp>
        <p:nvSpPr>
          <p:cNvPr id="108" name=""/>
          <p:cNvSpPr/>
          <p:nvPr/>
        </p:nvSpPr>
        <p:spPr>
          <a:xfrm>
            <a:off x="5724360" y="4076640"/>
            <a:ext cx="2916360" cy="432000"/>
          </a:xfrm>
          <a:prstGeom prst="rect">
            <a:avLst/>
          </a:prstGeom>
          <a:solidFill>
            <a:srgbClr val="b7c0c1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Б.Н. Чичерин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24000" y="115920"/>
            <a:ext cx="8569080" cy="1009440"/>
          </a:xfrm>
          <a:prstGeom prst="rect">
            <a:avLst/>
          </a:prstGeom>
          <a:solidFill>
            <a:srgbClr val="c0c0c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Особенности российского либерализма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324000" y="1562040"/>
            <a:ext cx="84247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вобода совести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вобода  от крепостного права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вобода выражения общественного мнения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вобода книгопечатания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вобода преподавания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убличность всех правительственных действий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убличность и гласность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24000" y="189000"/>
            <a:ext cx="8496000" cy="1224000"/>
          </a:xfrm>
          <a:prstGeom prst="rect">
            <a:avLst/>
          </a:prstGeom>
          <a:gradFill rotWithShape="0">
            <a:gsLst>
              <a:gs pos="0">
                <a:srgbClr val="b7c0c1"/>
              </a:gs>
              <a:gs pos="50000">
                <a:srgbClr val="73797a"/>
              </a:gs>
              <a:gs pos="100000">
                <a:srgbClr val="b7c0c1"/>
              </a:gs>
            </a:gsLst>
            <a:lin ang="5400000"/>
          </a:gra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Times New Roman"/>
              </a:rPr>
              <a:t>Программа либералов.</a:t>
            </a:r>
            <a:endParaRPr b="0" lang="en-US" sz="6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79280" y="5229360"/>
            <a:ext cx="8785440" cy="1512720"/>
          </a:xfrm>
          <a:prstGeom prst="rect">
            <a:avLst/>
          </a:prstGeom>
          <a:gradFill rotWithShape="0">
            <a:gsLst>
              <a:gs pos="0">
                <a:srgbClr val="b7c0c1"/>
              </a:gs>
              <a:gs pos="50000">
                <a:srgbClr val="989fa0"/>
              </a:gs>
              <a:gs pos="100000">
                <a:srgbClr val="b7c0c1"/>
              </a:gs>
            </a:gsLst>
            <a:lin ang="5400000"/>
          </a:gra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Но в этом документе отсутствовало одно из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либеральных требований – введение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Конституционного правления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4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9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4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9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4" dur="5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9" dur="5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4" dur="500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572000" y="189000"/>
            <a:ext cx="4392720" cy="64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ступив к разработке крестьянской реформы, Александр II фактически стал выполнять программу либералов. Поэтому своей главной задачей представители этого движения стали считать поддержку правительства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4" name="" descr="Файл:Alexander II of Russia (Nikolay Lavrov 01)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0920" y="404640"/>
            <a:ext cx="4302000" cy="504036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179280" y="5300640"/>
            <a:ext cx="4392720" cy="7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лександр II Освободитель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250920" y="1484280"/>
            <a:ext cx="866448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Многие либералы полагали, что в России ещё не созрели условия для введения Конституции. И даже если она будет объявлена, то останется лишь на бумаге. Т.к. в парламенте большинство мест принадлежать консерваторам, то они легко могут свернуть все начатые либеральные преобразования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324000" y="188640"/>
            <a:ext cx="8640720" cy="1143000"/>
          </a:xfrm>
          <a:prstGeom prst="rect">
            <a:avLst/>
          </a:prstGeom>
          <a:solidFill>
            <a:srgbClr val="c0c0c0"/>
          </a:solidFill>
          <a:ln w="9360">
            <a:solidFill>
              <a:srgbClr val="003366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Особенности российского либерализма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Times New Roman"/>
              </a:rPr>
              <a:t>Провести реформу  управления;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Times New Roman"/>
              </a:rPr>
              <a:t>Совершенствование местного управления;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Times New Roman"/>
              </a:rPr>
              <a:t>Развитие хозяйства;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Times New Roman"/>
              </a:rPr>
              <a:t>Поднять материальный и культурный уровень жизни народа; 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24000" y="115920"/>
            <a:ext cx="8569080" cy="1009440"/>
          </a:xfrm>
          <a:prstGeom prst="rect">
            <a:avLst/>
          </a:prstGeom>
          <a:solidFill>
            <a:srgbClr val="c0c0c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Особенности российского либерализма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38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43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48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53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427280" y="1562040"/>
            <a:ext cx="392436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-26388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Times New Roman"/>
              </a:rPr>
              <a:t>Необходимость отменить крепостное право;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263880" indent="-26388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Times New Roman"/>
              </a:rPr>
              <a:t>Наделить крестьян землёй;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263880" indent="-26388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Times New Roman"/>
              </a:rPr>
              <a:t>Ввести независимый суд;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263880" indent="-26388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Times New Roman"/>
              </a:rPr>
              <a:t>Ввести местное самоуправление;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643200" y="2162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143160" y="1652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23" name="znamen_10" descr=""/>
          <p:cNvPicPr/>
          <p:nvPr/>
        </p:nvPicPr>
        <p:blipFill>
          <a:blip r:embed="rId1"/>
          <a:stretch/>
        </p:blipFill>
        <p:spPr>
          <a:xfrm>
            <a:off x="539640" y="1413000"/>
            <a:ext cx="3710160" cy="46116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287280" y="260280"/>
            <a:ext cx="8569440" cy="1009800"/>
          </a:xfrm>
          <a:prstGeom prst="rect">
            <a:avLst/>
          </a:prstGeom>
          <a:solidFill>
            <a:srgbClr val="c0c0c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Особенности российского либерализма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50920" y="5943600"/>
            <a:ext cx="4033800" cy="725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М.Н. Катков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КарМаН</cp:lastModifiedBy>
  <dcterms:modified xsi:type="dcterms:W3CDTF">2012-04-12T08:11:20Z</dcterms:modified>
  <cp:revision>3</cp:revision>
  <dc:subject/>
  <dc:title>PowerPoint Presentation</dc:title>
</cp:coreProperties>
</file>