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90F-359E-4575-978D-14D80744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273-E191-4761-BC01-25B27689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DAE-5A8C-4A85-8A59-2820231C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AEB-DD65-4E4A-A212-30B12E5A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13AF-036B-4B83-878C-4AF3B333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1E6E-9228-4924-9614-19BAAAC9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8AC8-CC14-47E2-B175-C9B3541B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2F14-6A0B-47D0-9A0C-817F8286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D31E-39A6-4A70-BE96-D968CB4F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5389-820E-4CAF-A649-E092157A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5AEE-81E0-48DB-BA58-A507E022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D3F-52A5-47AD-B9BE-303A8E53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E521-C305-4BE2-87C1-CADF4AF5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82A2-1CAF-4B65-8839-43834B20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E01A-4F79-4245-987C-F4C9AD82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8E70-C444-4F6F-A04C-2762ABCE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5BC3-2F13-40C5-92D8-FC8B943B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1FB-968A-4D06-9850-59CF0123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541-59F8-4658-A8B4-7F6DECCE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610-CB65-4A5A-93D5-800F15DA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1A7-12D4-4E2D-8E0B-CAEC95EA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59D-815F-48E5-85A9-B5D01C36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DC1-0C51-4A82-9DF1-69D551A5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EB2-6AEA-47BF-A025-CDDA9829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5EE2-A20E-40AF-861B-7F68EB3A3C1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5707-134C-4C33-B2B6-373FA822F70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0/Kosheljov%2C_Aleksandr_Ivano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8/KonstantinAksako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8/8e/KrajevskyAndre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upload.wikimedia.org/wikipedia/commons/3/30/Druzhini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3;&#1086;&#1083;&#1086;&#1089;&#1072;_&#1080;&#1079;_&#1056;&#1086;&#1089;&#1089;&#1080;&#1080;._N2._&#1058;&#1080;&#1090;&#1091;&#1083;&#1100;&#1085;&#1099;&#1081;_&#1083;&#1080;&#1089;&#1090;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PolarStar(Hertzen)_title_page_1855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Kavelin_Konstantin_Dmitrievich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4/Alexander_II_of_Russia_%28Nikolay_Lavrov_01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Тема урока: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58560" y="62064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« Общественное движение: либералы и консерваторы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941720"/>
            <a:ext cx="6443640" cy="191628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100000">
                <a:srgbClr val="54585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 МОУ Будинской ОО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ская обла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тоненкова Анжелика Викторо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51280" y="1561680"/>
            <a:ext cx="4968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держ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ую общин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 не допускали вмешательства государства в частную жиз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Файл:Kosheljov, Aleksandr Ivan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367200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445000"/>
            <a:ext cx="3745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И. Кошеле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360" y="2205000"/>
            <a:ext cx="46306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…сила власти должна принадлежать царю, но сила мнения – народу…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Файл:KonstantinAksa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37386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02136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С. Акса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Файл:KrajevskyAnd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078000" cy="3573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95280" y="4221000"/>
            <a:ext cx="3816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А. Крае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Файл:Druzhin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268280"/>
            <a:ext cx="2646360" cy="3649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932360" y="443700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В. Дружин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беральные идеи звучали также на страница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Отечественных записок» А.А. Краевского 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Библиотеки для чтения» А.В. Дружинин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76720" y="1267920"/>
            <a:ext cx="406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858 года Б.Н. Чичерин отправляется в Лондон для переговоров с А.И. Герценом об изменении содержания изданий Вольной русской типографии. Эта встреча привела к разрыву с н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2381400" cy="34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060640"/>
            <a:ext cx="1922400" cy="316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2381400" cy="33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661000"/>
            <a:ext cx="482436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урналы, которые печата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ьная русская типограф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ондон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563640" y="1125000"/>
            <a:ext cx="5351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сельце Дмитрюкове, Тверского уез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ив курс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дическом факультете Московского университ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ступил на службу в московский главный архив министерства иностранных дел, но вскоре вышел в отставку и поселился в своём имении. Избранный депутатом дворянства от Тверского уезда, он раскрыл злоупотребления в расходовании общественных сумм учреждениями, подведомственными дворянств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верской адрес 1862 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Файл:Unkovskiy Alexay Mikhailovich.jpg"/>
          <p:cNvPicPr/>
          <p:nvPr/>
        </p:nvPicPr>
        <p:blipFill>
          <a:blip r:embed="rId1"/>
          <a:stretch/>
        </p:blipFill>
        <p:spPr>
          <a:xfrm>
            <a:off x="539640" y="1268280"/>
            <a:ext cx="2909880" cy="472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95008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М. Унко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02680" y="907560"/>
            <a:ext cx="87361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ералы действовали в рамках дворянских губернских комитетов. 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А. Унковский стал предводителем тверского дворян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его сослали за протест против запрета обсуждать в печати крестьянский 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62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тверское дворянство в адресе на имя царя отказалось  своих привилегий. Но лидеры либералов выступили проти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верской адрес 1862 г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579640" y="1483920"/>
            <a:ext cx="3335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61 год – группа петербургских профессоров осудила действия властей по наведению «порядка» в петербургском университете и ушла в отстав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8900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1724040" cy="258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95280" y="342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Файл:Nikolay Ge 037.jpg"/>
          <p:cNvPicPr/>
          <p:nvPr/>
        </p:nvPicPr>
        <p:blipFill>
          <a:blip r:embed="rId2"/>
          <a:stretch/>
        </p:blipFill>
        <p:spPr>
          <a:xfrm>
            <a:off x="3276720" y="2421000"/>
            <a:ext cx="195732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3640" y="486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Н. Пып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Spasowicz by Repin.jpg"/>
          <p:cNvPicPr/>
          <p:nvPr/>
        </p:nvPicPr>
        <p:blipFill>
          <a:blip r:embed="rId3"/>
          <a:stretch/>
        </p:blipFill>
        <p:spPr>
          <a:xfrm>
            <a:off x="755640" y="4005360"/>
            <a:ext cx="1905120" cy="250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623736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Д. Спасови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41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66 году « мятежные» профессора основали журнал «Вестник Европы», ставший влиятельны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еральным органом западнического направл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gontsharoffbig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2476440" cy="2666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98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danilevskij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785960" cy="2791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86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images14" descr=""/>
          <p:cNvPicPr/>
          <p:nvPr/>
        </p:nvPicPr>
        <p:blipFill>
          <a:blip r:embed="rId3"/>
          <a:stretch/>
        </p:blipFill>
        <p:spPr>
          <a:xfrm>
            <a:off x="3544920" y="170028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6692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17_01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2125800" cy="286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1628640"/>
            <a:ext cx="207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8591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среди либералов обострились в связи с польским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м 1861-63 гг. М.Катков поддержал действия правительства и занял крайне националистические позиции, а его имя вскоре стало символом реак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32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ова роль земского движения для подъёма либерального движения в конце 70-х годов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336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емское движение конца 70-х годов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яснить особенности либерального движения в 60-70 гг., основные идеи консерваторов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вать умение выделять главное, определять и объяснять понят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1640" y="119700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й задачей консерваторов стала попытка оградить императора от влияния либералов и стремление ограничить рефор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66 г. П.Шувалов стал шефом жандармов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л полный контроль над императором. До 1874 г. он ведал назначением минист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деологом консерваторов ста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Катков, бывший либер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ерваторы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Файл:Shuvalov P A.jpg"/>
          <p:cNvPicPr/>
          <p:nvPr/>
        </p:nvPicPr>
        <p:blipFill>
          <a:blip r:embed="rId1"/>
          <a:stretch/>
        </p:blipFill>
        <p:spPr>
          <a:xfrm>
            <a:off x="468360" y="1271520"/>
            <a:ext cx="37623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661000"/>
            <a:ext cx="38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.А. Шувал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ём итог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 в конце учебника стр. 17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24, вопросы, термины, задания в рабочей тетрад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                   Либера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тмену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мягчение политического режим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о: ждали от власти таких действий, которые соответствовали бы её собственным представлениям о рефор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12193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1120" y="2819520"/>
            <a:ext cx="114300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292280"/>
            <a:ext cx="83217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о царствования Александра II явилось периодом дальнейшего развития российского либерального движения. В середине 50-х годов видные либералы – западники установили связь с Герцено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7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" descr="Файл:Kavelin Konstantin Dmitrie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2022480" cy="296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4005360"/>
            <a:ext cx="2916000" cy="43164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21440" y="1268280"/>
            <a:ext cx="2054160" cy="27306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724360" y="4076640"/>
            <a:ext cx="2916360" cy="43200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.Н. Чичер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6204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сове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 от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выражения общественного мн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книгопеча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преподав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всех правительственных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и глас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89000"/>
            <a:ext cx="8496000" cy="122400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73797a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рограмма либералов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229360"/>
            <a:ext cx="8785440" cy="151272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989fa0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 в этом документе отсутствовало одно и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беральных требований – введ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ституционного правления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ступив к разработке крестьянской реформы, Александр II фактически стал выполнять программу либералов. Поэтому своей главной задачей представители этого движения стали считать поддержку прави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Файл:Alexander II of Russia (Nikolay Lavrov 0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30200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30064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андр II Освободител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64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огие либералы полагали, что в России ещё не созрели условия для введения Конституции. И даже если она будет объявлена, то останется лишь на бумаге. Т.к. в парламенте большинство мест принадлежать консерваторам, то они легко могут свернуть все начатые либеральные преобраз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российского либерализ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вести реформу 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овершенствование местного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тие хозяйст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нять материальный и культурный уровень жизни народа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27280" y="156204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обходимость отменить крепостное право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делить крестьян землё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независимый суд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местное самоуправл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43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znamen_10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710160" cy="461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943600"/>
            <a:ext cx="4033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.Н. Кат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12T08:11:20Z</dcterms:modified>
  <cp:revision>3</cp:revision>
  <dc:subject/>
  <dc:title>PowerPoint Presentation</dc:title>
</cp:coreProperties>
</file>