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F88-B4F9-4592-B7F6-8E0B6BA5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6D6-98FA-45AA-B613-2A80CD89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581-5180-4A06-B18D-B9C53FBC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CF9-FF31-4018-A251-D71B317F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70C5-87BF-49B5-A98C-3AB3A185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E1E5-92D7-47A5-A733-51F7609C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72ED-8A51-4B25-BB09-FCB1B1DC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70C9-E05D-43DC-A086-3CE3C6E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5C89-93AE-4675-9E5C-4E6D8BB6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3570-C8B5-49E7-8459-90657B6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D3B-16F1-471A-BA97-080EF67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467-6218-4647-976A-993807B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57D6-5DDE-45C2-A61F-560E117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FD20-2744-4484-886B-E9E3B9B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A41-92ED-4CF0-A031-26565881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2545-D23F-4834-99E5-0A80DFB1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32E-2F45-4B3D-8035-1BF63FFF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117-2068-420E-965F-45FEAF1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2B0-C506-49D6-BD4A-6216544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369-5CD3-4247-AE57-B5F676B3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EE8-66A7-423B-97D9-4602EE4B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76E-7618-4BD3-A932-A9468C3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867-FA70-49F2-95A7-2DA0B05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49D-0806-47F6-88D1-F8D3A343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575-598C-4673-869E-42001C41063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0FD-5A9C-4566-A2C2-1E5CD6BDC1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0/Kosheljov%2C_Aleksandr_Ivano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f/f8/KonstantinAksakov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8/8e/KrajevskyAndrey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upload.wikimedia.org/wikipedia/commons/3/30/Druzhinin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3;&#1086;&#1083;&#1086;&#1089;&#1072;_&#1080;&#1079;_&#1056;&#1086;&#1089;&#1089;&#1080;&#1080;._N2._&#1058;&#1080;&#1090;&#1091;&#1083;&#1100;&#1085;&#1099;&#1081;_&#1083;&#1080;&#1089;&#1090;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ru.wikipedia.org/wiki/&#1060;&#1072;&#1081;&#1083;:PolarStar(Hertzen)_title_page_1855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Kavelin_Konstantin_Dmitrievich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4/Alexander_II_of_Russia_%28Nikolay_Lavrov_01%2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Тема урока: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58560" y="62064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« Общественное движение: либералы и консерваторы»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941720"/>
            <a:ext cx="6443640" cy="191628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100000">
                <a:srgbClr val="545858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 МОУ Будинской ОО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верская област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тоненкова Анжелика Викторовн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51280" y="1561680"/>
            <a:ext cx="4968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держав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ую общин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 не допускали вмешательства государства в частную жизн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Файл:Kosheljov, Aleksandr Ivano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367200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5445000"/>
            <a:ext cx="37450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И. Кошеле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360" y="2205000"/>
            <a:ext cx="46306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…сила власти должна принадлежать царю, но сила мнения – народу…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Файл:KonstantinAksak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3738600" cy="486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021360"/>
            <a:ext cx="374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С. Акса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Файл:KrajevskyAndr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3078000" cy="35737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95280" y="4221000"/>
            <a:ext cx="3816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А. Крае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Файл:Druzhini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268280"/>
            <a:ext cx="2646360" cy="3649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932360" y="443700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В. Дружин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9144000" cy="170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беральные идеи звучали также на страницах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Отечественных записок» А.А. Краевского и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 Библиотеки для чтения» А.В. Дружинин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076720" y="1267920"/>
            <a:ext cx="4067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нтябре 1858 года Б.Н. Чичерин отправляется в Лондон для переговоров с А.И. Герценом об изменении содержания изданий Вольной русской типографии. Эта встреча привела к разрыву с н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268280"/>
            <a:ext cx="2381400" cy="343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060640"/>
            <a:ext cx="1922400" cy="3166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627280" y="2492280"/>
            <a:ext cx="2381400" cy="3324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5661000"/>
            <a:ext cx="482436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урналы, которые печатал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льная русская типограф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Лондон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563640" y="1125000"/>
            <a:ext cx="5351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в сельце Дмитрюкове, Тверского уез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ив курс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дическом факультете Московского университе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ступил на службу в московский главный архив министерства иностранных дел, но вскоре вышел в отставку и поселился в своём имении. Избранный депутатом дворянства от Тверского уезда, он раскрыл злоупотребления в расходовании общественных сумм учреждениями, подведомственными дворянств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189000"/>
            <a:ext cx="85694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верской адрес 1862 г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Файл:Unkovskiy Alexay Mikhailovich.jpg"/>
          <p:cNvPicPr/>
          <p:nvPr/>
        </p:nvPicPr>
        <p:blipFill>
          <a:blip r:embed="rId1"/>
          <a:stretch/>
        </p:blipFill>
        <p:spPr>
          <a:xfrm>
            <a:off x="539640" y="1268280"/>
            <a:ext cx="2909880" cy="4724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95008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М. Унковски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02680" y="907560"/>
            <a:ext cx="87361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ералы действовали в рамках дворянских губернских комитетов. 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А. Унковский стал предводителем тверского дворян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5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. его сослали за протест против запрета обсуждать в печати крестьянский вопро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862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тверское дворянство в адресе на имя царя отказалось  своих привилегий. Но лидеры либералов выступили проти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280" y="18864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верской адрес 1862 г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579640" y="1483920"/>
            <a:ext cx="3335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61 год – группа петербургских профессоров осудила действия властей по наведению «порядка» в петербургском университете и ушла в отстав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9000"/>
            <a:ext cx="8393400" cy="765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1724040" cy="258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395280" y="342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Файл:Nikolay Ge 037.jpg"/>
          <p:cNvPicPr/>
          <p:nvPr/>
        </p:nvPicPr>
        <p:blipFill>
          <a:blip r:embed="rId2"/>
          <a:stretch/>
        </p:blipFill>
        <p:spPr>
          <a:xfrm>
            <a:off x="3276720" y="2421000"/>
            <a:ext cx="195732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3640" y="486900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.Н. Пып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Spasowicz by Repin.jpg"/>
          <p:cNvPicPr/>
          <p:nvPr/>
        </p:nvPicPr>
        <p:blipFill>
          <a:blip r:embed="rId3"/>
          <a:stretch/>
        </p:blipFill>
        <p:spPr>
          <a:xfrm>
            <a:off x="755640" y="4005360"/>
            <a:ext cx="1905120" cy="2504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6237360"/>
            <a:ext cx="23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Д. Спасови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412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866 году « мятежные» профессора основали журнал «Вестник Европы», ставший влиятельны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еральным органом западнического направлени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gontsharoffbig" descr=""/>
          <p:cNvPicPr/>
          <p:nvPr/>
        </p:nvPicPr>
        <p:blipFill>
          <a:blip r:embed="rId1"/>
          <a:stretch/>
        </p:blipFill>
        <p:spPr>
          <a:xfrm>
            <a:off x="685800" y="2095560"/>
            <a:ext cx="2476440" cy="2666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98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danilevskij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785960" cy="2791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086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images14" descr=""/>
          <p:cNvPicPr/>
          <p:nvPr/>
        </p:nvPicPr>
        <p:blipFill>
          <a:blip r:embed="rId3"/>
          <a:stretch/>
        </p:blipFill>
        <p:spPr>
          <a:xfrm>
            <a:off x="3544920" y="170028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16692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17_01" descr=""/>
          <p:cNvPicPr/>
          <p:nvPr/>
        </p:nvPicPr>
        <p:blipFill>
          <a:blip r:embed="rId4"/>
          <a:stretch/>
        </p:blipFill>
        <p:spPr>
          <a:xfrm>
            <a:off x="5219640" y="3716280"/>
            <a:ext cx="2125800" cy="286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1628640"/>
            <a:ext cx="2073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8591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среди либералов обострились в связи с польским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м 1861-63 гг. М.Катков поддержал действия правительства и занял крайне националистические позиции, а его имя вскоре стало символом реакци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ногласия в либеральном движени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7132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кова роль земского движения для подъёма либерального движения в конце 70-х годов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333360"/>
            <a:ext cx="8569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емское движение конца 70-х годов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69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яснить особенности либерального движения в 60-70 гг., основные идеи консерваторов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вать умение выделять главное, определять и объяснять понят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1640" y="119700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ой задачей консерваторов стала попытка оградить императора от влияния либералов и стремление ограничить рефор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866 г. П.Шувалов стал шефом жандармов 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л полный контроль над императором. До 1874 г. он ведал назначением министр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идеологом консерваторов ста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Катков, бывший либера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серваторы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Файл:Shuvalov P A.jpg"/>
          <p:cNvPicPr/>
          <p:nvPr/>
        </p:nvPicPr>
        <p:blipFill>
          <a:blip r:embed="rId1"/>
          <a:stretch/>
        </p:blipFill>
        <p:spPr>
          <a:xfrm>
            <a:off x="468360" y="1271520"/>
            <a:ext cx="37623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661000"/>
            <a:ext cx="388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.А. Шувал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едём итог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 в конце учебника стр. 17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граф 24, вопросы, термины, задания в рабочей тетрад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                   Либерал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тмену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мягчение политического режим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: ждали от власти таких действий, которые соответствовали бы её собственным представлениям о рефор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2819520"/>
            <a:ext cx="12193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81120" y="2819520"/>
            <a:ext cx="114300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292280"/>
            <a:ext cx="83217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о царствования Александра II явилось периодом дальнейшего развития российского либерального движения. В середине 50-х годов видные либералы – западники установили связь с Герцено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776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" descr="Файл:Kavelin Konstantin Dmitrievi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2022480" cy="296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4005360"/>
            <a:ext cx="2916000" cy="43164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.Д. Кавел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121440" y="1268280"/>
            <a:ext cx="2054160" cy="27306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724360" y="4076640"/>
            <a:ext cx="2916360" cy="432000"/>
          </a:xfrm>
          <a:prstGeom prst="rect">
            <a:avLst/>
          </a:prstGeom>
          <a:solidFill>
            <a:srgbClr val="b7c0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.Н. Чичери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62040"/>
            <a:ext cx="8424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совес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 от крепостного пра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выражения общественного мн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книгопечат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бода преподава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всех правительственных действ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бличность и глас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8496000" cy="122400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73797a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Программа либералов.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5229360"/>
            <a:ext cx="8785440" cy="1512720"/>
          </a:xfrm>
          <a:prstGeom prst="rect">
            <a:avLst/>
          </a:prstGeom>
          <a:gradFill rotWithShape="0">
            <a:gsLst>
              <a:gs pos="0">
                <a:srgbClr val="b7c0c1"/>
              </a:gs>
              <a:gs pos="50000">
                <a:srgbClr val="989fa0"/>
              </a:gs>
              <a:gs pos="100000">
                <a:srgbClr val="b7c0c1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 в этом документе отсутствовало одно из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беральных требований – введ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ституционного правления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89000"/>
            <a:ext cx="4392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ступив к разработке крестьянской реформы, Александр II фактически стал выполнять программу либералов. Поэтому своей главной задачей представители этого движения стали считать поддержку прави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Файл:Alexander II of Russia (Nikolay Lavrov 0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430200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530064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андр II Освободител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64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ногие либералы полагали, что в России ещё не созрели условия для введения Конституции. И даже если она будет объявлена, то останется лишь на бумаге. Т.к. в парламенте большинство мест принадлежать консерваторам, то они легко могут свернуть все начатые либеральные преобраз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обенности российского либерализ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вести реформу 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овершенствование местного управления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Развитие хозяйст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нять материальный и культурный уровень жизни народа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15920"/>
            <a:ext cx="856908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27280" y="156204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еобходимость отменить крепостное право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делить крестьян землё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независимый суд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вести местное самоуправление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432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4316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3" name="znamen_10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710160" cy="461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7280" y="260280"/>
            <a:ext cx="8569440" cy="1009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енности российского либерализм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943600"/>
            <a:ext cx="4033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.Н. Катк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12T08:11:20Z</dcterms:modified>
  <cp:revision>3</cp:revision>
  <dc:subject/>
  <dc:title>PowerPoint Presentation</dc:title>
</cp:coreProperties>
</file>