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B863-02C0-4C72-BD8A-84AD2BCE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8F31-B6FD-44C4-B584-872D02A0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AD2E-6BFB-42C6-B8D5-A789B958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7362-B5E5-4F76-B90E-18B1817A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6397-9215-4AD8-93E5-4CD44802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E62A-60B8-469F-8E93-FA674BF6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0BC1-CEAA-4A50-A9EC-5A168D8B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DE69-A139-4B90-A262-64009434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6E20-880B-4ADB-B8C8-7DCA825B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E9CC-433A-45F8-8D89-4A208A1D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51D4-BE0F-4F76-86BB-4AD8062A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45E6-E3AE-4A32-A138-35005773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C831-298B-43AB-A799-635B74C2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8A6C-A93D-4EAC-A6C8-C02601EA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33B3-BAD9-456F-B72E-8E115820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53B8-A12C-4603-8F4A-0F8EA256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8C22-7A4C-4954-A0DE-10CB6558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7510-3E6F-49BC-BDCA-E0D20CB8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9260-4A87-4277-9EAF-0DB172E3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6043-0087-4944-9D96-B0861CDE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5E6E-2FA9-4407-B2B9-02781D7F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8127-559A-4B76-B64A-FFD9890A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68F6-EC5B-4E27-87B1-D1B75933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2F39-868D-4E91-970E-2CA095A3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C527-C354-45C6-8CE0-D52F4CFE6DA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A5FC-B52D-4DA9-AB87-1B95E15D1FD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0/Kosheljov%2C_Aleksandr_Ivanovich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f/f8/KonstantinAksakov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ru/8/8e/KrajevskyAndrey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file://upload.wikimedia.org/wikipedia/commons/3/30/Druzhinin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&#1043;&#1086;&#1083;&#1086;&#1089;&#1072;_&#1080;&#1079;_&#1056;&#1086;&#1089;&#1089;&#1080;&#1080;._N2._&#1058;&#1080;&#1090;&#1091;&#1083;&#1100;&#1085;&#1099;&#1081;_&#1083;&#1080;&#1089;&#1090;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ru.wikipedia.org/wiki/&#1060;&#1072;&#1081;&#1083;:PolarStar(Hertzen)_title_page_1855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a/Kavelin_Konstantin_Dmitrievich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7/74/Alexander_II_of_Russia_%28Nikolay_Lavrov_01%29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Тема урока: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58560" y="620640"/>
            <a:ext cx="8785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« Общественное движение: либералы и консерваторы»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4941720"/>
            <a:ext cx="6443640" cy="191628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100000">
                <a:srgbClr val="545858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итель истории МОУ Будинской ОО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верская област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нтоненкова Анжелика Викторовн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51280" y="1561680"/>
            <a:ext cx="49687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вослав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одержав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естьянскую общину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 не допускали вмешательства государства в частную жизн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Файл:Kosheljov, Aleksandr Ivanovi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413000"/>
            <a:ext cx="3672000" cy="4176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5445000"/>
            <a:ext cx="374508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И. Кошеле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84360" y="2205000"/>
            <a:ext cx="46306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…сила власти должна принадлежать царю, но сила мнения – народу…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Файл:KonstantinAksako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413000"/>
            <a:ext cx="3738600" cy="4868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6021360"/>
            <a:ext cx="3745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С. Аксак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5" name="" descr="Файл:KrajevskyAndre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341360"/>
            <a:ext cx="3078000" cy="35737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395280" y="4221000"/>
            <a:ext cx="381636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А. Краевски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Файл:Druzhini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1268280"/>
            <a:ext cx="2646360" cy="36496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932360" y="443700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В. Дружин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157720"/>
            <a:ext cx="9144000" cy="170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беральные идеи звучали также на страницах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 Отечественных записок» А.А. Краевского и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 Библиотеки для чтения» А.В. Дружинина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076720" y="1267920"/>
            <a:ext cx="40672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ентябре 1858 года Б.Н. Чичерин отправляется в Лондон для переговоров с А.И. Герценом об изменении содержания изданий Вольной русской типографии. Эта встреча привела к разрыву с ни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268280"/>
            <a:ext cx="2381400" cy="343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2060640"/>
            <a:ext cx="1922400" cy="3166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2627280" y="2492280"/>
            <a:ext cx="2381400" cy="3324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9280" y="5661000"/>
            <a:ext cx="4824360" cy="11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урналы, которые печатал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льная русская типографи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Лондоне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563640" y="1125000"/>
            <a:ext cx="5351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лся в сельце Дмитрюкове, Тверского уезд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ончив курс 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юридическом факультете Московского университе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поступил на службу в московский главный архив министерства иностранных дел, но вскоре вышел в отставку и поселился в своём имении. Избранный депутатом дворянства от Тверского уезда, он раскрыл злоупотребления в расходовании общественных сумм учреждениями, подведомственными дворянств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верской адрес 1862 г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8" name="" descr="Файл:Unkovskiy Alexay Mikhailovich.jpg"/>
          <p:cNvPicPr/>
          <p:nvPr/>
        </p:nvPicPr>
        <p:blipFill>
          <a:blip r:embed="rId1"/>
          <a:stretch/>
        </p:blipFill>
        <p:spPr>
          <a:xfrm>
            <a:off x="539640" y="1268280"/>
            <a:ext cx="2909880" cy="4724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9280" y="595008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М. Унковски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02680" y="907560"/>
            <a:ext cx="873612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бералы действовали в рамках дворянских губернских комитетов. 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5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. А. Унковский стал предводителем тверского дворянст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59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. его сослали за протест против запрета обсуждать в печати крестьянский вопро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62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тверское дворянство в адресе на имя царя отказалось  своих привилегий. Но лидеры либералов выступили проти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39280" y="188640"/>
            <a:ext cx="8393400" cy="765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верской адрес 1862 г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579640" y="1483920"/>
            <a:ext cx="3335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861 год – группа петербургских профессоров осудила действия властей по наведению «порядка» в петербургском университете и ушла в отставк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189000"/>
            <a:ext cx="8393400" cy="765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ногласия в либеральном движении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1724040" cy="258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395280" y="342900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Д. Кавел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" descr="Файл:Nikolay Ge 037.jpg"/>
          <p:cNvPicPr/>
          <p:nvPr/>
        </p:nvPicPr>
        <p:blipFill>
          <a:blip r:embed="rId2"/>
          <a:stretch/>
        </p:blipFill>
        <p:spPr>
          <a:xfrm>
            <a:off x="3276720" y="2421000"/>
            <a:ext cx="1957320" cy="2496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03640" y="486900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Н. Пып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8" name="" descr="Spasowicz by Repin.jpg"/>
          <p:cNvPicPr/>
          <p:nvPr/>
        </p:nvPicPr>
        <p:blipFill>
          <a:blip r:embed="rId3"/>
          <a:stretch/>
        </p:blipFill>
        <p:spPr>
          <a:xfrm>
            <a:off x="755640" y="4005360"/>
            <a:ext cx="1905120" cy="2504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39640" y="623736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Д. Спасович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412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866 году « мятежные» профессора основали журнал «Вестник Европы», ставший влиятельны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беральным органом западнического направления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3360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2" name="gontsharoffbig" descr=""/>
          <p:cNvPicPr/>
          <p:nvPr/>
        </p:nvPicPr>
        <p:blipFill>
          <a:blip r:embed="rId1"/>
          <a:stretch/>
        </p:blipFill>
        <p:spPr>
          <a:xfrm>
            <a:off x="685800" y="2095560"/>
            <a:ext cx="2476440" cy="2666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0988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danilevskij" descr=""/>
          <p:cNvPicPr/>
          <p:nvPr/>
        </p:nvPicPr>
        <p:blipFill>
          <a:blip r:embed="rId2"/>
          <a:stretch/>
        </p:blipFill>
        <p:spPr>
          <a:xfrm>
            <a:off x="2057400" y="3809880"/>
            <a:ext cx="1785960" cy="2791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086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images14" descr=""/>
          <p:cNvPicPr/>
          <p:nvPr/>
        </p:nvPicPr>
        <p:blipFill>
          <a:blip r:embed="rId3"/>
          <a:stretch/>
        </p:blipFill>
        <p:spPr>
          <a:xfrm>
            <a:off x="3544920" y="1700280"/>
            <a:ext cx="2054160" cy="2438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166920" y="15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17_01" descr=""/>
          <p:cNvPicPr/>
          <p:nvPr/>
        </p:nvPicPr>
        <p:blipFill>
          <a:blip r:embed="rId4"/>
          <a:stretch/>
        </p:blipFill>
        <p:spPr>
          <a:xfrm>
            <a:off x="5219640" y="3716280"/>
            <a:ext cx="2125800" cy="2860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732720" y="1628640"/>
            <a:ext cx="2073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2133720"/>
            <a:ext cx="8591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речия среди либералов обострились в связи с польским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станием 1861-63 гг. М.Катков поддержал действия правительства и занял крайне националистические позиции, а его имя вскоре стало символом реакци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зногласия в либеральном движени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71320" y="2349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акова роль земского движения для подъёма либерального движения в конце 70-х годов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333360"/>
            <a:ext cx="8569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емское движение конца 70-х годов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562040"/>
            <a:ext cx="8569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яснить особенности либерального движения в 60-70 гг., основные идеи консерваторов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Развивать умение выделять главное, определять и объяснять понят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1640" y="1197000"/>
            <a:ext cx="4321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ой задачей консерваторов стала попытка оградить императора от влияния либералов и стремление ограничить реформ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866 г. П.Шувалов стал шефом жандармов 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новил полный контроль над императором. До 1874 г. он ведал назначением министр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м идеологом консерваторов стал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Катков, бывший либера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71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нсерваторы.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" descr="Файл:Shuvalov P A.jpg"/>
          <p:cNvPicPr/>
          <p:nvPr/>
        </p:nvPicPr>
        <p:blipFill>
          <a:blip r:embed="rId1"/>
          <a:stretch/>
        </p:blipFill>
        <p:spPr>
          <a:xfrm>
            <a:off x="468360" y="1271520"/>
            <a:ext cx="3762360" cy="4314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4000" y="5661000"/>
            <a:ext cx="388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.А. Шувал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дведём итог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ветьте на вопросы в конце учебника стр. 17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0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машнее зад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4704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раграф 24, вопросы, термины, задания в рабочей тетради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серваторы                   Либерал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отмену крепостного пра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смягчение политического режим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Но: ждали от власти таких действий, которые соответствовали бы её собственным представлениям о реформ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2819520"/>
            <a:ext cx="121932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81120" y="2819520"/>
            <a:ext cx="114300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4292280"/>
            <a:ext cx="83217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чало царствования Александра II явилось периодом дальнейшего развития российского либерального движения. В середине 50-х годов видные либералы – западники установили связь с Герценом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77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5" name="" descr="Файл:Kavelin Konstantin Dmitrievi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268280"/>
            <a:ext cx="2022480" cy="2967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4000" y="4005360"/>
            <a:ext cx="2916000" cy="431640"/>
          </a:xfrm>
          <a:prstGeom prst="rect">
            <a:avLst/>
          </a:prstGeom>
          <a:solidFill>
            <a:srgbClr val="b7c0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.Д. Кавел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121440" y="1268280"/>
            <a:ext cx="2054160" cy="273060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5724360" y="4076640"/>
            <a:ext cx="2916360" cy="432000"/>
          </a:xfrm>
          <a:prstGeom prst="rect">
            <a:avLst/>
          </a:prstGeom>
          <a:solidFill>
            <a:srgbClr val="b7c0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Б.Н. Чичер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62040"/>
            <a:ext cx="8424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совест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 от крепостного пра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выражения общественного мне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книгопечата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преподава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бличность всех правительственных действи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бличность и гласно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89000"/>
            <a:ext cx="8496000" cy="122400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50000">
                <a:srgbClr val="73797a"/>
              </a:gs>
              <a:gs pos="100000">
                <a:srgbClr val="b7c0c1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Программа либералов.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5229360"/>
            <a:ext cx="8785440" cy="151272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50000">
                <a:srgbClr val="989fa0"/>
              </a:gs>
              <a:gs pos="100000">
                <a:srgbClr val="b7c0c1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о в этом документе отсутствовало одно из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беральных требований – введение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нституционного правления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0" y="189000"/>
            <a:ext cx="4392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ступив к разработке крестьянской реформы, Александр II фактически стал выполнять программу либералов. Поэтому своей главной задачей представители этого движения стали считать поддержку правитель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Файл:Alexander II of Russia (Nikolay Lavrov 01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4302000" cy="5040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9280" y="5300640"/>
            <a:ext cx="439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ександр II Освободител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644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Многие либералы полагали, что в России ещё не созрели условия для введения Конституции. И даже если она будет объявлена, то останется лишь на бумаге. Т.к. в парламенте большинство мест принадлежать консерваторам, то они легко могут свернуть все начатые либеральные преобраз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обенности российского либерализм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ровести реформу  управлен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Совершенствование местного управлен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Развитие хозяйства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однять материальный и культурный уровень жизни народа;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427280" y="1562040"/>
            <a:ext cx="3924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еобходимость отменить крепостное право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аделить крестьян землё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вести независимый суд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вести местное самоуправление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4320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4316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3" name="znamen_10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710160" cy="4611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5943600"/>
            <a:ext cx="4033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.Н. Катк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12T08:11:20Z</dcterms:modified>
  <cp:revision>3</cp:revision>
  <dc:subject/>
  <dc:title>PowerPoint Presentation</dc:title>
</cp:coreProperties>
</file>