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3298-7CE4-4B8C-84E5-54CA48DB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C6A2-69A0-4F6A-A786-D06DD817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3CCD-C2BF-4730-BE4B-972642D1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4D58-5A09-4890-B84A-E9A515E9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16C4-74F5-4719-AF49-91A2826F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FC48-3EB3-4D1B-93BF-44E88E78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08EE-D6B3-4D0B-B332-AC79076B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2CC3-9123-45EC-AFB2-276EEA30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569D-D380-410E-AE29-E116514F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19E6-FF18-438A-8FBF-C699B52B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02A9-0EE3-4786-9BFC-361BE956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DFBD-7A14-4CEA-9B02-A4B45D42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3388-1C3A-425F-8F4D-57E62F22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7DE9-C3E2-4021-8A62-C4CC6D08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ACB2-FF75-40FF-8EA1-C7A9F9CB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4468-26CA-4496-88C3-C11815AB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7E34-21AD-42D6-AA57-B0A8FF87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6D2E-E4D1-4E02-AC1B-5F82BCBF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87EC-4B97-466A-9704-3E8781E1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7679-FE9F-41AC-9A22-1F22A021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B0B2-B1EF-40C7-81D9-C7AE35B1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E315-E54E-45EA-809F-B8CB20DE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14AE-5825-42AF-97E3-1A7F8434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3FB4-6149-49EB-8F3B-388B7E2C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FFEF-388E-4440-9858-851A743C6EC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6EDD-0457-4B30-BCC9-659BA7D6DA4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1/10/Kosheljov%2C_Aleksandr_Ivanovich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f/f8/KonstantinAksakov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ru/8/8e/KrajevskyAndrey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file://upload.wikimedia.org/wikipedia/commons/3/30/Druzhinin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&#1043;&#1086;&#1083;&#1086;&#1089;&#1072;_&#1080;&#1079;_&#1056;&#1086;&#1089;&#1089;&#1080;&#1080;._N2._&#1058;&#1080;&#1090;&#1091;&#1083;&#1100;&#1085;&#1099;&#1081;_&#1083;&#1080;&#1089;&#1090;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ru.wikipedia.org/wiki/&#1060;&#1072;&#1081;&#1083;:PolarStar(Hertzen)_title_page_1855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1/1a/Kavelin_Konstantin_Dmitrievich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7/74/Alexander_II_of_Russia_%28Nikolay_Lavrov_01%29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Тема урока: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58560" y="620640"/>
            <a:ext cx="8785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« Общественное движение: либералы и консерваторы»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4941720"/>
            <a:ext cx="6443640" cy="1916280"/>
          </a:xfrm>
          <a:prstGeom prst="rect">
            <a:avLst/>
          </a:prstGeom>
          <a:gradFill rotWithShape="0">
            <a:gsLst>
              <a:gs pos="0">
                <a:srgbClr val="b7c0c1"/>
              </a:gs>
              <a:gs pos="100000">
                <a:srgbClr val="545858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итель истории МОУ Будинской ООШ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верская област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нтоненкова Анжелика Викторовн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51280" y="1561680"/>
            <a:ext cx="496872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авослав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модержав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естьянскую общину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 не допускали вмешательства государства в частную жизн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Файл:Kosheljov, Aleksandr Ivanovic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413000"/>
            <a:ext cx="3672000" cy="4176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87280" y="260280"/>
            <a:ext cx="8569440" cy="1009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5445000"/>
            <a:ext cx="374508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И. Кошеле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284360" y="2205000"/>
            <a:ext cx="46306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 …сила власти должна принадлежать царю, но сила мнения – народу…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Файл:KonstantinAksakov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413000"/>
            <a:ext cx="3738600" cy="4868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87280" y="260280"/>
            <a:ext cx="8569440" cy="1009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6021360"/>
            <a:ext cx="3745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.С. Аксак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87280" y="189000"/>
            <a:ext cx="856944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5" name="" descr="Файл:KrajevskyAndre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341360"/>
            <a:ext cx="3078000" cy="35737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395280" y="4221000"/>
            <a:ext cx="381636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А. Краевски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7" name="" descr="Файл:Druzhini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1268280"/>
            <a:ext cx="2646360" cy="36496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932360" y="4437000"/>
            <a:ext cx="381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В. Дружин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157720"/>
            <a:ext cx="9144000" cy="1700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беральные идеи звучали также на страницах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 Отечественных записок» А.А. Краевского и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 Библиотеки для чтения» А.В. Дружинина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076720" y="1267920"/>
            <a:ext cx="40672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ентябре 1858 года Б.Н. Чичерин отправляется в Лондон для переговоров с А.И. Герценом об изменении содержания изданий Вольной русской типографии. Эта встреча привела к разрыву с ни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268280"/>
            <a:ext cx="2381400" cy="343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87280" y="189000"/>
            <a:ext cx="856944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32000" y="2060640"/>
            <a:ext cx="1922400" cy="3166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2627280" y="2492280"/>
            <a:ext cx="2381400" cy="3324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9280" y="5661000"/>
            <a:ext cx="4824360" cy="11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урналы, которые печатал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льная русская типография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Лондоне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563640" y="1125000"/>
            <a:ext cx="5351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лся в сельце Дмитрюкове, Тверского уезд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ончив курс 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юридическом факультете Московского университе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поступил на службу в московский главный архив министерства иностранных дел, но вскоре вышел в отставку и поселился в своём имении. Избранный депутатом дворянства от Тверского уезда, он раскрыл злоупотребления в расходовании общественных сумм учреждениями, подведомственными дворянств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7280" y="189000"/>
            <a:ext cx="856944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верской адрес 1862 г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8" name="" descr="Файл:Unkovskiy Alexay Mikhailovich.jpg"/>
          <p:cNvPicPr/>
          <p:nvPr/>
        </p:nvPicPr>
        <p:blipFill>
          <a:blip r:embed="rId1"/>
          <a:stretch/>
        </p:blipFill>
        <p:spPr>
          <a:xfrm>
            <a:off x="539640" y="1268280"/>
            <a:ext cx="2909880" cy="4724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79280" y="5950080"/>
            <a:ext cx="381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М. Унковски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02680" y="907560"/>
            <a:ext cx="873612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бералы действовали в рамках дворянских губернских комитетов. В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857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. А. Унковский стал предводителем тверского дворянств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859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. его сослали за протест против запрета обсуждать в печати крестьянский вопро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862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тверское дворянство в адресе на имя царя отказалось  своих привилегий. Но лидеры либералов выступили проти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39280" y="188640"/>
            <a:ext cx="8393400" cy="765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верской адрес 1862 г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579640" y="1483920"/>
            <a:ext cx="3335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861 год – группа петербургских профессоров осудила действия властей по наведению «порядка» в петербургском университете и ушла в отставк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189000"/>
            <a:ext cx="8393400" cy="765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ногласия в либеральном движении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1724040" cy="2587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395280" y="3429000"/>
            <a:ext cx="23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.Д. Кавел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" descr="Файл:Nikolay Ge 037.jpg"/>
          <p:cNvPicPr/>
          <p:nvPr/>
        </p:nvPicPr>
        <p:blipFill>
          <a:blip r:embed="rId2"/>
          <a:stretch/>
        </p:blipFill>
        <p:spPr>
          <a:xfrm>
            <a:off x="3276720" y="2421000"/>
            <a:ext cx="1957320" cy="24969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03640" y="4869000"/>
            <a:ext cx="23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Н. Пып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8" name="" descr="Spasowicz by Repin.jpg"/>
          <p:cNvPicPr/>
          <p:nvPr/>
        </p:nvPicPr>
        <p:blipFill>
          <a:blip r:embed="rId3"/>
          <a:stretch/>
        </p:blipFill>
        <p:spPr>
          <a:xfrm>
            <a:off x="755640" y="4005360"/>
            <a:ext cx="1905120" cy="2504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39640" y="6237360"/>
            <a:ext cx="23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Д. Спасович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412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866 году « мятежные» профессора основали журнал «Вестник Европы», ставший влиятельны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беральным органом западнического направления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3360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2" name="gontsharoffbig" descr=""/>
          <p:cNvPicPr/>
          <p:nvPr/>
        </p:nvPicPr>
        <p:blipFill>
          <a:blip r:embed="rId1"/>
          <a:stretch/>
        </p:blipFill>
        <p:spPr>
          <a:xfrm>
            <a:off x="685800" y="2095560"/>
            <a:ext cx="2476440" cy="2666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0988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danilevskij" descr=""/>
          <p:cNvPicPr/>
          <p:nvPr/>
        </p:nvPicPr>
        <p:blipFill>
          <a:blip r:embed="rId2"/>
          <a:stretch/>
        </p:blipFill>
        <p:spPr>
          <a:xfrm>
            <a:off x="2057400" y="3809880"/>
            <a:ext cx="1785960" cy="2791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086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images14" descr=""/>
          <p:cNvPicPr/>
          <p:nvPr/>
        </p:nvPicPr>
        <p:blipFill>
          <a:blip r:embed="rId3"/>
          <a:stretch/>
        </p:blipFill>
        <p:spPr>
          <a:xfrm>
            <a:off x="3544920" y="1700280"/>
            <a:ext cx="2054160" cy="2438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166920" y="15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" name="17_01" descr=""/>
          <p:cNvPicPr/>
          <p:nvPr/>
        </p:nvPicPr>
        <p:blipFill>
          <a:blip r:embed="rId4"/>
          <a:stretch/>
        </p:blipFill>
        <p:spPr>
          <a:xfrm>
            <a:off x="5219640" y="3716280"/>
            <a:ext cx="2125800" cy="2860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732720" y="1628640"/>
            <a:ext cx="20732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2133720"/>
            <a:ext cx="8591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иворечия среди либералов обострились в связи с польским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станием 1861-63 гг. М.Катков поддержал действия правительства и занял крайне националистические позиции, а его имя вскоре стало символом реакци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зногласия в либеральном движении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71320" y="2349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акова роль земского движения для подъёма либерального движения в конце 70-х годов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333360"/>
            <a:ext cx="8569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емское движение конца 70-х годов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562040"/>
            <a:ext cx="8569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ыяснить особенности либерального движения в 60-70 гг., основные идеи консерваторов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Развивать умение выделять главное, определять и объяснять понятия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1640" y="1197000"/>
            <a:ext cx="4321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ой задачей консерваторов стала попытка оградить императора от влияния либералов и стремление ограничить реформ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866 г. П.Шувалов стал шефом жандармов 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ановил полный контроль над императором. До 1874 г. он ведал назначением министр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ым идеологом консерваторов стал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Катков, бывший либера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71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нсерваторы.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6" name="" descr="Файл:Shuvalov P A.jpg"/>
          <p:cNvPicPr/>
          <p:nvPr/>
        </p:nvPicPr>
        <p:blipFill>
          <a:blip r:embed="rId1"/>
          <a:stretch/>
        </p:blipFill>
        <p:spPr>
          <a:xfrm>
            <a:off x="468360" y="1271520"/>
            <a:ext cx="3762360" cy="4314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24000" y="5661000"/>
            <a:ext cx="388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.А. Шувал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дведём итог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тветьте на вопросы в конце учебника стр. 17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1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машнее зада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4704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раграф 24, вопросы, термины, задания в рабочей тетради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серваторы                   Либерал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отмену крепостного прав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смягчение политического режим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Но: ждали от власти таких действий, которые соответствовали бы её собственным представлениям о реформ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2819520"/>
            <a:ext cx="1219320" cy="6094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81120" y="2819520"/>
            <a:ext cx="1143000" cy="6094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15920"/>
            <a:ext cx="856908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4292280"/>
            <a:ext cx="83217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чало царствования Александра II явилось периодом дальнейшего развития российского либерального движения. В середине 50-х годов видные либералы – западники установили связь с Герценом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776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5" name="" descr="Файл:Kavelin Konstantin Dmitrievic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268280"/>
            <a:ext cx="2022480" cy="2967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4000" y="4005360"/>
            <a:ext cx="2916000" cy="431640"/>
          </a:xfrm>
          <a:prstGeom prst="rect">
            <a:avLst/>
          </a:prstGeom>
          <a:solidFill>
            <a:srgbClr val="b7c0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.Д. Кавел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121440" y="1268280"/>
            <a:ext cx="2054160" cy="273060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5724360" y="4076640"/>
            <a:ext cx="2916360" cy="432000"/>
          </a:xfrm>
          <a:prstGeom prst="rect">
            <a:avLst/>
          </a:prstGeom>
          <a:solidFill>
            <a:srgbClr val="b7c0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Б.Н. Чичер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15920"/>
            <a:ext cx="856908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562040"/>
            <a:ext cx="8424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совест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 от крепостного прав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выражения общественного мне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книгопечата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преподава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убличность всех правительственных действи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убличность и гласность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89000"/>
            <a:ext cx="8496000" cy="1224000"/>
          </a:xfrm>
          <a:prstGeom prst="rect">
            <a:avLst/>
          </a:prstGeom>
          <a:gradFill rotWithShape="0">
            <a:gsLst>
              <a:gs pos="0">
                <a:srgbClr val="b7c0c1"/>
              </a:gs>
              <a:gs pos="50000">
                <a:srgbClr val="73797a"/>
              </a:gs>
              <a:gs pos="100000">
                <a:srgbClr val="b7c0c1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Программа либералов.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5229360"/>
            <a:ext cx="8785440" cy="1512720"/>
          </a:xfrm>
          <a:prstGeom prst="rect">
            <a:avLst/>
          </a:prstGeom>
          <a:gradFill rotWithShape="0">
            <a:gsLst>
              <a:gs pos="0">
                <a:srgbClr val="b7c0c1"/>
              </a:gs>
              <a:gs pos="50000">
                <a:srgbClr val="989fa0"/>
              </a:gs>
              <a:gs pos="100000">
                <a:srgbClr val="b7c0c1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о в этом документе отсутствовало одно из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беральных требований – введение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нституционного правления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0" y="189000"/>
            <a:ext cx="4392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ступив к разработке крестьянской реформы, Александр II фактически стал выполнять программу либералов. Поэтому своей главной задачей представители этого движения стали считать поддержку правитель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Файл:Alexander II of Russia (Nikolay Lavrov 01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04640"/>
            <a:ext cx="4302000" cy="5040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9280" y="5300640"/>
            <a:ext cx="4392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ександр II Освободител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644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Многие либералы полагали, что в России ещё не созрели условия для введения Конституции. И даже если она будет объявлена, то останется лишь на бумаге. Т.к. в парламенте большинство мест принадлежать консерваторам, то они легко могут свернуть все начатые либеральные преобразов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072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обенности российского либерализм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ровести реформу  управления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Совершенствование местного управления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Развитие хозяйства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однять материальный и культурный уровень жизни народа;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115920"/>
            <a:ext cx="856908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427280" y="1562040"/>
            <a:ext cx="3924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Необходимость отменить крепостное право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Наделить крестьян землёй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вести независимый суд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вести местное самоуправление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4320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4316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3" name="znamen_10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710160" cy="4611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7280" y="260280"/>
            <a:ext cx="8569440" cy="1009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5943600"/>
            <a:ext cx="4033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.Н. Катк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12T08:11:20Z</dcterms:modified>
  <cp:revision>3</cp:revision>
  <dc:subject/>
  <dc:title>PowerPoint Presentation</dc:title>
</cp:coreProperties>
</file>