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F68C-1E0A-454E-93B0-3D478C4D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526A-7658-4B84-824B-33DECC77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42C4-B472-4316-B3A6-428A7C63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8F6D-781C-4D60-8A68-4F3F24EA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875F-6A40-4143-A049-CDBC3279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CE2A-B191-49EA-8081-45651763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A8CF-CFB1-41F4-AE21-A42502E3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DD30-D112-4912-AE74-1AF148CE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A8F4-A05D-4ACB-AF78-990F3265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401E-58FA-4015-844D-CACC1600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CCD1-EB55-4824-A41E-5C81EB83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66B7-EFE2-4AEC-82CB-73AD83D3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EDC9-D498-4CF5-8B31-C34FC4B5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5521-BAA9-4B97-B92F-B829271E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293D-89C2-440D-AE0B-CC05107D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A2E1-05BC-4F65-A7AA-92C0CCEF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3E1D-74A9-45D2-B463-0782E4B0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6743-84A7-458A-BCA0-665EFF56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95A1-E0C3-4C9A-8A71-DB85C486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55BE-86BD-4188-BAB5-637B2D06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FE09-5697-43C8-888D-1E2A977F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F86A-015E-4BE7-80BC-6362199B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D7A0-88B2-469E-A49D-7195D0B7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1D4D-BC5C-4D4A-90F3-A7655FB1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593C-4AA8-4C1D-A290-73574799DB0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968C-AF9B-486C-868D-EB161F1E019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ru/2/28/Leonid_Brezhnev-portret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55280" y="1628280"/>
            <a:ext cx="7921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« Консервация политического режима»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Рисунок 6" descr="15.jpg"/>
          <p:cNvPicPr/>
          <p:nvPr/>
        </p:nvPicPr>
        <p:blipFill>
          <a:blip r:embed="rId1"/>
          <a:stretch/>
        </p:blipFill>
        <p:spPr>
          <a:xfrm>
            <a:off x="-6480" y="4541760"/>
            <a:ext cx="3511800" cy="23227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0" descr="0_336c1_cefa6978_XL.jpeg"/>
          <p:cNvPicPr/>
          <p:nvPr/>
        </p:nvPicPr>
        <p:blipFill>
          <a:blip r:embed="rId2"/>
          <a:stretch/>
        </p:blipFill>
        <p:spPr>
          <a:xfrm>
            <a:off x="5900760" y="-6480"/>
            <a:ext cx="3249720" cy="24386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Br_339.jpg"/>
          <p:cNvPicPr/>
          <p:nvPr/>
        </p:nvPicPr>
        <p:blipFill>
          <a:blip r:embed="rId3"/>
          <a:stretch/>
        </p:blipFill>
        <p:spPr>
          <a:xfrm>
            <a:off x="250920" y="49320"/>
            <a:ext cx="4105080" cy="2030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635280" y="5229360"/>
            <a:ext cx="5400720" cy="162864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ОУ Будинской ООШ Тверской обл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Антоненковой А.В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3. Запад и СССР находились в доверительных взаимоотношениях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4. В 1959 году СССР завершил испытания первой в мире континентальной баллистической ракет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5. В 1961 году Н. Хрущёв и Д. Кеннеди сумели прийти к согласию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6. Венгерский кризис подтолкнул советское государство  к                       « закручиванию» гае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7. После Карибского кризиса началась полоса относительной разрядки в отношениях Восток – Запад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8. В 1955 году нормализованы  северо – югославские отноше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571320" y="25992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9. Критика сталинизма была болезненно встречена в большинстве государст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0. Мораторий – это временный запрет на проведение чего – либо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323640" y="188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Проверьте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2637000"/>
            <a:ext cx="720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2637000"/>
            <a:ext cx="57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2708280"/>
            <a:ext cx="792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285264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4076640"/>
            <a:ext cx="2737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4076640"/>
            <a:ext cx="0" cy="1440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115640" y="5445000"/>
            <a:ext cx="2879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енее 8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2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 8 до 13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3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 14 до 18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4»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            19 – 20   -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5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ставьте себе оценку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зучаем новый материал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              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лан: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Брежнев. Его политик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Основные черты политического режим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Конституция 1977 год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ние на урок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2708280"/>
            <a:ext cx="8353440" cy="3457440"/>
          </a:xfrm>
          <a:prstGeom prst="rect">
            <a:avLst/>
          </a:prstGeom>
          <a:solidFill>
            <a:srgbClr val="99cc99"/>
          </a:solidFill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одтвердите примерами,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что в период правления Л.Брежнева во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сех отраслях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жизни общества наблюдался застой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1964 год – смешение Хрущёва Н.С. и назначение Брежнева Л.И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8148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0" name="hrushev_kulak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2946600" cy="4537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01004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219640" y="2133720"/>
            <a:ext cx="3672000" cy="4508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2637000"/>
            <a:ext cx="4176720" cy="38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24000" y="2491920"/>
            <a:ext cx="4248000" cy="3961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5661000"/>
            <a:ext cx="8893080" cy="1197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Со смещением Н.С. Хрущёва и приходом к власти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Л.И. Брежнева для партийно – государственного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ппарата наступил « золотой век»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1640" y="189000"/>
            <a:ext cx="4321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 качестве главного лозунга были выдвинуты иде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« стабиль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адров», что вело к коррупции, разрыву между словом и делом. Главный критерий при назначении на должность – личная лояльность чиновн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55640" y="266760"/>
            <a:ext cx="3029040" cy="3162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39589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Цели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ать характеристику политического режима 60-80 – х гг. 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знакомиться с личностью Брежнева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Развивать умение работать с учебником, анализировать. обобщать, делать вывод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19040" y="1628280"/>
            <a:ext cx="85456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озвращение к привычным методам управления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празднены совнархозы и восстановлены отраслевые министерств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величение числа государственных чиновников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редний возраст высшего руководства перешагнул за 70 ле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 Брежнев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18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очка зрения на руководство Брежнева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 В отличие от Сталина и Хрущёва, Брежнев не обладал яркими личностными характеристиками. Его трудно назвать крупным политическим деятелем. Он был человеком аппарат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и, по существу, слугой аппарата»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(А.Бовин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3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3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Точка зрения на руководство Брежнева 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362320"/>
            <a:ext cx="844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 Если же иметь в виду человеческие качества, то…Брежнев был, о общем. Неплохим человеком, общительным. Устойчивым в своих привязанностях. Хлебосольным хозяином. Любил охоту, домино, кино 2про зверушек», радовался доступным ему радостям жизни»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 А. Бовин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3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3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0" y="-360"/>
            <a:ext cx="4572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вый секретарь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ЦК КПСС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4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1966 годах, с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6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по 1982 год — Генеральный секретарь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ЦК КПСС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. Председател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зидиума Верховного Совета СССР в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0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4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77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1982 годах. Маршал Советского Союза (1976). Герой Социалистического Труда (1961) и четырежды Герой Советского Союза. Лауреат Международной Ленинской премии «За укрепление мира между народами» (197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Файл:Leonid Brezhnev-portre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04640"/>
            <a:ext cx="418968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ветьте на вопрос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акой политический портрет вы нарисовали, анализируя высказывания о Брежневе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62000" y="1195560"/>
            <a:ext cx="8820000" cy="44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ыл узаконен контроль со стороны партийного аппарата над всеми сторонами жизни общества. Делегаты XX съезда проголосовали за отмену принципа регулярного обновления партийной номенклатуры. В Уставе КПСС было закреплено право контроля деятельности администрации в НИИ, учебных заведениях, учреждениях культуры и здравоохране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571320" y="189000"/>
            <a:ext cx="8001000" cy="882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итика Л.И. Брежнев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6" descr="22.jpg"/>
          <p:cNvPicPr/>
          <p:nvPr/>
        </p:nvPicPr>
        <p:blipFill>
          <a:blip r:embed="rId1"/>
          <a:stretch/>
        </p:blipFill>
        <p:spPr>
          <a:xfrm>
            <a:off x="250920" y="333360"/>
            <a:ext cx="3924360" cy="2730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284720" y="475920"/>
            <a:ext cx="46562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жнейшие вопросы для страны по-прежнему решались узким кругом лиц. Гнушалась любая точка зрения, не совпадавшая с «генеральной» линией. Свёртывалась любая крит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" descr="Выступление Брежнева Л.И. на торжественном приеме в честь Дня Победы."/>
          <p:cNvPicPr/>
          <p:nvPr/>
        </p:nvPicPr>
        <p:blipFill>
          <a:blip r:embed="rId2"/>
          <a:stretch/>
        </p:blipFill>
        <p:spPr>
          <a:xfrm>
            <a:off x="179280" y="3429000"/>
            <a:ext cx="39610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8" descr="brezhnev_2.jpg"/>
          <p:cNvPicPr/>
          <p:nvPr/>
        </p:nvPicPr>
        <p:blipFill>
          <a:blip r:embed="rId1"/>
          <a:stretch/>
        </p:blipFill>
        <p:spPr>
          <a:xfrm>
            <a:off x="179280" y="907920"/>
            <a:ext cx="3909960" cy="4681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284720" y="260280"/>
            <a:ext cx="4680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личному распоряжению Леонида Ильича во время его выступлений зал должен был в нужных местах речи вставать и аплодировать. Для таких случаев во дворце съездов рассаживалась специальная группа скандирующих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6200" y="3428640"/>
            <a:ext cx="820908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ля материального обеспечения государственного аппарата была усовершенствована  система льгот и привилегий. Бесконтрольность вела к разложению части партийно – государственного аппара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" descr="Стальной самурайский меч с деревянной рукояткой и ножнами подарен Брежневу. 1976 г."/>
          <p:cNvPicPr/>
          <p:nvPr/>
        </p:nvPicPr>
        <p:blipFill>
          <a:blip r:embed="rId1"/>
          <a:stretch/>
        </p:blipFill>
        <p:spPr>
          <a:xfrm>
            <a:off x="5219640" y="333360"/>
            <a:ext cx="3745080" cy="2652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076720" y="2852640"/>
            <a:ext cx="3888000" cy="57636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Подарок Брежневу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9" name="" descr="Сетябрь 1975. Участники международного космического полета Союз-Апполон вручают Л.И.Брежневу вымпелы кораблей, побывавшие в космосе."/>
          <p:cNvPicPr/>
          <p:nvPr/>
        </p:nvPicPr>
        <p:blipFill>
          <a:blip r:embed="rId2"/>
          <a:stretch/>
        </p:blipFill>
        <p:spPr>
          <a:xfrm>
            <a:off x="179280" y="257040"/>
            <a:ext cx="45720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355640" y="333000"/>
            <a:ext cx="45594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художественных произведениях, кинофильмах, периодической печати Сталин представал скромным, мудрым, пекущимся о благе своего народ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1015920"/>
            <a:ext cx="39290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Проверяем домашнее зада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дание: « Верно или неверно»: если вы согласны с высказыванием полностью –       « в», если нет – «н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  в каждом ряду по 4 вопроса, всего 5 рядов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3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320" y="475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работаем по учебнику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514600"/>
            <a:ext cx="7632720" cy="2354400"/>
          </a:xfrm>
          <a:prstGeom prst="rect">
            <a:avLst/>
          </a:prstGeom>
          <a:solidFill>
            <a:srgbClr val="00ccff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Стр. 295 - 296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64480" cy="16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онституция  7 октября 1977 год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7280" y="1412640"/>
            <a:ext cx="4897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ала 4 – ым Основным Законом за годы советской вла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863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2836800" cy="4319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140360" y="3895560"/>
            <a:ext cx="4086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оложения Конституции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преамбуле говорилось, что СССР построено развитое социалистическое общество, характеризовались его основные чер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6 ст. было официально закреплено особое руководящее положение КПС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бавились новые права и свободы граждан ( на труд, бесплатное образование, медицинская помощь, пенсионное обеспечение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о на самом деле эти права нарушались, либо так и остались на бумаг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Подведём итог урока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227628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тветьте на вопросы на странице 298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Домашнее задание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араграф 43, вопросы, записи, задание в тетради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10920" y="2349000"/>
            <a:ext cx="8304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ервое после сталинское десятилетие ознаменовано серьёзными переменами в духовной жизн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 перемены, начавшиеся в обществе, первыми откликнулись деятели литератур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692280"/>
            <a:ext cx="7704000" cy="1224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«Верно или неверно»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280" y="2361960"/>
            <a:ext cx="8496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3. С 1957 года встречи руководства ЦК с деятелями литературы и искусства стали регулярными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4. В 1958 г. были пересмотрены отношения государства к творчеству Шостаковича,  Хачатуряна и др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826560" y="764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99640" y="2349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5. Политика « оттепели» имела вполне определённые границы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6. Б Пастернак получил Нобелевскую премию за роман « Доктор Живаго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99640" y="764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7. На полку был положен фильм « Летят журавли» 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. Первый искусственный спутник земли был запущен в 1960 году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9. Были возобновлены работы в области гене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0. Молотов предлагал сохранить жёсткое противостояние двух систе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1. В 1953 году между СССР и США был достигнут компромис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2. В 1955 году СССР объявил об окончании состояния войны с Германие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0T17:43:46Z</dcterms:modified>
  <cp:revision>4</cp:revision>
  <dc:subject/>
  <dc:title>PowerPoint Presentation</dc:title>
</cp:coreProperties>
</file>