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90E6-FE96-476F-B1A3-74CC8D8A9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541F-435E-464E-97DA-8D5764F5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D34-559A-4EC2-9296-1A865D671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594C-E371-424D-AA3B-46E7C55C1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B40B3-531A-40B0-A08F-16E32FBD7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915E2-F3CC-45D8-AA64-D37FF862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3882-1BA0-4B22-849E-607ACD77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0FA2-AA3C-47AD-AD06-7F560B8C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1AA2-A2D2-4F77-BD25-B74589437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9828A-3390-49ED-A61E-2D7015CBA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AFF0F-DD78-41D4-B8CF-3420A6A4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FFD0-06FC-4F9C-99CA-64BC166D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A9FC8-389B-40D9-88A7-F3A92F12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251D3-4373-48DF-829E-34B4BACD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8C23-90B4-4A8E-A893-E4C2476D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5B856-0D87-452C-A377-9E4BAE83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6736-74FF-4062-B626-D04EF4746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71BE-3FC9-4115-87C2-21EA9945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0D32-C25E-4444-912E-F5BE12DA7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9E39-700E-4F57-A20B-DCE43969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768B-FA6C-436F-828F-0A60222C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ECC2-8A09-49BE-A1C0-E0BF1AB3B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9809-A9B8-4912-9990-0C09ABD3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AD57-4646-47A9-9E17-222880E3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16DE-CD5F-4960-BC46-7D9DA6A1D77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F0157-6CC9-4930-B103-CB6B0A5539E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ru/2/28/Leonid_Brezhnev-portret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755280" y="1628280"/>
            <a:ext cx="79218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00"/>
                </a:solidFill>
                <a:latin typeface="Times New Roman"/>
              </a:rPr>
              <a:t>« Консервация политического режима»</a:t>
            </a:r>
            <a:endParaRPr b="0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95" name="Рисунок 6" descr="15.jpg"/>
          <p:cNvPicPr/>
          <p:nvPr/>
        </p:nvPicPr>
        <p:blipFill>
          <a:blip r:embed="rId1"/>
          <a:stretch/>
        </p:blipFill>
        <p:spPr>
          <a:xfrm>
            <a:off x="-6480" y="4541760"/>
            <a:ext cx="3511800" cy="23227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10" descr="0_336c1_cefa6978_XL.jpeg"/>
          <p:cNvPicPr/>
          <p:nvPr/>
        </p:nvPicPr>
        <p:blipFill>
          <a:blip r:embed="rId2"/>
          <a:stretch/>
        </p:blipFill>
        <p:spPr>
          <a:xfrm>
            <a:off x="5900760" y="-6480"/>
            <a:ext cx="3249720" cy="243864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5" descr="Br_339.jpg"/>
          <p:cNvPicPr/>
          <p:nvPr/>
        </p:nvPicPr>
        <p:blipFill>
          <a:blip r:embed="rId3"/>
          <a:stretch/>
        </p:blipFill>
        <p:spPr>
          <a:xfrm>
            <a:off x="250920" y="49320"/>
            <a:ext cx="4105080" cy="20304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635280" y="5229360"/>
            <a:ext cx="5400720" cy="162864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МОУ Будинской ООШ Тверской обл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Times New Roman"/>
              </a:rPr>
              <a:t>Антоненковой А.В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3. Запад и СССР находились в доверительных взаимоотношениях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4. В 1959 году СССР завершил испытания первой в мире континентальной баллистической ракет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5. В 1961 году Н. Хрущёв и Д. Кеннеди сумели прийти к согласию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6. Венгерский кризис подтолкнул советское государство  к                       « закручиванию» гаек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7. После Карибского кризиса началась полоса относительной разрядки в отношениях Восток – Запад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8. В 1955 году нормализованы  северо – югославские отнош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571320" y="25992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9. Критика сталинизма была болезненно встречена в большинстве государств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20. Мораторий – это временный запрет на проведение чего – либо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323640" y="188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Н</a:t>
            </a: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Проверьте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58920" y="2637000"/>
            <a:ext cx="7207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68360" y="2637000"/>
            <a:ext cx="574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27082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285264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4076640"/>
            <a:ext cx="2737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24360" y="4076640"/>
            <a:ext cx="0" cy="1440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115640" y="5445000"/>
            <a:ext cx="2879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менее 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2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8 до 13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3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     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 14 до 18 –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4»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              19 – 20   -</a:t>
            </a:r>
            <a:r>
              <a:rPr b="1" lang="ru-RU" sz="4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«5»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ставьте себе оценку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Изучаем новый материал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    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лан: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Брежнев. Его политик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сновные черты политического режим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1001"/>
              </a:spcBef>
              <a:buClr>
                <a:srgbClr val="003366"/>
              </a:buClr>
              <a:buSzPct val="7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Конституция 1977 года.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Задание на урок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2708280"/>
            <a:ext cx="8353440" cy="3457440"/>
          </a:xfrm>
          <a:prstGeom prst="rect">
            <a:avLst/>
          </a:prstGeom>
          <a:solidFill>
            <a:srgbClr val="99cc99"/>
          </a:solidFill>
          <a:ln w="316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Подтвердите примерами,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что в период правления Л.Брежнева во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сех отраслях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жизни общества наблюдался застой?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1964 год – смешение Хрущёва Н.С. и назначение Брежнева Л.И.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81480" y="1595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0" name="hrushev_kulak" descr=""/>
          <p:cNvPicPr/>
          <p:nvPr/>
        </p:nvPicPr>
        <p:blipFill>
          <a:blip r:embed="rId1"/>
          <a:stretch/>
        </p:blipFill>
        <p:spPr>
          <a:xfrm>
            <a:off x="826920" y="2060640"/>
            <a:ext cx="2946600" cy="45370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010040" y="2652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5219640" y="2133720"/>
            <a:ext cx="3672000" cy="4508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2637000"/>
            <a:ext cx="4176720" cy="388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24000" y="2491920"/>
            <a:ext cx="4248000" cy="396108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5661000"/>
            <a:ext cx="8893080" cy="1197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Со смещением Н.С. Хрущёва и приходом к власти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Л.И. Брежнева для партийно – государственного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Times New Roman"/>
              </a:rPr>
              <a:t>аппарата наступил « золотой век»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1640" y="189000"/>
            <a:ext cx="4321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 качестве главного лозунга были выдвинуты иде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« стабильност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кадров», что вело к коррупции, разрыву между словом и делом. Главный критерий при назначении на должность – личная лояльность чиновн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66760"/>
            <a:ext cx="3029040" cy="31622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9589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Цели урока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773000"/>
            <a:ext cx="8640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Дать характеристику политического режима 60-80 – х гг. 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ознакомиться с личностью Брежнева;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05280" indent="-3052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Развивать умение работать с учебником, анализировать. обобщать, делать выводы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419040" y="1628280"/>
            <a:ext cx="85456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Возвращение к привычным методам управления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празднены совнархозы и восстановлены отраслевые министерства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Увеличение числа государственных чиновников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Средний возраст высшего руководства перешагнул за 70 ле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755280" y="33300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и Брежнев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13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 В отличие от Сталина и Хрущёва, Брежнев не обладал яркими личностными характеристиками. Его трудно назвать крупным политическим деятелем. Он был человеком аппарата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и, по существу, слугой аппарата»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(А.Бовин)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3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3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Точка зрения на руководство Брежнев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8447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« Если же иметь в виду человеческие качества, то…Брежнев был, о общем. Неплохим человеком, общительным. Устойчивым в своих привязанностях. Хлебосольным хозяином. Любил охоту, домино, кино 2про зверушек», радовался доступным ему радостям жизни»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    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 А. Бовин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1" dur="3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6" dur="3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0" y="-360"/>
            <a:ext cx="45720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ерв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66 годах, с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6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по 1982 год — Генеральный секретарь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ЦК КПСС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. Председатель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езидиума Верховного Совета СССР в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0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64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ff00"/>
                </a:solidFill>
                <a:latin typeface="Arial"/>
              </a:rPr>
              <a:t>1977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—1982 годах. Маршал Советского Союза (1976). Герой Социалистического Труда (1961) и четырежды Герой Советского Союза. Лауреат Международной Ленинской премии «За укрепление мира между народами» (197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6" name="" descr="Файл:Leonid Brezhnev-portret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404640"/>
            <a:ext cx="418968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тветьте на вопрос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ой политический портрет вы нарисовали, анализируя высказывания о Брежневе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2000" y="1195560"/>
            <a:ext cx="8820000" cy="44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л узаконен контроль со стороны партийного аппарата над всеми сторонами жизни общества. Делегаты XX съезда проголосовали за отмену принципа регулярного обновления партийной номенклатуры. В Уставе КПСС было закреплено право контроля деятельности администрации в НИИ, учебных заведениях, учреждениях культуры и здравоохранения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571320" y="189000"/>
            <a:ext cx="8001000" cy="88272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олитика Л.И. Брежнева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Рисунок 6" descr="22.jpg"/>
          <p:cNvPicPr/>
          <p:nvPr/>
        </p:nvPicPr>
        <p:blipFill>
          <a:blip r:embed="rId1"/>
          <a:stretch/>
        </p:blipFill>
        <p:spPr>
          <a:xfrm>
            <a:off x="250920" y="333360"/>
            <a:ext cx="3924360" cy="2730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284720" y="475920"/>
            <a:ext cx="465624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ажнейшие вопросы для страны по-прежнему решались узким кругом лиц. Гнушалась любая точка зрения, не совпадавшая с «генеральной» линией. Свёртывалась любая крити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3" name="" descr="Выступление Брежнева Л.И. на торжественном приеме в честь Дня Победы."/>
          <p:cNvPicPr/>
          <p:nvPr/>
        </p:nvPicPr>
        <p:blipFill>
          <a:blip r:embed="rId2"/>
          <a:stretch/>
        </p:blipFill>
        <p:spPr>
          <a:xfrm>
            <a:off x="179280" y="3429000"/>
            <a:ext cx="3961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Рисунок 8" descr="brezhnev_2.jpg"/>
          <p:cNvPicPr/>
          <p:nvPr/>
        </p:nvPicPr>
        <p:blipFill>
          <a:blip r:embed="rId1"/>
          <a:stretch/>
        </p:blipFill>
        <p:spPr>
          <a:xfrm>
            <a:off x="179280" y="907920"/>
            <a:ext cx="3909960" cy="468180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284720" y="260280"/>
            <a:ext cx="46800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 личному распоряжению Леонида Ильича во время его выступлений зал должен был в нужных местах речи вставать и аплодировать. Для таких случаев во дворце съездов рассаживалась специальная группа скандирующих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66200" y="3428640"/>
            <a:ext cx="820908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материального обеспечения государственного аппарата была усовершенствована  система льгот и привилегий. Бесконтрольность вела к разложению части партийно – государственного аппарат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7" name="" descr="Стальной самурайский меч с деревянной рукояткой и ножнами подарен Брежневу. 1976 г."/>
          <p:cNvPicPr/>
          <p:nvPr/>
        </p:nvPicPr>
        <p:blipFill>
          <a:blip r:embed="rId1"/>
          <a:stretch/>
        </p:blipFill>
        <p:spPr>
          <a:xfrm>
            <a:off x="5219640" y="333360"/>
            <a:ext cx="3745080" cy="26528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5076720" y="2852640"/>
            <a:ext cx="3888000" cy="57636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одарок Брежневу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9" name="" descr="Сетябрь 1975. Участники международного космического полета Союз-Апполон вручают Л.И.Брежневу вымпелы кораблей, побывавшие в космосе."/>
          <p:cNvPicPr/>
          <p:nvPr/>
        </p:nvPicPr>
        <p:blipFill>
          <a:blip r:embed="rId2"/>
          <a:stretch/>
        </p:blipFill>
        <p:spPr>
          <a:xfrm>
            <a:off x="179280" y="257040"/>
            <a:ext cx="457200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55640" y="333000"/>
            <a:ext cx="45594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художественных произведениях, кинофильмах, периодической печати Сталин представал скромным, мудрым, пекущимся о благе своего народа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1015920"/>
            <a:ext cx="39290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оверяем домашнее задание: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дание: « Верно или неверно»: если вы согласны с высказыванием полностью –       « в», если нет – «н»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(  в каждом ряду по 4 вопроса, всего 5 рядов)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3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1320" y="475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работаем по учебнику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2514600"/>
            <a:ext cx="7632720" cy="2354400"/>
          </a:xfrm>
          <a:prstGeom prst="rect">
            <a:avLst/>
          </a:prstGeom>
          <a:solidFill>
            <a:srgbClr val="00ccff"/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тр. 295 - 296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664480" cy="16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Конституция  7 октября 1977 год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067280" y="1412640"/>
            <a:ext cx="489744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тала 4 – ым Основным Законом за годы советской власт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08636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2836800" cy="43196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140360" y="3895560"/>
            <a:ext cx="4086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Положения Конституции: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преамбуле говорилось, что СССР построено развитое социалистическое общество, характеризовались его основные черт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В 6 ст. было официально закреплено особое руководящее положение КПСС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Добавились новые права и свободы граждан ( на труд, бесплатное образование, медицинская помощь, пенсионное обеспечение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о на самом деле эти права нарушались, либо так и остались на бумаге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Подведём итог урока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71320" y="227628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Ответьте на вопросы на странице 298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Домашнее задание: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араграф 43, вопросы, записи, задание в тетради.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9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10920" y="2349000"/>
            <a:ext cx="830412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ервое после сталинское десятилетие ознаменовано серьёзными переменами в духовной жизн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На перемены, начавшиеся в обществе, первыми откликнулись деятели литератур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71640" y="692280"/>
            <a:ext cx="7704000" cy="1224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«Верно или неверно»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9280" y="2361960"/>
            <a:ext cx="849636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3. С 1957 года встречи руководства ЦК с деятелями литературы и искусства стали регулярными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4. В 1958 г. были пересмотрены отношения государства к творчеству Шостаковича,  Хачатуряна и др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82656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99640" y="234936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5. Политика « оттепели» имела вполне определённые границы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6. Б Пастернак получил Нобелевскую премию за роман « Доктор Живаго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899640" y="76464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7. На полку был положен фильм « Летят журавли» 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8. Первый искусственный спутник земли был запущен в 1960 году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9. Были возобновлены работы в области генетики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0. Молотов предлагал сохранить жёсткое противостояние двух систем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100000">
              <a:srgbClr val="0066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1. В 1953 году между СССР и США был достигнут компромисс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12. В 1955 году СССР объявил об окончании состояния войны с Германией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solidFill>
            <a:srgbClr val="99cc99"/>
          </a:solidFill>
          <a:ln w="9360">
            <a:solidFill>
              <a:srgbClr val="003366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66"/>
                </a:solidFill>
                <a:latin typeface="Arial"/>
              </a:rPr>
              <a:t>«Верно или неверно»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10T17:43:46Z</dcterms:modified>
  <cp:revision>4</cp:revision>
  <dc:subject/>
  <dc:title>PowerPoint Presentation</dc:title>
</cp:coreProperties>
</file>