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E9EB6-3421-45BE-A855-076AB3BD0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A6136-FC96-4416-BFC5-1007302BC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F24DA-B826-478B-9602-C13C6FAC6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CE6F1-8EDE-4D00-9E9A-E241D80B4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4001B-7689-46A3-88BA-AC8131D73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96BF1-4CB9-4A5C-BD20-1C9819A30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FE2FE-B7E6-4359-B670-179E31926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D778B-FD0F-460A-9CCF-16005775E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5E9A0-99B2-4B9A-9857-628208E3A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E5B28-65D1-4B9B-8555-18DD05278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B03D0-CC17-43F1-995B-549745BC9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BB70B-777D-46D9-968E-5A6DC48F8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2F3E2-1432-4DCC-A8A2-B6B5FE12D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90B0F-78C7-42E7-B7A5-43C337F53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CD624-3E5E-4808-B010-8079B5CD0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32697-7C84-4811-B853-6A01F4387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4722A-C84A-479E-AA6D-2CC4FAE6E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14F4A-64B1-4B3D-A5E6-873891E42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E3BB1-A0F2-41E7-BC94-3E0BBFC45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C2353-82AE-4AD5-AE3E-8E6DD4D05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03168-94D4-40B2-AE0A-0CFC34509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A989F-89B8-482B-A5A0-7CDCBC740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D764A-F481-464A-9B16-902C8AEB4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940B1-ADEC-44D2-B388-A87675E2F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100000">
              <a:srgbClr val="0066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3200400" cy="6858000"/>
            <a:chOff x="0" y="0"/>
            <a:chExt cx="3200400" cy="68580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212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5800" y="0"/>
              <a:ext cx="2514600" cy="106668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762120" y="762120"/>
            <a:ext cx="5105160" cy="6094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70102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2936520" y="6526800"/>
            <a:ext cx="28954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88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AE792-F4BC-4C2C-986F-DF68F7C51371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" name=""/>
          <p:cNvGrpSpPr/>
          <p:nvPr/>
        </p:nvGrpSpPr>
        <p:grpSpPr>
          <a:xfrm>
            <a:off x="228600" y="1981080"/>
            <a:ext cx="7391520" cy="319320"/>
            <a:chOff x="228600" y="1981080"/>
            <a:chExt cx="7391520" cy="319320"/>
          </a:xfrm>
        </p:grpSpPr>
        <p:sp>
          <p:nvSpPr>
            <p:cNvPr id="10" name=""/>
            <p:cNvSpPr/>
            <p:nvPr/>
          </p:nvSpPr>
          <p:spPr>
            <a:xfrm>
              <a:off x="609480" y="1981080"/>
              <a:ext cx="701064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H="1">
              <a:off x="228600" y="1981080"/>
              <a:ext cx="393840" cy="31932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100000">
              <a:srgbClr val="0066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990720"/>
            <a:ext cx="5181480" cy="19047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1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dt" idx="4"/>
          </p:nvPr>
        </p:nvSpPr>
        <p:spPr>
          <a:xfrm>
            <a:off x="26668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ftr" idx="5"/>
          </p:nvPr>
        </p:nvSpPr>
        <p:spPr>
          <a:xfrm>
            <a:off x="5195520" y="6550560"/>
            <a:ext cx="327996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sldNum" idx="6"/>
          </p:nvPr>
        </p:nvSpPr>
        <p:spPr>
          <a:xfrm>
            <a:off x="9360" y="6358320"/>
            <a:ext cx="58752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1AE0B-27D0-4E81-BEBE-6061B1482DA0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file://upload.wikimedia.org/wikipedia/ru/2/28/Leonid_Brezhnev-portret.jpg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f5e"/>
            </a:gs>
            <a:gs pos="100000">
              <a:srgbClr val="0066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755280" y="1628280"/>
            <a:ext cx="79218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00"/>
                </a:solidFill>
                <a:latin typeface="Times New Roman"/>
              </a:rPr>
              <a:t>« Консервация политического режима»</a:t>
            </a:r>
            <a:endParaRPr b="0" lang="en-US" sz="60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95" name="Рисунок 6" descr="15.jpg"/>
          <p:cNvPicPr/>
          <p:nvPr/>
        </p:nvPicPr>
        <p:blipFill>
          <a:blip r:embed="rId1"/>
          <a:stretch/>
        </p:blipFill>
        <p:spPr>
          <a:xfrm>
            <a:off x="-6480" y="4541760"/>
            <a:ext cx="3511800" cy="2322720"/>
          </a:xfrm>
          <a:prstGeom prst="rect">
            <a:avLst/>
          </a:prstGeom>
          <a:ln w="0">
            <a:noFill/>
          </a:ln>
        </p:spPr>
      </p:pic>
      <p:pic>
        <p:nvPicPr>
          <p:cNvPr id="96" name="Рисунок 10" descr="0_336c1_cefa6978_XL.jpeg"/>
          <p:cNvPicPr/>
          <p:nvPr/>
        </p:nvPicPr>
        <p:blipFill>
          <a:blip r:embed="rId2"/>
          <a:stretch/>
        </p:blipFill>
        <p:spPr>
          <a:xfrm>
            <a:off x="5900760" y="-6480"/>
            <a:ext cx="3249720" cy="2438640"/>
          </a:xfrm>
          <a:prstGeom prst="rect">
            <a:avLst/>
          </a:prstGeom>
          <a:ln w="0">
            <a:noFill/>
          </a:ln>
        </p:spPr>
      </p:pic>
      <p:pic>
        <p:nvPicPr>
          <p:cNvPr id="97" name="Рисунок 5" descr="Br_339.jpg"/>
          <p:cNvPicPr/>
          <p:nvPr/>
        </p:nvPicPr>
        <p:blipFill>
          <a:blip r:embed="rId3"/>
          <a:stretch/>
        </p:blipFill>
        <p:spPr>
          <a:xfrm>
            <a:off x="250920" y="49320"/>
            <a:ext cx="4105080" cy="20304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3635280" y="5229360"/>
            <a:ext cx="5400720" cy="1628640"/>
          </a:xfrm>
          <a:prstGeom prst="rect">
            <a:avLst/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Times New Roman"/>
              </a:rPr>
              <a:t>Материал разработан учителем истории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Times New Roman"/>
              </a:rPr>
              <a:t>МОУ Будинской ООШ Тверской обл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Times New Roman"/>
              </a:rPr>
              <a:t>Антоненковой А.В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f5e"/>
            </a:gs>
            <a:gs pos="100000">
              <a:srgbClr val="0066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13. Запад и СССР находились в доверительных взаимоотношениях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14. В 1959 году СССР завершил испытания первой в мире континентальной баллистической ракеты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Arial"/>
              </a:rPr>
              <a:t>«Верно или неверно»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f5e"/>
            </a:gs>
            <a:gs pos="100000">
              <a:srgbClr val="0066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15. В 1961 году Н. Хрущёв и Д. Кеннеди сумели прийти к согласию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16. Венгерский кризис подтолкнул советское государство  к                       « закручиванию» гаек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Arial"/>
              </a:rPr>
              <a:t>«Верно или неверно»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f5e"/>
            </a:gs>
            <a:gs pos="100000">
              <a:srgbClr val="0066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17. После Карибского кризиса началась полоса относительной разрядки в отношениях Восток – Запад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18. В 1955 году нормализованы  северо – югославские отношения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title"/>
          </p:nvPr>
        </p:nvSpPr>
        <p:spPr>
          <a:xfrm>
            <a:off x="571320" y="259920"/>
            <a:ext cx="8001000" cy="1143000"/>
          </a:xfrm>
          <a:prstGeom prst="rect">
            <a:avLst/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Arial"/>
              </a:rPr>
              <a:t>«Верно или неверно»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f5e"/>
            </a:gs>
            <a:gs pos="100000">
              <a:srgbClr val="0066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19. Критика сталинизма была болезненно встречена в большинстве государств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20. Мораторий – это временный запрет на проведение чего – либо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title"/>
          </p:nvPr>
        </p:nvSpPr>
        <p:spPr>
          <a:xfrm>
            <a:off x="323640" y="188640"/>
            <a:ext cx="8001000" cy="1143000"/>
          </a:xfrm>
          <a:prstGeom prst="rect">
            <a:avLst/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Arial"/>
              </a:rPr>
              <a:t>«Верно или неверно»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f5e"/>
            </a:gs>
            <a:gs pos="100000">
              <a:srgbClr val="0066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В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В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В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В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В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Н</a:t>
            </a: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Н</a:t>
            </a: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Н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В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В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В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В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Н</a:t>
            </a: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Н</a:t>
            </a: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Н</a:t>
            </a: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В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В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В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В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В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Arial"/>
              </a:rPr>
              <a:t>Проверьте: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258920" y="2637000"/>
            <a:ext cx="72072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268360" y="2637000"/>
            <a:ext cx="57492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59280" y="2708280"/>
            <a:ext cx="7920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187280" y="2852640"/>
            <a:ext cx="0" cy="122400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187280" y="4076640"/>
            <a:ext cx="273708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924360" y="4076640"/>
            <a:ext cx="0" cy="144000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1115640" y="5445000"/>
            <a:ext cx="287964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f5e"/>
            </a:gs>
            <a:gs pos="100000">
              <a:srgbClr val="0066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менее 8 –</a:t>
            </a:r>
            <a:r>
              <a:rPr b="1" lang="ru-RU" sz="4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«2»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ru-RU" sz="4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ru-RU" sz="4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ru-RU" sz="44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от 8 до 13 –</a:t>
            </a:r>
            <a:r>
              <a:rPr b="1" lang="ru-RU" sz="4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«3»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ru-RU" sz="4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ru-RU" sz="4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ru-RU" sz="44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от 14 до 18 –</a:t>
            </a:r>
            <a:r>
              <a:rPr b="1" lang="ru-RU" sz="4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«4»</a:t>
            </a: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              19 – 20   -</a:t>
            </a:r>
            <a:r>
              <a:rPr b="1" lang="ru-RU" sz="4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«5»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Поставьте себе оценку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f5e"/>
            </a:gs>
            <a:gs pos="100000">
              <a:srgbClr val="0066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50560" y="40428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Изучаем новый материал: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Times New Roman"/>
              </a:rPr>
              <a:t>                 </a:t>
            </a:r>
            <a:r>
              <a:rPr b="1" lang="ru-RU" sz="4000" spc="-1" strike="noStrike">
                <a:solidFill>
                  <a:srgbClr val="ffff00"/>
                </a:solidFill>
                <a:latin typeface="Times New Roman"/>
              </a:rPr>
              <a:t>План: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1001"/>
              </a:spcBef>
              <a:buClr>
                <a:srgbClr val="0033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</a:rPr>
              <a:t>Брежнев. Его политика.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1001"/>
              </a:spcBef>
              <a:buClr>
                <a:srgbClr val="0033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</a:rPr>
              <a:t>Основные черты политического режима.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1001"/>
              </a:spcBef>
              <a:buClr>
                <a:srgbClr val="0033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</a:rPr>
              <a:t>Конституция 1977 года.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4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9" dur="5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4" dur="5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9" dur="5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f5e"/>
            </a:gs>
            <a:gs pos="100000">
              <a:srgbClr val="0066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Задание на урок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11280" y="2708280"/>
            <a:ext cx="8353440" cy="3457440"/>
          </a:xfrm>
          <a:prstGeom prst="rect">
            <a:avLst/>
          </a:prstGeom>
          <a:solidFill>
            <a:srgbClr val="99cc99"/>
          </a:solidFill>
          <a:ln w="316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Times New Roman"/>
              </a:rPr>
              <a:t>Подтвердите примерами,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Times New Roman"/>
              </a:rPr>
              <a:t>что в период правления Л.Брежнева во 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Times New Roman"/>
              </a:rPr>
              <a:t>всех отраслях 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Times New Roman"/>
              </a:rPr>
              <a:t>жизни общества наблюдался застой?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f5e"/>
            </a:gs>
            <a:gs pos="100000">
              <a:srgbClr val="0066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1964 год – смешение Хрущёва Н.С. и назначение Брежнева Л.И.</a:t>
            </a:r>
            <a:endParaRPr b="1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381480" y="1595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40" name="hrushev_kulak" descr=""/>
          <p:cNvPicPr/>
          <p:nvPr/>
        </p:nvPicPr>
        <p:blipFill>
          <a:blip r:embed="rId1"/>
          <a:stretch/>
        </p:blipFill>
        <p:spPr>
          <a:xfrm>
            <a:off x="826920" y="2060640"/>
            <a:ext cx="2946600" cy="453708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010040" y="2652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5219640" y="2133720"/>
            <a:ext cx="3672000" cy="450828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395280" y="2637000"/>
            <a:ext cx="4176720" cy="3887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324000" y="2491920"/>
            <a:ext cx="4248000" cy="396108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50920" y="5661000"/>
            <a:ext cx="8893080" cy="1197000"/>
          </a:xfrm>
          <a:prstGeom prst="rect">
            <a:avLst/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Со смещением Н.С. Хрущёва и приходом к власти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Л.И. Брежнева для партийно – государственного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аппарата наступил « золотой век»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f5e"/>
            </a:gs>
            <a:gs pos="100000">
              <a:srgbClr val="0066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4571640" y="189000"/>
            <a:ext cx="432108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В качестве главного лозунга были выдвинуты идея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« стабильности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кадров», что вело к коррупции, разрыву между словом и делом. Главный критерий при назначении на должность – личная лояльность чиновника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755640" y="266760"/>
            <a:ext cx="3029040" cy="316224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324000" y="4149720"/>
            <a:ext cx="3958920" cy="228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f5e"/>
            </a:gs>
            <a:gs pos="100000">
              <a:srgbClr val="0066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1320" y="333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ff00"/>
                </a:solidFill>
                <a:uFillTx/>
                <a:latin typeface="Arial"/>
              </a:rPr>
              <a:t>Цели урока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24000" y="1773000"/>
            <a:ext cx="864072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Дать характеристику политического режима 60-80 – х гг. ;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05280" indent="-30528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Познакомиться с личностью Брежнева;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05280" indent="-30528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Развивать умение работать с учебником, анализировать. обобщать, делать выводы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f5e"/>
            </a:gs>
            <a:gs pos="100000">
              <a:srgbClr val="0066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419040" y="1628280"/>
            <a:ext cx="854568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Возвращение к привычным методам управления;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Упразднены совнархозы и восстановлены отраслевые министерства;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Увеличение числа государственных чиновников;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Средний возраст высшего руководства перешагнул за 70 лет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title"/>
          </p:nvPr>
        </p:nvSpPr>
        <p:spPr>
          <a:xfrm>
            <a:off x="755280" y="333000"/>
            <a:ext cx="8001000" cy="1143000"/>
          </a:xfrm>
          <a:prstGeom prst="rect">
            <a:avLst/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При Брежневе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f5e"/>
            </a:gs>
            <a:gs pos="100000">
              <a:srgbClr val="0066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1320" y="1886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Точка зрения на руководство Брежнева: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43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« В отличие от Сталина и Хрущёва, Брежнев не обладал яркими личностными характеристиками. Его трудно назвать крупным политическим деятелем. Он был человеком аппарата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и, по существу, слугой аппарата»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(А.Бовин)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5" dur="3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8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8" dur="3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f5e"/>
            </a:gs>
            <a:gs pos="100000">
              <a:srgbClr val="0066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23640" y="259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Точка зрения на руководство Брежнева :</a:t>
            </a:r>
            <a:endParaRPr b="1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68360" y="2362320"/>
            <a:ext cx="84470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« Если же иметь в виду человеческие качества, то…Брежнев был, о общем. Неплохим человеком, общительным. Устойчивым в своих привязанностях. Хлебосольным хозяином. Любил охоту, домино, кино 2про зверушек», радовался доступным ему радостям жизни»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                         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( А. Бовин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1" dur="3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6" dur="3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f5e"/>
            </a:gs>
            <a:gs pos="100000">
              <a:srgbClr val="0066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4572000" y="-360"/>
            <a:ext cx="457200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Первый секретарь </a:t>
            </a:r>
            <a:r>
              <a:rPr b="1" i="1" lang="ru-RU" sz="2400" spc="-1" strike="noStrike">
                <a:solidFill>
                  <a:srgbClr val="ffff00"/>
                </a:solidFill>
                <a:latin typeface="Arial"/>
              </a:rPr>
              <a:t>ЦК КПСС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в </a:t>
            </a:r>
            <a:r>
              <a:rPr b="1" i="1" lang="ru-RU" sz="2400" spc="-1" strike="noStrike">
                <a:solidFill>
                  <a:srgbClr val="ffff00"/>
                </a:solidFill>
                <a:latin typeface="Arial"/>
              </a:rPr>
              <a:t>1964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—1966 годах, с </a:t>
            </a:r>
            <a:r>
              <a:rPr b="1" i="1" lang="ru-RU" sz="2400" spc="-1" strike="noStrike">
                <a:solidFill>
                  <a:srgbClr val="ffff00"/>
                </a:solidFill>
                <a:latin typeface="Arial"/>
              </a:rPr>
              <a:t>1966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по 1982 год — Генеральный секретарь </a:t>
            </a:r>
            <a:r>
              <a:rPr b="1" i="1" lang="ru-RU" sz="2400" spc="-1" strike="noStrike">
                <a:solidFill>
                  <a:srgbClr val="ffff00"/>
                </a:solidFill>
                <a:latin typeface="Arial"/>
              </a:rPr>
              <a:t>ЦК КПСС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. Председатель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Президиума Верховного Совета СССР в </a:t>
            </a:r>
            <a:r>
              <a:rPr b="1" i="1" lang="ru-RU" sz="2400" spc="-1" strike="noStrike">
                <a:solidFill>
                  <a:srgbClr val="ffff00"/>
                </a:solidFill>
                <a:latin typeface="Arial"/>
              </a:rPr>
              <a:t>1960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—</a:t>
            </a:r>
            <a:r>
              <a:rPr b="1" i="1" lang="ru-RU" sz="2400" spc="-1" strike="noStrike">
                <a:solidFill>
                  <a:srgbClr val="ffff00"/>
                </a:solidFill>
                <a:latin typeface="Arial"/>
              </a:rPr>
              <a:t>1964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и </a:t>
            </a:r>
            <a:r>
              <a:rPr b="1" i="1" lang="ru-RU" sz="2400" spc="-1" strike="noStrike">
                <a:solidFill>
                  <a:srgbClr val="ffff00"/>
                </a:solidFill>
                <a:latin typeface="Arial"/>
              </a:rPr>
              <a:t>1977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—1982 годах. Маршал Советского Союза (1976). Герой Социалистического Труда (1961) и четырежды Герой Советского Союза. Лауреат Международной Ленинской премии «За укрепление мира между народами» (1973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56" name="" descr="Файл:Leonid Brezhnev-portret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9280" y="404640"/>
            <a:ext cx="4189680" cy="568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f5e"/>
            </a:gs>
            <a:gs pos="100000">
              <a:srgbClr val="0066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Ответьте на вопрос: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</a:rPr>
              <a:t>Какой политический портрет вы нарисовали, анализируя высказывания о Брежневе?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3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3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3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3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f5e"/>
            </a:gs>
            <a:gs pos="100000">
              <a:srgbClr val="0066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162000" y="1195560"/>
            <a:ext cx="8820000" cy="44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Был узаконен контроль со стороны партийного аппарата над всеми сторонами жизни общества. Делегаты XX съезда проголосовали за отмену принципа регулярного обновления партийной номенклатуры. В Уставе КПСС было закреплено право контроля деятельности администрации в НИИ, учебных заведениях, учреждениях культуры и здравоохранения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title"/>
          </p:nvPr>
        </p:nvSpPr>
        <p:spPr>
          <a:xfrm>
            <a:off x="571320" y="189000"/>
            <a:ext cx="8001000" cy="882720"/>
          </a:xfrm>
          <a:prstGeom prst="rect">
            <a:avLst/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Политика Л.И. Брежнева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f5e"/>
            </a:gs>
            <a:gs pos="100000">
              <a:srgbClr val="0066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Рисунок 6" descr="22.jpg"/>
          <p:cNvPicPr/>
          <p:nvPr/>
        </p:nvPicPr>
        <p:blipFill>
          <a:blip r:embed="rId1"/>
          <a:stretch/>
        </p:blipFill>
        <p:spPr>
          <a:xfrm>
            <a:off x="250920" y="333360"/>
            <a:ext cx="3924360" cy="2730600"/>
          </a:xfrm>
          <a:prstGeom prst="rect">
            <a:avLst/>
          </a:prstGeom>
          <a:ln w="0">
            <a:noFill/>
          </a:ln>
        </p:spPr>
      </p:pic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4284720" y="475920"/>
            <a:ext cx="465624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ажнейшие вопросы для страны по-прежнему решались узким кругом лиц. Гнушалась любая точка зрения, не совпадавшая с «генеральной» линией. Свёртывалась любая критика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63" name="" descr="Выступление Брежнева Л.И. на торжественном приеме в честь Дня Победы."/>
          <p:cNvPicPr/>
          <p:nvPr/>
        </p:nvPicPr>
        <p:blipFill>
          <a:blip r:embed="rId2"/>
          <a:stretch/>
        </p:blipFill>
        <p:spPr>
          <a:xfrm>
            <a:off x="179280" y="3429000"/>
            <a:ext cx="3961080" cy="26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f5e"/>
            </a:gs>
            <a:gs pos="100000">
              <a:srgbClr val="0066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Рисунок 8" descr="brezhnev_2.jpg"/>
          <p:cNvPicPr/>
          <p:nvPr/>
        </p:nvPicPr>
        <p:blipFill>
          <a:blip r:embed="rId1"/>
          <a:stretch/>
        </p:blipFill>
        <p:spPr>
          <a:xfrm>
            <a:off x="179280" y="907920"/>
            <a:ext cx="3909960" cy="468180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4284720" y="260280"/>
            <a:ext cx="468000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о личному распоряжению Леонида Ильича во время его выступлений зал должен был в нужных местах речи вставать и аплодировать. Для таких случаев во дворце съездов рассаживалась специальная группа скандирующих.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5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f5e"/>
            </a:gs>
            <a:gs pos="100000">
              <a:srgbClr val="0066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466200" y="3428640"/>
            <a:ext cx="8209080" cy="32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Для материального обеспечения государственного аппарата была усовершенствована  система льгот и привилегий. Бесконтрольность вела к разложению части партийно – государственного аппарат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67" name="" descr="Стальной самурайский меч с деревянной рукояткой и ножнами подарен Брежневу. 1976 г."/>
          <p:cNvPicPr/>
          <p:nvPr/>
        </p:nvPicPr>
        <p:blipFill>
          <a:blip r:embed="rId1"/>
          <a:stretch/>
        </p:blipFill>
        <p:spPr>
          <a:xfrm>
            <a:off x="5219640" y="333360"/>
            <a:ext cx="3745080" cy="265284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5076720" y="2852640"/>
            <a:ext cx="3888000" cy="576360"/>
          </a:xfrm>
          <a:prstGeom prst="rect">
            <a:avLst/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Подарок Брежневу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69" name="" descr="Сетябрь 1975. Участники международного космического полета Союз-Апполон вручают Л.И.Брежневу вымпелы кораблей, побывавшие в космосе."/>
          <p:cNvPicPr/>
          <p:nvPr/>
        </p:nvPicPr>
        <p:blipFill>
          <a:blip r:embed="rId2"/>
          <a:stretch/>
        </p:blipFill>
        <p:spPr>
          <a:xfrm>
            <a:off x="179280" y="257040"/>
            <a:ext cx="4572000" cy="31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f5e"/>
            </a:gs>
            <a:gs pos="100000">
              <a:srgbClr val="0066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4355640" y="333000"/>
            <a:ext cx="45594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 художественных произведениях, кинофильмах, периодической печати Сталин представал скромным, мудрым, пекущимся о благе своего народа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324000" y="1015920"/>
            <a:ext cx="392904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f5e"/>
            </a:gs>
            <a:gs pos="100000">
              <a:srgbClr val="0066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ff00"/>
                </a:solidFill>
                <a:uFillTx/>
                <a:latin typeface="Arial"/>
              </a:rPr>
              <a:t>Проверяем домашнее задание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Задание: « Верно или неверно»: если вы согласны с высказыванием полностью –       « в», если нет – «н»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(  в каждом ряду по 4 вопроса, всего 5 рядов)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3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3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f5e"/>
            </a:gs>
            <a:gs pos="100000">
              <a:srgbClr val="0066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71320" y="475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Поработаем по учебнику:</a:t>
            </a:r>
            <a:endParaRPr b="1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55640" y="2514600"/>
            <a:ext cx="7632720" cy="2354400"/>
          </a:xfrm>
          <a:prstGeom prst="rect">
            <a:avLst/>
          </a:prstGeom>
          <a:solidFill>
            <a:srgbClr val="00ccff"/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66"/>
                </a:solidFill>
                <a:latin typeface="Times New Roman"/>
              </a:rPr>
              <a:t>Стр. 295 - 296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f5e"/>
            </a:gs>
            <a:gs pos="100000">
              <a:srgbClr val="0066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664480" cy="16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Arial"/>
              </a:rPr>
              <a:t>Конституция  7 октября 1977 год</a:t>
            </a: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067280" y="1412640"/>
            <a:ext cx="4897440" cy="30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Стала 4 – ым Основным Законом за годы советской власти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08636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755640" y="2133720"/>
            <a:ext cx="2836800" cy="431964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4140360" y="3895560"/>
            <a:ext cx="4086000" cy="29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65" dur="5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f5e"/>
            </a:gs>
            <a:gs pos="100000">
              <a:srgbClr val="0066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94920" y="1886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Положения Конституции: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50920" y="1413000"/>
            <a:ext cx="864216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В преамбуле говорилось, что СССР построено развитое социалистическое общество, характеризовались его основные черты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В 6 ст. было официально закреплено особое руководящее положение КПСС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Добавились новые права и свободы граждан ( на труд, бесплатное образование, медицинская помощь, пенсионное обеспечение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Но на самом деле эти права нарушались, либо так и остались на бумаге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8" dur="5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3" dur="5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3" dur="500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f5e"/>
            </a:gs>
            <a:gs pos="100000">
              <a:srgbClr val="0066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23640" y="259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Arial"/>
              </a:rPr>
              <a:t>Подведём итог урока:</a:t>
            </a: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71320" y="227628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Ответьте на вопросы на странице 298.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6" dur="500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f5e"/>
            </a:gs>
            <a:gs pos="100000">
              <a:srgbClr val="0066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Arial"/>
              </a:rPr>
              <a:t>Домашнее задание:</a:t>
            </a: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Параграф 43, вопросы, записи, задание в тетради.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19" dur="500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f5e"/>
            </a:gs>
            <a:gs pos="100000">
              <a:srgbClr val="0066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610920" y="2349000"/>
            <a:ext cx="8304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9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Первое после сталинское десятилетие ознаменовано серьёзными переменами в духовной жизни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На перемены, начавшиеся в обществе, первыми откликнулись деятели литературы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971640" y="692280"/>
            <a:ext cx="7704000" cy="1224000"/>
          </a:xfrm>
          <a:prstGeom prst="rect">
            <a:avLst/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66"/>
                </a:solidFill>
                <a:latin typeface="Times New Roman"/>
              </a:rPr>
              <a:t>«Верно или неверно»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f5e"/>
            </a:gs>
            <a:gs pos="100000">
              <a:srgbClr val="0066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539280" y="2361960"/>
            <a:ext cx="849636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3. С 1957 года встречи руководства ЦК с деятелями литературы и искусства стали регулярными.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189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4. В 1958 г. были пересмотрены отношения государства к творчеству Шостаковича,  Хачатуряна и др.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title"/>
          </p:nvPr>
        </p:nvSpPr>
        <p:spPr>
          <a:xfrm>
            <a:off x="826560" y="764640"/>
            <a:ext cx="8001000" cy="1143000"/>
          </a:xfrm>
          <a:prstGeom prst="rect">
            <a:avLst/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Arial"/>
              </a:rPr>
              <a:t>«Верно или неверно»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f5e"/>
            </a:gs>
            <a:gs pos="100000">
              <a:srgbClr val="0066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99640" y="234936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5. Политика « оттепели» имела вполне определённые границы.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6. Б Пастернак получил Нобелевскую премию за роман « Доктор Живаго».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title"/>
          </p:nvPr>
        </p:nvSpPr>
        <p:spPr>
          <a:xfrm>
            <a:off x="899640" y="764640"/>
            <a:ext cx="8001000" cy="1143000"/>
          </a:xfrm>
          <a:prstGeom prst="rect">
            <a:avLst/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6666"/>
                </a:solidFill>
                <a:latin typeface="Arial"/>
              </a:rPr>
              <a:t>«Верно или неверно»</a:t>
            </a: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f5e"/>
            </a:gs>
            <a:gs pos="100000">
              <a:srgbClr val="0066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7. На полку был положен фильм « Летят журавли» .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8. Первый искусственный спутник земли был запущен в 1960 году.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Arial"/>
              </a:rPr>
              <a:t>«Верно или неверно»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f5e"/>
            </a:gs>
            <a:gs pos="100000">
              <a:srgbClr val="0066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9. Были возобновлены работы в области генетики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10. Молотов предлагал сохранить жёсткое противостояние двух систем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Arial"/>
              </a:rPr>
              <a:t>«Верно или неверно»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f5e"/>
            </a:gs>
            <a:gs pos="100000">
              <a:srgbClr val="0066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11. В 1953 году между СССР и США был достигнут компромисс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12. В 1955 году СССР объявил об окончании состояния войны с Германией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Arial"/>
              </a:rPr>
              <a:t>«Верно или неверно»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2-04-10T17:43:46Z</dcterms:modified>
  <cp:revision>4</cp:revision>
  <dc:subject/>
  <dc:title>PowerPoint Presentation</dc:title>
</cp:coreProperties>
</file>