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2FF-F3EE-4794-AF4E-24BC84D6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3886-5803-4EFB-BF61-545125A9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FF36-3776-4073-9573-05EAC436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A41A-1C63-4D0B-9367-B9E634DC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AC86-9D74-4937-9AE9-8BB5E8F0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F1BE-E7CC-443C-B608-29BF7616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89D1-D635-42BA-B812-FDF000AD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C7E7-496E-4946-A293-2692F725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42AD-538F-4969-971F-A1CB78AC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9714-7BDD-4319-864A-EB9A10D2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F70D-5E3A-46E9-8D18-BD895550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2E56-1A4E-42FE-8B28-3139F857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D053-CDA6-4576-8AE1-633870AB0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7/7e/John_Kennedy%2C_Nikita_Khrushchev_1961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d/d0/Koreanwarmontage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8/89/French-foreign-legionnaire-indochina-1954.gif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0080" y="2019240"/>
            <a:ext cx="89535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« Политика мирного сосуществования: успехи и противореч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5105520"/>
            <a:ext cx="7086600" cy="17524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менение военной доктр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905120"/>
            <a:ext cx="9144000" cy="434340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1956 году Хрущёв заявил об измен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енной доктрины ССС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ход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ссового применения войск к ракетн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дерному противостоя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Файл:John Kennedy, Nikita Khrushchev 196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876920" cy="3786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228600" y="4267080"/>
            <a:ext cx="9524880" cy="2590920"/>
          </a:xfrm>
          <a:prstGeom prst="rect">
            <a:avLst/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-за жёсткой позиции Н. Хрущёва  провал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кончилась встреча с президентом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ж. Кеннеди в Ве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1981080"/>
            <a:ext cx="4267080" cy="1067040"/>
          </a:xfrm>
          <a:prstGeom prst="rect">
            <a:avLst/>
          </a:prstGeom>
          <a:solidFill>
            <a:srgbClr val="eaa5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С. Хрущёв и Д. Кенн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стрече в В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ог свидетель, что я не изоляционист, но кажется чрезвычайной глупостью рисковать жизнью миллионов американцев из-за спора о правах доступа по автобану… или из-за того, что немцы хотят объединения Германии. Должны быть гораздо более крупные и важные причины, чем эти, если мне придется грозить России ядерной войной. Ставкой должна быть свобода всей Западной Европы,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ежде чем я припру Хрущева к стенк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двергну его окончатель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спытани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ж. Кеннеди после встречи вспомина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5" descr="Картинка 6 из 99"/>
          <p:cNvPicPr/>
          <p:nvPr/>
        </p:nvPicPr>
        <p:blipFill>
          <a:blip r:embed="rId2"/>
          <a:stretch/>
        </p:blipFill>
        <p:spPr>
          <a:xfrm>
            <a:off x="-304920" y="1523880"/>
            <a:ext cx="3257640" cy="4105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3" descr="Картинка 1 из 99"/>
          <p:cNvPicPr/>
          <p:nvPr/>
        </p:nvPicPr>
        <p:blipFill>
          <a:blip r:embed="rId3"/>
          <a:stretch/>
        </p:blipFill>
        <p:spPr>
          <a:xfrm>
            <a:off x="4572000" y="1371600"/>
            <a:ext cx="4556160" cy="3160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1" descr="Картинка 2 из 512"/>
          <p:cNvPicPr/>
          <p:nvPr/>
        </p:nvPicPr>
        <p:blipFill>
          <a:blip r:embed="rId4"/>
          <a:stretch/>
        </p:blipFill>
        <p:spPr>
          <a:xfrm>
            <a:off x="2519280" y="3816360"/>
            <a:ext cx="4103640" cy="3041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ерлинский кризи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2520" y="144756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иболее оказался Карибский кризис 1962 г., когда по решению советского руководства на Кубе были размещены  ядерные ракеты средней дальности. Мир оказался на пороге ядерной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Файл:Andrei Gromyko, John F Kennedy 1962.gif"/>
          <p:cNvPicPr/>
          <p:nvPr/>
        </p:nvPicPr>
        <p:blipFill>
          <a:blip r:embed="rId2"/>
          <a:stretch/>
        </p:blipFill>
        <p:spPr>
          <a:xfrm>
            <a:off x="-380880" y="1143000"/>
            <a:ext cx="5257800" cy="4241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228600" y="5334120"/>
            <a:ext cx="4800600" cy="1523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омыко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обрыни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на при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еннед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уверяют е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на Кубе нет наступате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ружия СС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рибский криз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ССР и социалистический лаге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. 291 - 2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читайте самостоятельно и ответьте на вопро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« Как развивались отношения СССР со странами « третьего мир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ретий мир» во внешней политике ССС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ы на стр. 2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воды: 2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раграф 42, вопросы, запис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поисках новой стратег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ССР и социалистический лаге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ретий мир» во внешней полит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38088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поисках новой стратег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1219320"/>
            <a:ext cx="485640" cy="533160"/>
          </a:xfrm>
          <a:prstGeom prst="downArrow">
            <a:avLst>
              <a:gd name="adj1" fmla="val 50000"/>
              <a:gd name="adj2" fmla="val 27446"/>
            </a:avLst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121932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752480"/>
            <a:ext cx="2819520" cy="190512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ло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1676520"/>
            <a:ext cx="3048120" cy="1752480"/>
          </a:xfrm>
          <a:prstGeom prst="ellipse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ен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зднее Хрущё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228600" y="4267080"/>
            <a:ext cx="4648320" cy="2438640"/>
          </a:xfrm>
          <a:prstGeom prst="rect">
            <a:avLst/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лагал сделать переры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« холодной войне», 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этом сохра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ёсткое против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у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267080"/>
            <a:ext cx="4724280" cy="2438640"/>
          </a:xfrm>
          <a:prstGeom prst="rect">
            <a:avLst/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становка в мире измен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ользу СССР и стр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иализма, выступ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 мирное сосуществ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1953 году Советский Союз достиг компромисса в США, результатом которого стало перемирие в Коре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Файл:Koreanwarmontag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52280" y="1249200"/>
            <a:ext cx="3886200" cy="5608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304920" y="6095880"/>
            <a:ext cx="5105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ейская вой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0-195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90760" y="13716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4 году были достигнуты соглашения о прекращении войны в Индокитае. По результатам переговоров, прошедших после поражения французов под Дьенбьенфу, французские войска покинули Индоки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Файл:French-foreign-legionnaire-indochina-1954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304920" y="1219320"/>
            <a:ext cx="2535480" cy="3124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-304920" y="5715000"/>
            <a:ext cx="464832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йна в Индокита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6 -195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14400" y="3124080"/>
            <a:ext cx="36576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19044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906768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43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5 году страны-победительницы подписали государственный договор с Австрией, по которому СССР вывел свои войска с её терри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0" y="30481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5 году СССР объявил о прекращении состояния войны с Германией, а в 1956 году – с Япон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марте 1954 года Маленков подчеркнул не только то, что нужно бороться за мир, но и заговорил недопустимости возникновения мировых конфликтов в условиях существования ядерного оруж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989440" cy="4038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280" y="5638680"/>
            <a:ext cx="3353040" cy="762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.М. Мале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ирном существовании и соревновании двух систе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зможности предотвращения войн в современную эпох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ногообразии форм перехода различных стран к социализм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 съезд КПСС закрепил тезисы 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ачестве 3 главных направлений обеспечения мира Хрущёв выделил создание системы коллективной безопасности в Европе, затем в Азии, а также разору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228600" y="1619280"/>
            <a:ext cx="4800600" cy="3619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направления, выделенные Хрущёв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0T15:27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