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C34-BF85-4D26-B7FD-A49736BF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BEE-5237-4B0B-A7D3-A595D996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6B29-4259-46E5-B307-9113FF24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4D7-D22A-44D0-B6DA-91FB3241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398-D677-4933-BB77-0DA9C074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F9E-DE54-4AE0-80F0-06981E01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41D-932F-428F-968F-A2FFAAFA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FD6-1B1E-471B-BCD9-88FB6885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FB6-B3AF-4C2F-8323-D8CB6809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69F-7948-469F-9FD4-96D05E22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156-C27B-4846-995D-FF461982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7EE-46F8-41A5-8C73-89EC8673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0AFE-4A3D-4C8E-8F9B-C299950CC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e/John_Kennedy%2C_Nikita_Khrushchev_196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d/d0/Koreanwarmontag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8/89/French-foreign-legionnaire-indochina-1954.gif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080" y="2019240"/>
            <a:ext cx="89535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 Политика мирного сосуществования: успехи и противореч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105520"/>
            <a:ext cx="7086600" cy="17524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менение военной доктр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05120"/>
            <a:ext cx="9144000" cy="434340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6 году Хрущёв заявил об измен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енной доктрины ССС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ход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сового применения войск к ракетн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дерному противостоя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Файл:John Kennedy, Nikita Khrushchev 196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876920" cy="378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228600" y="4267080"/>
            <a:ext cx="9524880" cy="2590920"/>
          </a:xfrm>
          <a:prstGeom prst="rect">
            <a:avLst/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-за жёсткой позиции Н. Хрущёва  прова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ончилась встреча с президентом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ж. Кеннеди в В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981080"/>
            <a:ext cx="4267080" cy="1067040"/>
          </a:xfrm>
          <a:prstGeom prst="rect">
            <a:avLst/>
          </a:prstGeom>
          <a:solidFill>
            <a:srgbClr val="eaa5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и Д. Кенн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стрече в В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ог свидетель, что я не изоляционист, но кажется чрезвычайной глупостью рисковать жизнью миллионов американцев из-за спора о правах доступа по автобану… или из-за того, что немцы хотят объединения Германии. Должны быть гораздо более крупные и важные причины, чем эти, если мне придется грозить России ядерной войной. Ставкой должна быть свобода всей Западной Европы,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ежде чем я припру Хрущева к стенк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двергну его окончатель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спытан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ж. Кеннеди после встречи вспомина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5" descr="Картинка 6 из 99"/>
          <p:cNvPicPr/>
          <p:nvPr/>
        </p:nvPicPr>
        <p:blipFill>
          <a:blip r:embed="rId2"/>
          <a:stretch/>
        </p:blipFill>
        <p:spPr>
          <a:xfrm>
            <a:off x="-304920" y="1523880"/>
            <a:ext cx="3257640" cy="410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3" descr="Картинка 1 из 99"/>
          <p:cNvPicPr/>
          <p:nvPr/>
        </p:nvPicPr>
        <p:blipFill>
          <a:blip r:embed="rId3"/>
          <a:stretch/>
        </p:blipFill>
        <p:spPr>
          <a:xfrm>
            <a:off x="4572000" y="1371600"/>
            <a:ext cx="4556160" cy="3160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1" descr="Картинка 2 из 512"/>
          <p:cNvPicPr/>
          <p:nvPr/>
        </p:nvPicPr>
        <p:blipFill>
          <a:blip r:embed="rId4"/>
          <a:stretch/>
        </p:blipFill>
        <p:spPr>
          <a:xfrm>
            <a:off x="2519280" y="3816360"/>
            <a:ext cx="4103640" cy="3041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рлинский кризи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2520" y="14475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иболее оказался Карибский кризис 1962 г., когда по решению советского руководства на Кубе были размещены  ядерные ракеты средней дальности. Мир оказался на пороге ядерн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Файл:Andrei Gromyko, John F Kennedy 1962.gif"/>
          <p:cNvPicPr/>
          <p:nvPr/>
        </p:nvPicPr>
        <p:blipFill>
          <a:blip r:embed="rId2"/>
          <a:stretch/>
        </p:blipFill>
        <p:spPr>
          <a:xfrm>
            <a:off x="-380880" y="1143000"/>
            <a:ext cx="5257800" cy="4241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228600" y="5334120"/>
            <a:ext cx="4800600" cy="1523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омыко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брын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а при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еннед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уверяют е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на Кубе нет наступате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ужия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рибский криз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. 291 -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читайте самостоятельно и ответьте на вопр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 Как развивались отношения СССР со странами « третьего ми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 ССС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ы на стр.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воды: 2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42, вопросы, запи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38088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2193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21932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752480"/>
            <a:ext cx="2819520" cy="190512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676520"/>
            <a:ext cx="3048120" cy="1752480"/>
          </a:xfrm>
          <a:prstGeom prst="ellipse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ен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днее Хрущё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28600" y="4267080"/>
            <a:ext cx="464832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агал сделать переры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« холодной войне»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этом со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ёсткое против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у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267080"/>
            <a:ext cx="472428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становка в мире измен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льзу СССР и стр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изма, выступ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мирное сосуществ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1953 году Советский Союз достиг компромисса в США, результатом которого стало перемирие в Кор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Файл:Koreanwarmontag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52280" y="1249200"/>
            <a:ext cx="3886200" cy="560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304920" y="6095880"/>
            <a:ext cx="5105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ейская вой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0-195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0760" y="13716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4 году были достигнуты соглашения о прекращении войны в Индокитае. По результатам переговоров, прошедших после поражения французов под Дьенбьенфу, французские войска покинули Индо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Файл:French-foreign-legionnaire-indochina-1954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04920" y="1219320"/>
            <a:ext cx="253548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304920" y="5715000"/>
            <a:ext cx="46483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йна в Индокита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6 -195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14400" y="3124080"/>
            <a:ext cx="36576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9044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906768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43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траны-победительницы подписали государственный договор с Австрией, по которому СССР вывел свои войска с её терр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0" y="30481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ССР объявил о прекращении состояния войны с Германией, а в 1956 году – с Япон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марте 1954 года Маленков подчеркнул не только то, что нужно бороться за мир, но и заговорил недопустимости возникновения мировых конфликтов в условиях существования ядерного оруж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989440" cy="4038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5638680"/>
            <a:ext cx="3353040" cy="762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.М. Мале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ирном существовании и соревновании двух систе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зможности предотвращения войн в современную эпох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ногообразии форм перехода различных стран к социализм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съезд КПСС закрепил тезисы 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ачестве 3 главных направлений обеспечения мира Хрущёв выделил создание системы коллективной безопасности в Европе, затем в Азии, а также разору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228600" y="1619280"/>
            <a:ext cx="4800600" cy="361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направления, выделенные Хрущёв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5:27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