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40D-A010-465D-9245-12CD1E83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B07-B86D-4042-B664-8C97C017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AC5-8B99-46D5-A043-D2FF25B8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457-6BDF-4EDA-A53D-BE63CDA1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5B7D-616A-442A-8319-B9585961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F26-6517-4904-8BDC-AA0EB7B7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9A85-8753-496B-B474-F8B7C187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4F9-148C-462E-A21E-37D96FD8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2BA-AD03-4ED6-AD53-409C6F80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07C-28C7-472B-9562-99872B77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F3A-46D9-4385-A897-457AA24C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AE48-9A61-42D5-A23C-15A45CE8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21DD-E32C-4685-AE0C-B61DD1501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7/7e/John_Kennedy%2C_Nikita_Khrushchev_1961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d/d0/Koreanwarmontag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8/89/French-foreign-legionnaire-indochina-1954.gif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0080" y="2019240"/>
            <a:ext cx="8953560" cy="42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 Политика мирного сосуществования: успехи и противореч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105520"/>
            <a:ext cx="7086600" cy="17524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менение военной доктр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05120"/>
            <a:ext cx="9144000" cy="434340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1956 году Хрущёв заявил об измен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енной доктрины ССС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ход 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ассового применения войск к раке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дерному противостоя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Файл:John Kennedy, Nikita Khrushchev 196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876920" cy="3786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228600" y="4267080"/>
            <a:ext cx="9524880" cy="2590920"/>
          </a:xfrm>
          <a:prstGeom prst="rect">
            <a:avLst/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-за жёсткой позиции Н. Хрущёва  прова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ончилась встреча с президентом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ж. Кеннеди в Ве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981080"/>
            <a:ext cx="4267080" cy="1067040"/>
          </a:xfrm>
          <a:prstGeom prst="rect">
            <a:avLst/>
          </a:prstGeom>
          <a:solidFill>
            <a:srgbClr val="eaa5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С. Хрущёв и Д. Кенне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стрече в В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Бог свидетель, что я не изоляционист, но кажется чрезвычайной глупостью рисковать жизнью миллионов американцев из-за спора о правах доступа по автобану… или из-за того, что немцы хотят объединения Германии. Должны быть гораздо более крупные и важные причины, чем эти, если мне придется грозить России ядерной войной. Ставкой должна быть свобода всей Западной Европы,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ежде чем я припру Хрущева к стенк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двергну его окончательн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спытан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ж. Кеннеди после встречи вспоминал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5" descr="Картинка 6 из 99"/>
          <p:cNvPicPr/>
          <p:nvPr/>
        </p:nvPicPr>
        <p:blipFill>
          <a:blip r:embed="rId2"/>
          <a:stretch/>
        </p:blipFill>
        <p:spPr>
          <a:xfrm>
            <a:off x="-304920" y="1523880"/>
            <a:ext cx="3257640" cy="410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Картинка 1 из 99"/>
          <p:cNvPicPr/>
          <p:nvPr/>
        </p:nvPicPr>
        <p:blipFill>
          <a:blip r:embed="rId3"/>
          <a:stretch/>
        </p:blipFill>
        <p:spPr>
          <a:xfrm>
            <a:off x="4572000" y="1371600"/>
            <a:ext cx="4556160" cy="3160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1" descr="Картинка 2 из 512"/>
          <p:cNvPicPr/>
          <p:nvPr/>
        </p:nvPicPr>
        <p:blipFill>
          <a:blip r:embed="rId4"/>
          <a:stretch/>
        </p:blipFill>
        <p:spPr>
          <a:xfrm>
            <a:off x="2519280" y="3816360"/>
            <a:ext cx="4103640" cy="3041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ерлинский кризи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252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иболее оказался Карибский кризис 1962 г., когда по решению советского руководства на Кубе были размещены  ядерные ракеты средней дальности. Мир оказался на пороге ядерной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Файл:Andrei Gromyko, John F Kennedy 1962.gif"/>
          <p:cNvPicPr/>
          <p:nvPr/>
        </p:nvPicPr>
        <p:blipFill>
          <a:blip r:embed="rId2"/>
          <a:stretch/>
        </p:blipFill>
        <p:spPr>
          <a:xfrm>
            <a:off x="-380880" y="1143000"/>
            <a:ext cx="5257800" cy="4241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228600" y="5334120"/>
            <a:ext cx="4800600" cy="1523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омыко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обрыни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 при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еннед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уверяют е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то на Кубе нет наступате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ужия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рибский кризи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291 -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читайте самостоятельно и ответьте на вопро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« Как развивались отношения СССР со странами « третьего ми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 ССС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просы на стр. 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ыводы: 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04920" y="151920"/>
            <a:ext cx="922032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8458200" cy="3048120"/>
          </a:xfrm>
          <a:prstGeom prst="roundRect">
            <a:avLst>
              <a:gd name="adj" fmla="val 16667"/>
            </a:avLst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42, вопросы, запис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ССР и социалистический лаге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ретий мир» во внешней полити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38088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поисках новой страте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12193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219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a59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1752480"/>
            <a:ext cx="2819520" cy="190512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л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676520"/>
            <a:ext cx="3048120" cy="17524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лен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зднее Хрущ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228600" y="4267080"/>
            <a:ext cx="464832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агал сделать переры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« холодной войне»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этом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ёсткое против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ву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267080"/>
            <a:ext cx="4724280" cy="2438640"/>
          </a:xfrm>
          <a:prstGeom prst="rect">
            <a:avLst/>
          </a:prstGeom>
          <a:solidFill>
            <a:srgbClr val="eaa592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становка в мире измени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ользу СССР и стр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зма, выступ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мирное сосуществ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53 году Советский Союз достиг компромисса в США, результатом которого стало перемирие в Коре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Файл:Koreanwarmontag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52280" y="1249200"/>
            <a:ext cx="3886200" cy="560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304920" y="6095880"/>
            <a:ext cx="51055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ейская вой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-1953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076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4 году были достигнуты соглашения о прекращении войны в Индокитае. По результатам переговоров, прошедших после поражения французов под Дьенбьенфу, французские войска покинули Индо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Файл:French-foreign-legionnaire-indochina-195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304920" y="1219320"/>
            <a:ext cx="253548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-304920" y="5715000"/>
            <a:ext cx="464832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йна в Индокита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6 -195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14400" y="3124080"/>
            <a:ext cx="36576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753480" cy="7238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906768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траны-победительницы подписали государственный договор с Австрией, по которому СССР вывел свои войска с её терр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0" y="30481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955 году СССР объявил о прекращении состояния войны с Германией, а в 1956 году – с Япон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тношения с Запад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марте 1954 года Маленков подчеркнул не только то, что нужно бороться за мир, но и заговорил недопустимости возникновения мировых конфликтов в условиях существования ядерного оруж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2989440" cy="4038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5638680"/>
            <a:ext cx="335304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.М. Мален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ирном существовании и соревновании двух систе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зможности предотвращения войн в современную эпох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ногообразии форм перехода различных стран к социализм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 съезд КПСС закрепил тезисы 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04920" y="-190440"/>
            <a:ext cx="9753840" cy="72388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честве 3 главных направлений обеспечения мира Хрущёв выделил создание системы коллективной безопасности в Европе, затем в Азии, а также разору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228600" y="1619280"/>
            <a:ext cx="4800600" cy="3619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228600" y="0"/>
            <a:ext cx="9524880" cy="1295280"/>
          </a:xfrm>
          <a:prstGeom prst="rect">
            <a:avLst/>
          </a:prstGeom>
          <a:solidFill>
            <a:srgbClr val="eaa592"/>
          </a:solidFill>
          <a:ln w="316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направления, выделенные Хрущёв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5:27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