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FFB-E504-4CD5-8E4A-157B62A1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7C8E-0EA7-4BCA-8914-A2E041B5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CF5-0783-4009-9007-0263AEF2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6B6C-BDDB-42FB-9E5A-40022239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BFCD-7126-4631-864A-7234C93A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BB1-D0B2-4E67-A957-C3D57238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3D17-F482-42F5-BA69-1B1D8398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1EFD-E302-42C9-965A-CF5898AA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6BF6-CF91-4BD3-88E0-4CED87E5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5CA2-CB47-4045-AFDF-67E33CC9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C8F-99B1-456D-8963-F1F5B307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AB51-4963-408A-8807-40AB4C91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86A5-FBBE-417C-9E18-AD7DD8BA0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7/7e/John_Kennedy%2C_Nikita_Khrushchev_196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d/d0/Koreanwarmontage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8/89/French-foreign-legionnaire-indochina-1954.gif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0080" y="2019240"/>
            <a:ext cx="89535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 Политика мирного сосуществования: успехи и противореч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5105520"/>
            <a:ext cx="7086600" cy="17524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менение военной доктр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05120"/>
            <a:ext cx="9144000" cy="434340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56 году Хрущёв заявил об измен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енной доктрины ССС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ход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ссового применения войск к ракетн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дерному противостоя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Файл:John Kennedy, Nikita Khrushchev 196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876920" cy="3786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228600" y="4267080"/>
            <a:ext cx="9524880" cy="2590920"/>
          </a:xfrm>
          <a:prstGeom prst="rect">
            <a:avLst/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-за жёсткой позиции Н. Хрущёва  прова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ончилась встреча с президентом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ж. Кеннеди в Ве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981080"/>
            <a:ext cx="4267080" cy="1067040"/>
          </a:xfrm>
          <a:prstGeom prst="rect">
            <a:avLst/>
          </a:prstGeom>
          <a:solidFill>
            <a:srgbClr val="eaa5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С. Хрущёв и Д. Кенн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стрече в В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ог свидетель, что я не изоляционист, но кажется чрезвычайной глупостью рисковать жизнью миллионов американцев из-за спора о правах доступа по автобану… или из-за того, что немцы хотят объединения Германии. Должны быть гораздо более крупные и важные причины, чем эти, если мне придется грозить России ядерной войной. Ставкой должна быть свобода всей Западной Европы,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ежде чем я припру Хрущева к стенк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двергну его окончатель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спытан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ж. Кеннеди после встречи вспомина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5" descr="Картинка 6 из 99"/>
          <p:cNvPicPr/>
          <p:nvPr/>
        </p:nvPicPr>
        <p:blipFill>
          <a:blip r:embed="rId2"/>
          <a:stretch/>
        </p:blipFill>
        <p:spPr>
          <a:xfrm>
            <a:off x="-304920" y="1523880"/>
            <a:ext cx="3257640" cy="410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3" descr="Картинка 1 из 99"/>
          <p:cNvPicPr/>
          <p:nvPr/>
        </p:nvPicPr>
        <p:blipFill>
          <a:blip r:embed="rId3"/>
          <a:stretch/>
        </p:blipFill>
        <p:spPr>
          <a:xfrm>
            <a:off x="4572000" y="1371600"/>
            <a:ext cx="4556160" cy="3160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1" descr="Картинка 2 из 512"/>
          <p:cNvPicPr/>
          <p:nvPr/>
        </p:nvPicPr>
        <p:blipFill>
          <a:blip r:embed="rId4"/>
          <a:stretch/>
        </p:blipFill>
        <p:spPr>
          <a:xfrm>
            <a:off x="2519280" y="3816360"/>
            <a:ext cx="4103640" cy="3041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рлинский кризи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2520" y="14475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иболее оказался Карибский кризис 1962 г., когда по решению советского руководства на Кубе были размещены  ядерные ракеты средней дальности. Мир оказался на пороге ядерной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Файл:Andrei Gromyko, John F Kennedy 1962.gif"/>
          <p:cNvPicPr/>
          <p:nvPr/>
        </p:nvPicPr>
        <p:blipFill>
          <a:blip r:embed="rId2"/>
          <a:stretch/>
        </p:blipFill>
        <p:spPr>
          <a:xfrm>
            <a:off x="-380880" y="1143000"/>
            <a:ext cx="5257800" cy="4241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228600" y="5334120"/>
            <a:ext cx="4800600" cy="1523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омыко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брын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а при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еннед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уверяют е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на Кубе нет наступате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ужия 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рибский криз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. 291 -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читайте самостоятельно и ответьте на вопр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 Как развивались отношения СССР со странами « третьего ми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 ССС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ы на стр.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воды: 2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аграф 42, вопросы, запи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38088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12193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121932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752480"/>
            <a:ext cx="2819520" cy="190512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о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676520"/>
            <a:ext cx="3048120" cy="1752480"/>
          </a:xfrm>
          <a:prstGeom prst="ellipse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ен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зднее Хрущё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28600" y="4267080"/>
            <a:ext cx="464832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агал сделать переры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« холодной войне»,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этом сохра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ёсткое против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у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267080"/>
            <a:ext cx="472428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становка в мире измен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ользу СССР и стр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изма, выступ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 мирное сосуществ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1953 году Советский Союз достиг компромисса в США, результатом которого стало перемирие в Кор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Файл:Koreanwarmontag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52280" y="1249200"/>
            <a:ext cx="3886200" cy="560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304920" y="6095880"/>
            <a:ext cx="5105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ейская вой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0-195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0760" y="13716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4 году были достигнуты соглашения о прекращении войны в Индокитае. По результатам переговоров, прошедших после поражения французов под Дьенбьенфу, французские войска покинули Индоки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Файл:French-foreign-legionnaire-indochina-1954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04920" y="1219320"/>
            <a:ext cx="253548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-304920" y="5715000"/>
            <a:ext cx="46483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йна в Индокита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6 -195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14400" y="3124080"/>
            <a:ext cx="36576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9044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906768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43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траны-победительницы подписали государственный договор с Австрией, по которому СССР вывел свои войска с её терри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0" y="30481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ССР объявил о прекращении состояния войны с Германией, а в 1956 году – с Япон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марте 1954 года Маленков подчеркнул не только то, что нужно бороться за мир, но и заговорил недопустимости возникновения мировых конфликтов в условиях существования ядерного оруж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989440" cy="4038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280" y="5638680"/>
            <a:ext cx="3353040" cy="762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.М. Мале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ирном существовании и соревновании двух систе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зможности предотвращения войн в современную эпох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ногообразии форм перехода различных стран к социализм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съезд КПСС закрепил тезисы 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ачестве 3 главных направлений обеспечения мира Хрущёв выделил создание системы коллективной безопасности в Европе, затем в Азии, а также разору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228600" y="1619280"/>
            <a:ext cx="4800600" cy="3619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направления, выделенные Хрущёв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5:27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