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75FA-C533-418E-B98C-4491160F5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A5B5-8E2A-47F1-9F3C-177F34AC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82A7-F0CE-4F53-81F5-FC4E54C03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BC12-FE88-4D92-A522-D6629B324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4CD1-F94A-4161-A81A-D58669E1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CC3C-406C-435B-A163-12562624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4C75-4AA9-4C02-ADC3-E0F8D251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0DE5-29C8-4999-8B96-17973A86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8110-5D54-4FF7-8C81-F4001497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D7C1-FD10-4826-88F0-BB9E44D7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09EE-E4A8-47AC-A785-3E85A7E6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E96F-8263-44A8-BE4D-4C8B85D8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19DD-86C8-4F4F-A08F-9E2117CB6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7/7e/John_Kennedy%2C_Nikita_Khrushchev_1961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d/d0/Koreanwarmontage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8/89/French-foreign-legionnaire-indochina-1954.gif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99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90080" y="2019240"/>
            <a:ext cx="89535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« Политика мирного сосуществования: успехи и противоречи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5105520"/>
            <a:ext cx="7086600" cy="17524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  разработан учителем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 Тве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зменение военной доктр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905120"/>
            <a:ext cx="9144000" cy="4343400"/>
          </a:xfrm>
          <a:prstGeom prst="roundRect">
            <a:avLst>
              <a:gd name="adj" fmla="val 16667"/>
            </a:avLst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1956 году Хрущёв заявил об измен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енной доктрины ССС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ереход 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ассового применения войск к ракетно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дерному противостоя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Файл:John Kennedy, Nikita Khrushchev 196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876920" cy="3786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-228600" y="4267080"/>
            <a:ext cx="9524880" cy="2590920"/>
          </a:xfrm>
          <a:prstGeom prst="rect">
            <a:avLst/>
          </a:prstGeom>
          <a:solidFill>
            <a:srgbClr val="eaa5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-за жёсткой позиции Н. Хрущёва  провал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кончилась встреча с президентом С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ж. Кеннеди в Ве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1981080"/>
            <a:ext cx="4267080" cy="1067040"/>
          </a:xfrm>
          <a:prstGeom prst="rect">
            <a:avLst/>
          </a:prstGeom>
          <a:solidFill>
            <a:srgbClr val="eaa59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.С. Хрущёв и Д. Кенне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встрече в Ве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Бог свидетель, что я не изоляционист, но кажется чрезвычайной глупостью рисковать жизнью миллионов американцев из-за спора о правах доступа по автобану… или из-за того, что немцы хотят объединения Германии. Должны быть гораздо более крупные и важные причины, чем эти, если мне придется грозить России ядерной войной. Ставкой должна быть свобода всей Западной Европы,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режде чем я припру Хрущева к стенк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одвергну его окончательно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спытани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-228600" y="0"/>
            <a:ext cx="9524880" cy="12952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ж. Кеннеди после встречи вспоминал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5" descr="Картинка 6 из 99"/>
          <p:cNvPicPr/>
          <p:nvPr/>
        </p:nvPicPr>
        <p:blipFill>
          <a:blip r:embed="rId2"/>
          <a:stretch/>
        </p:blipFill>
        <p:spPr>
          <a:xfrm>
            <a:off x="-304920" y="1523880"/>
            <a:ext cx="3257640" cy="4105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3" descr="Картинка 1 из 99"/>
          <p:cNvPicPr/>
          <p:nvPr/>
        </p:nvPicPr>
        <p:blipFill>
          <a:blip r:embed="rId3"/>
          <a:stretch/>
        </p:blipFill>
        <p:spPr>
          <a:xfrm>
            <a:off x="4572000" y="1371600"/>
            <a:ext cx="4556160" cy="3160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1" descr="Картинка 2 из 512"/>
          <p:cNvPicPr/>
          <p:nvPr/>
        </p:nvPicPr>
        <p:blipFill>
          <a:blip r:embed="rId4"/>
          <a:stretch/>
        </p:blipFill>
        <p:spPr>
          <a:xfrm>
            <a:off x="2519280" y="3816360"/>
            <a:ext cx="4103640" cy="3041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9524880" cy="12952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ерлинский кризи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2520" y="1447560"/>
            <a:ext cx="4419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иболее оказался Карибский кризис 1962 г., когда по решению советского руководства на Кубе были размещены  ядерные ракеты средней дальности. Мир оказался на пороге ядерной вой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Файл:Andrei Gromyko, John F Kennedy 1962.gif"/>
          <p:cNvPicPr/>
          <p:nvPr/>
        </p:nvPicPr>
        <p:blipFill>
          <a:blip r:embed="rId2"/>
          <a:stretch/>
        </p:blipFill>
        <p:spPr>
          <a:xfrm>
            <a:off x="-380880" y="1143000"/>
            <a:ext cx="5257800" cy="4241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228600" y="5334120"/>
            <a:ext cx="4800600" cy="15238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омыко 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обрыни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на прием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Кеннед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уверяют ег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то на Кубе нет наступате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ружия ССС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228600" y="0"/>
            <a:ext cx="9524880" cy="12952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рибский кризи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2388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04920" y="151920"/>
            <a:ext cx="9220320" cy="121932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ССР и социалистический лаге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514600"/>
            <a:ext cx="8458200" cy="3048120"/>
          </a:xfrm>
          <a:prstGeom prst="roundRect">
            <a:avLst>
              <a:gd name="adj" fmla="val 16667"/>
            </a:avLst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работаем по учебник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р. 291 - 29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читайте самостоятельно и ответьте на вопрос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« Как развивались отношения СССР со странами « третьего мир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Третий мир» во внешней политике ССС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2388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04920" y="151920"/>
            <a:ext cx="9220320" cy="121932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514600"/>
            <a:ext cx="8458200" cy="3048120"/>
          </a:xfrm>
          <a:prstGeom prst="roundRect">
            <a:avLst>
              <a:gd name="adj" fmla="val 16667"/>
            </a:avLst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просы на стр. 29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ыводы: 29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238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04920" y="151920"/>
            <a:ext cx="9220320" cy="121932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514600"/>
            <a:ext cx="8458200" cy="3048120"/>
          </a:xfrm>
          <a:prstGeom prst="roundRect">
            <a:avLst>
              <a:gd name="adj" fmla="val 16667"/>
            </a:avLst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араграф 42, вопросы, запис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 поисках новой стратег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ССР и социалистический лагер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Третий мир» во внешней полити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04920" y="-38088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 поисках новой стратег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62320" y="1219320"/>
            <a:ext cx="485640" cy="533160"/>
          </a:xfrm>
          <a:prstGeom prst="downArrow">
            <a:avLst>
              <a:gd name="adj1" fmla="val 50000"/>
              <a:gd name="adj2" fmla="val 27446"/>
            </a:avLst>
          </a:prstGeom>
          <a:solidFill>
            <a:srgbClr val="eaa5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1219320"/>
            <a:ext cx="4860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aa5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1752480"/>
            <a:ext cx="2819520" cy="190512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ло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1676520"/>
            <a:ext cx="3048120" cy="1752480"/>
          </a:xfrm>
          <a:prstGeom prst="ellipse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ленк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зднее Хрущё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228600" y="4267080"/>
            <a:ext cx="4648320" cy="2438640"/>
          </a:xfrm>
          <a:prstGeom prst="rect">
            <a:avLst/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лагал сделать переры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« холодной войне», 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 этом сохра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ёсткое противостоя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вух сист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4267080"/>
            <a:ext cx="4724280" cy="2438640"/>
          </a:xfrm>
          <a:prstGeom prst="rect">
            <a:avLst/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становка в мире изменила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ользу СССР и стр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циализма, выступ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 мирное сосуществ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85840" y="1371600"/>
            <a:ext cx="5257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1953 году Советский Союз достиг компромисса в США, результатом которого стало перемирие в Коре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Файл:Koreanwarmontag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52280" y="1249200"/>
            <a:ext cx="3886200" cy="5608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304920" y="6095880"/>
            <a:ext cx="510552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рейская вой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50-1953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190760" y="1371600"/>
            <a:ext cx="5181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954 году были достигнуты соглашения о прекращении войны в Индокитае. По результатам переговоров, прошедших после поражения французов под Дьенбьенфу, французские войска покинули Индокит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Файл:French-foreign-legionnaire-indochina-1954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304920" y="1219320"/>
            <a:ext cx="2535480" cy="3124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-304920" y="5715000"/>
            <a:ext cx="464832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йна в Индокита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46 -1954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914400" y="3124080"/>
            <a:ext cx="36576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190440"/>
            <a:ext cx="9753480" cy="7238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906768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4343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955 году страны-победительницы подписали государственный договор с Австрией, по которому СССР вывел свои войска с её террито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0" y="304812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955 году СССР объявил о прекращении состояния войны с Германией, а в 1956 году – с Япон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148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марте 1954 года Маленков подчеркнул не только то, что нужно бороться за мир, но и заговорил недопустимости возникновения мировых конфликтов в условиях существования ядерного оруж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2989440" cy="4038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52280" y="5638680"/>
            <a:ext cx="3353040" cy="7621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.М. Мален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ирном существовании и соревновании двух систем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зможности предотвращения войн в современную эпоху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ногообразии форм перехода различных стран к социализму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X съезд КПСС закрепил тезисы 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качестве 3 главных направлений обеспечения мира Хрущёв выделил создание системы коллективной безопасности в Европе, затем в Азии, а также разору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-228600" y="1619280"/>
            <a:ext cx="4800600" cy="36194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-228600" y="0"/>
            <a:ext cx="9524880" cy="12952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сновные направления, выделенные Хрущёвы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10T15:27:0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