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09.%20Who%20Correct.wav" ContentType="audio/x-wav"/>
  <Override PartName="/ppt/media/image5.png" ContentType="image/png"/>
  <Override PartName="/ppt/media/image2.gif" ContentType="image/gif"/>
  <Override PartName="/ppt/media/Tarda.wav" ContentType="audio/x-wav"/>
  <Override PartName="/ppt/media/explode.wav" ContentType="audio/x-wav"/>
  <Override PartName="/ppt/media/image3.png" ContentType="image/png"/>
  <Override PartName="/ppt/media/image4.png" ContentType="image/png"/>
  <Override PartName="/ppt/media/chimes.wav" ContentType="audio/x-wav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ABAD-B4B5-442B-BF18-28E81AF50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F403-0F48-46AA-86C1-07B4788B8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846A-E731-403D-B7F9-0D19861D3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875E-EB24-4446-8461-3D91B067D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97AF9-81EA-431F-8CE4-D4F55E88E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828EB-B63C-440B-95DC-81B3BF635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F66FB-FEF6-4B93-A1D3-E0477616D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ACEB3-1642-4607-88D4-A8EFA2F3D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FF6C3-37B6-4E78-A1B6-62C7FAE21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B8F87-96E6-4D04-9490-A737117E6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023EA-D347-44B3-A86D-E506D99C5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7E4C-0E3A-4221-9A97-FBEC8F5F7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9330D-3FBA-4C0E-A0CF-ED0797A4D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7A3A5-AA5C-487B-909F-B1C7E510E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5857C-441F-4F2F-BE56-2020F6EFC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D6600-8F00-4ED4-85D2-160F77A9A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1AC79-A450-4496-B2E7-FE226494D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E8EE-60C1-40DA-BE37-CB53E3F22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0A59-141A-483C-9C54-501667E51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F6F9-FDA1-4D49-8DBD-22DB60F5A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4415-A4FA-4BEE-B827-AC2D63FB9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6CC4-D68C-4B72-BAFA-61E5006F8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6C5B-4543-4B6D-8903-5FFFAEDAE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4C80-8ADC-41E6-876E-3A8F6DEEB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A9B98-3386-480E-B854-986BA8754149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6206D-1E09-46F0-A63C-130361361082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"/><Relationship Id="rId3" Type="http://schemas.openxmlformats.org/officeDocument/2006/relationships/audio" Target="../media/09.%20Who%20Correct.wav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Tarda.wav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09.%20Who%20Correct.wav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Tarda.wav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4.xml"/><Relationship Id="rId3" Type="http://schemas.openxmlformats.org/officeDocument/2006/relationships/slide" Target="slide3.xml"/><Relationship Id="rId4" Type="http://schemas.openxmlformats.org/officeDocument/2006/relationships/slide" Target="slide14.xml"/><Relationship Id="rId5" Type="http://schemas.openxmlformats.org/officeDocument/2006/relationships/slide" Target=""/><Relationship Id="rId6" Type="http://schemas.openxmlformats.org/officeDocument/2006/relationships/audio" Target="../media/09.%20Who%20Correct.wav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Tarda.wav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5.xml"/><Relationship Id="rId3" Type="http://schemas.openxmlformats.org/officeDocument/2006/relationships/slide" Target=""/><Relationship Id="rId4" Type="http://schemas.openxmlformats.org/officeDocument/2006/relationships/audio" Target="../media/09.%20Who%20Correct.wav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Tarda.wav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09.%20Who%20Correct.wav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Tarda.wav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"/><Relationship Id="rId3" Type="http://schemas.openxmlformats.org/officeDocument/2006/relationships/audio" Target="../media/09.%20Who%20Correct.wav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Tarda.wav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47280" y="549360"/>
            <a:ext cx="648180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Verdana"/>
              </a:rPr>
              <a:t>Историческая викторина</a:t>
            </a:r>
            <a:endParaRPr b="1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68360" y="3068640"/>
            <a:ext cx="636768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99"/>
                </a:solidFill>
                <a:latin typeface="Verdana"/>
              </a:rPr>
              <a:t>Учитель Конищева Н.В.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6699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99"/>
                </a:solidFill>
                <a:latin typeface="Verdana"/>
              </a:rPr>
              <a:t>Краснодарский край</a:t>
            </a:r>
            <a:r>
              <a:rPr b="1" i="1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i="1" lang="ru-RU" sz="3200" spc="-1" strike="noStrike">
                <a:solidFill>
                  <a:srgbClr val="006699"/>
                </a:solidFill>
                <a:latin typeface="Verdana"/>
              </a:rPr>
              <a:t>Тбилисский район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99"/>
                </a:solidFill>
                <a:latin typeface="Verdana"/>
              </a:rPr>
              <a:t>Ст. Нововладимировская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99"/>
                </a:solidFill>
                <a:latin typeface="Verdana"/>
              </a:rPr>
              <a:t>МОУ «СОШ №10»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9" name="">
            <a:hlinkClick r:id="" action="ppaction://hlinkshowjump?jump=nextslide"/>
          </p:cNvPr>
          <p:cNvSpPr/>
          <p:nvPr/>
        </p:nvSpPr>
        <p:spPr>
          <a:xfrm>
            <a:off x="8101080" y="6093000"/>
            <a:ext cx="647640" cy="504720"/>
          </a:xfrm>
          <a:custGeom>
            <a:avLst/>
            <a:gdLst>
              <a:gd name="textAreaLeft" fmla="*/ 32400 w 647640"/>
              <a:gd name="textAreaRight" fmla="*/ 615240 w 647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7712" h="21600">
                <a:moveTo>
                  <a:pt x="0" y="0"/>
                </a:moveTo>
                <a:lnTo>
                  <a:pt x="27712" y="0"/>
                </a:lnTo>
                <a:lnTo>
                  <a:pt x="27712" y="21600"/>
                </a:lnTo>
                <a:lnTo>
                  <a:pt x="0" y="21600"/>
                </a:lnTo>
                <a:close/>
              </a:path>
              <a:path fill="lightenLess" w="27712" h="21600">
                <a:moveTo>
                  <a:pt x="0" y="0"/>
                </a:moveTo>
                <a:lnTo>
                  <a:pt x="27712" y="0"/>
                </a:lnTo>
                <a:lnTo>
                  <a:pt x="26312" y="1400"/>
                </a:lnTo>
                <a:lnTo>
                  <a:pt x="1400" y="1400"/>
                </a:lnTo>
                <a:close/>
              </a:path>
              <a:path fill="darken" w="27712" h="21600">
                <a:moveTo>
                  <a:pt x="27712" y="0"/>
                </a:moveTo>
                <a:lnTo>
                  <a:pt x="27712" y="21600"/>
                </a:lnTo>
                <a:lnTo>
                  <a:pt x="26312" y="20200"/>
                </a:lnTo>
                <a:lnTo>
                  <a:pt x="26312" y="1400"/>
                </a:lnTo>
                <a:close/>
              </a:path>
              <a:path fill="darkenLess" w="27712" h="21600">
                <a:moveTo>
                  <a:pt x="277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12" y="20200"/>
                </a:lnTo>
                <a:close/>
              </a:path>
              <a:path fill="lighten" w="277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12" h="21600">
                <a:moveTo>
                  <a:pt x="6850" y="3794"/>
                </a:moveTo>
                <a:lnTo>
                  <a:pt x="20863" y="10800"/>
                </a:lnTo>
                <a:lnTo>
                  <a:pt x="6850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2736720" cy="186372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6246720" y="1197000"/>
            <a:ext cx="289728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Какой город в Древней Руси «крестил» огнём и мечом дядя князя Владимира Добрыня?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Киев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Смоленск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Чернигов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5400" spc="-1" strike="noStrike" u="sng">
                <a:solidFill>
                  <a:srgbClr val="cc99ff"/>
                </a:solidFill>
                <a:uFillTx/>
                <a:latin typeface="Arial"/>
                <a:hlinkClick r:id="rId1" action="ppaction://hlinksldjump"/>
              </a:rPr>
              <a:t>Новгород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7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38" name="">
            <a:hlinkClick r:id="rId2" action="ppaction://hlinksldjump"/>
          </p:cNvPr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3" name="09.%20Who%20Correct.wav"/>
      </p:stSnd>
    </p:sndAc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33520" y="4751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533520" y="374328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edfad2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Какой город в Древней Руси «крестил» огнём и мечом дядя князя Владимира Добрыня?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1" lang="ru-RU" sz="4800" spc="-1" strike="noStrike" baseline="10000">
                <a:solidFill>
                  <a:srgbClr val="ff9900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Киев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Смоленск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1" lang="ru-RU" sz="4800" spc="-1" strike="noStrike" baseline="10000">
                <a:solidFill>
                  <a:srgbClr val="ff9900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Чернигов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1" lang="ru-RU" sz="4800" spc="-1" strike="noStrike" baseline="10000">
                <a:solidFill>
                  <a:srgbClr val="ff9900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Новгород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6" name="">
            <a:hlinkClick r:id="" action="ppaction://hlinkshowjump?jump=nextslide"/>
          </p:cNvPr>
          <p:cNvSpPr/>
          <p:nvPr/>
        </p:nvSpPr>
        <p:spPr>
          <a:xfrm>
            <a:off x="8244000" y="6165720"/>
            <a:ext cx="649080" cy="432000"/>
          </a:xfrm>
          <a:custGeom>
            <a:avLst/>
            <a:gdLst>
              <a:gd name="textAreaLeft" fmla="*/ 27720 w 649080"/>
              <a:gd name="textAreaRight" fmla="*/ 621360 w 6490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2445" h="21600">
                <a:moveTo>
                  <a:pt x="0" y="0"/>
                </a:moveTo>
                <a:lnTo>
                  <a:pt x="32445" y="0"/>
                </a:lnTo>
                <a:lnTo>
                  <a:pt x="32445" y="21600"/>
                </a:lnTo>
                <a:lnTo>
                  <a:pt x="0" y="21600"/>
                </a:lnTo>
                <a:close/>
              </a:path>
              <a:path fill="lightenLess" w="32445" h="21600">
                <a:moveTo>
                  <a:pt x="0" y="0"/>
                </a:moveTo>
                <a:lnTo>
                  <a:pt x="32445" y="0"/>
                </a:lnTo>
                <a:lnTo>
                  <a:pt x="31045" y="1400"/>
                </a:lnTo>
                <a:lnTo>
                  <a:pt x="1400" y="1400"/>
                </a:lnTo>
                <a:close/>
              </a:path>
              <a:path fill="darken" w="32445" h="21600">
                <a:moveTo>
                  <a:pt x="32445" y="0"/>
                </a:moveTo>
                <a:lnTo>
                  <a:pt x="32445" y="21600"/>
                </a:lnTo>
                <a:lnTo>
                  <a:pt x="31045" y="20200"/>
                </a:lnTo>
                <a:lnTo>
                  <a:pt x="31045" y="1400"/>
                </a:lnTo>
                <a:close/>
              </a:path>
              <a:path fill="darkenLess" w="32445" h="21600">
                <a:moveTo>
                  <a:pt x="324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45" y="20200"/>
                </a:lnTo>
                <a:close/>
              </a:path>
              <a:path fill="lighten" w="324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45" h="21600">
                <a:moveTo>
                  <a:pt x="9216" y="3794"/>
                </a:moveTo>
                <a:lnTo>
                  <a:pt x="23229" y="10800"/>
                </a:lnTo>
                <a:lnTo>
                  <a:pt x="9216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ак звали сына Юрия Долгорукого, князя Владимирского, при котором в городе были возведены Успенский собор и церковь Покрова на Нерли?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Изяслав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Ярослав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Андрей Боголюбский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Мстислав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5" name="">
            <a:hlinkClick r:id="rId1" action="ppaction://hlinksldjump"/>
          </p:cNvPr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2" name="09.%20Who%20Correct.wav"/>
      </p:stSnd>
    </p:sndAc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33520" y="4751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33520" y="374328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edfad2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ак звали сына Юрия Долгорукого, князя Владимирского, при котором в городе были возведены Успенский собор и церковь Покрова на Нерли?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1" lang="ru-RU" sz="4800" spc="-1" strike="noStrike" baseline="10000">
                <a:solidFill>
                  <a:srgbClr val="ff9900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Изяслав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1" lang="ru-RU" sz="4800" spc="-1" strike="noStrike" baseline="10000">
                <a:solidFill>
                  <a:srgbClr val="ff9900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Ярослав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ru-RU" sz="5400" spc="-1" strike="noStrike">
                <a:solidFill>
                  <a:srgbClr val="990000"/>
                </a:solidFill>
                <a:latin typeface="Arial"/>
              </a:rPr>
              <a:t>Андрей Боголюбский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1" lang="ru-RU" sz="4800" spc="-1" strike="noStrike" baseline="10000">
                <a:solidFill>
                  <a:srgbClr val="ff9900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Мстислав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93" name="">
            <a:hlinkClick r:id="" action="ppaction://hlinkshowjump?jump=nextslide"/>
          </p:cNvPr>
          <p:cNvSpPr/>
          <p:nvPr/>
        </p:nvSpPr>
        <p:spPr>
          <a:xfrm>
            <a:off x="8244000" y="6165720"/>
            <a:ext cx="649080" cy="432000"/>
          </a:xfrm>
          <a:custGeom>
            <a:avLst/>
            <a:gdLst>
              <a:gd name="textAreaLeft" fmla="*/ 27720 w 649080"/>
              <a:gd name="textAreaRight" fmla="*/ 621360 w 6490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2445" h="21600">
                <a:moveTo>
                  <a:pt x="0" y="0"/>
                </a:moveTo>
                <a:lnTo>
                  <a:pt x="32445" y="0"/>
                </a:lnTo>
                <a:lnTo>
                  <a:pt x="32445" y="21600"/>
                </a:lnTo>
                <a:lnTo>
                  <a:pt x="0" y="21600"/>
                </a:lnTo>
                <a:close/>
              </a:path>
              <a:path fill="lightenLess" w="32445" h="21600">
                <a:moveTo>
                  <a:pt x="0" y="0"/>
                </a:moveTo>
                <a:lnTo>
                  <a:pt x="32445" y="0"/>
                </a:lnTo>
                <a:lnTo>
                  <a:pt x="31045" y="1400"/>
                </a:lnTo>
                <a:lnTo>
                  <a:pt x="1400" y="1400"/>
                </a:lnTo>
                <a:close/>
              </a:path>
              <a:path fill="darken" w="32445" h="21600">
                <a:moveTo>
                  <a:pt x="32445" y="0"/>
                </a:moveTo>
                <a:lnTo>
                  <a:pt x="32445" y="21600"/>
                </a:lnTo>
                <a:lnTo>
                  <a:pt x="31045" y="20200"/>
                </a:lnTo>
                <a:lnTo>
                  <a:pt x="31045" y="1400"/>
                </a:lnTo>
                <a:close/>
              </a:path>
              <a:path fill="darkenLess" w="32445" h="21600">
                <a:moveTo>
                  <a:pt x="324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45" y="20200"/>
                </a:lnTo>
                <a:close/>
              </a:path>
              <a:path fill="lighten" w="324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45" h="21600">
                <a:moveTo>
                  <a:pt x="9216" y="3794"/>
                </a:moveTo>
                <a:lnTo>
                  <a:pt x="23229" y="10800"/>
                </a:lnTo>
                <a:lnTo>
                  <a:pt x="9216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" descr=""/>
          <p:cNvPicPr/>
          <p:nvPr/>
        </p:nvPicPr>
        <p:blipFill>
          <a:blip r:embed="rId1"/>
          <a:stretch/>
        </p:blipFill>
        <p:spPr>
          <a:xfrm>
            <a:off x="2700360" y="62064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 txBox="1"/>
          <p:nvPr/>
        </p:nvSpPr>
        <p:spPr>
          <a:xfrm>
            <a:off x="1476360" y="4221000"/>
            <a:ext cx="648036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66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твет неверный!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66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96" name="">
            <a:hlinkClick r:id="" action="ppaction://hlinkshowjump?jump=previousslide"/>
          </p:cNvPr>
          <p:cNvSpPr/>
          <p:nvPr/>
        </p:nvSpPr>
        <p:spPr>
          <a:xfrm>
            <a:off x="250920" y="595008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7493"/>
                </a:moveTo>
                <a:lnTo>
                  <a:pt x="8519" y="7493"/>
                </a:lnTo>
                <a:lnTo>
                  <a:pt x="8519" y="12828"/>
                </a:lnTo>
                <a:cubicBezTo>
                  <a:pt x="8519" y="13751"/>
                  <a:pt x="9320" y="14482"/>
                  <a:pt x="10356" y="14482"/>
                </a:cubicBezTo>
                <a:lnTo>
                  <a:pt x="12018" y="14482"/>
                </a:lnTo>
                <a:cubicBezTo>
                  <a:pt x="13054" y="14482"/>
                  <a:pt x="13854" y="13751"/>
                  <a:pt x="13854" y="12828"/>
                </a:cubicBezTo>
                <a:lnTo>
                  <a:pt x="13854" y="7493"/>
                </a:lnTo>
                <a:lnTo>
                  <a:pt x="12018" y="7493"/>
                </a:lnTo>
                <a:lnTo>
                  <a:pt x="15526" y="3985"/>
                </a:lnTo>
                <a:lnTo>
                  <a:pt x="19199" y="7493"/>
                </a:lnTo>
                <a:lnTo>
                  <a:pt x="17362" y="7493"/>
                </a:lnTo>
                <a:lnTo>
                  <a:pt x="17362" y="12828"/>
                </a:lnTo>
                <a:cubicBezTo>
                  <a:pt x="17362" y="15596"/>
                  <a:pt x="14786" y="18155"/>
                  <a:pt x="12018" y="18155"/>
                </a:cubicBezTo>
                <a:lnTo>
                  <a:pt x="10356" y="18155"/>
                </a:lnTo>
                <a:cubicBezTo>
                  <a:pt x="7588" y="18155"/>
                  <a:pt x="5012" y="15596"/>
                  <a:pt x="5012" y="12828"/>
                </a:cubicBez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5148360" y="1341360"/>
            <a:ext cx="3816360" cy="3816360"/>
          </a:xfrm>
          <a:prstGeom prst="wedgeEllipseCallout">
            <a:avLst>
              <a:gd name="adj1" fmla="val -76995"/>
              <a:gd name="adj2" fmla="val 19342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>
            <a:off x="1116000" y="2276640"/>
            <a:ext cx="3308400" cy="408600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 txBox="1"/>
          <p:nvPr/>
        </p:nvSpPr>
        <p:spPr>
          <a:xfrm>
            <a:off x="5508720" y="2708280"/>
            <a:ext cx="3095640" cy="122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тлично!</a:t>
            </a:r>
            <a:endParaRPr b="1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В какой город был приглашён княжить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варяг Рюрик?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38080" y="2852640"/>
            <a:ext cx="7981920" cy="38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4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4800" spc="-1" strike="noStrike" u="sng">
                <a:solidFill>
                  <a:srgbClr val="cc99ff"/>
                </a:solidFill>
                <a:uFillTx/>
                <a:latin typeface="Arial"/>
                <a:hlinkClick r:id="rId1" action="ppaction://hlinksldjump"/>
              </a:rPr>
              <a:t>Киев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4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4800" spc="-1" strike="noStrike" u="sng">
                <a:solidFill>
                  <a:srgbClr val="cc99ff"/>
                </a:solidFill>
                <a:uFillTx/>
                <a:latin typeface="Arial"/>
                <a:hlinkClick r:id="rId2" action="ppaction://hlinksldjump"/>
              </a:rPr>
              <a:t>Изборск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4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4800" spc="-1" strike="noStrike" u="sng">
                <a:solidFill>
                  <a:srgbClr val="cc99ff"/>
                </a:solidFill>
                <a:uFillTx/>
                <a:latin typeface="Arial"/>
                <a:hlinkClick r:id="rId3" action="ppaction://hlinksldjump"/>
              </a:rPr>
              <a:t>Новгород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4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4800" spc="-1" strike="noStrike" u="sng">
                <a:solidFill>
                  <a:srgbClr val="cc99ff"/>
                </a:solidFill>
                <a:uFillTx/>
                <a:latin typeface="Arial"/>
                <a:hlinkClick r:id="rId4" action="ppaction://hlinksldjump"/>
              </a:rPr>
              <a:t>Ладога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0" name="">
            <a:hlinkClick r:id="rId5" action="ppaction://hlinksldjump"/>
          </p:cNvPr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6" name="09.%20Who%20Correct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edfad2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В какой город был приглашён княжить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варяг Рюрик?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Киев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Изборск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Новгород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Ладога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8" name="">
            <a:hlinkClick r:id="" action="ppaction://hlinkshowjump?jump=nextslide"/>
          </p:cNvPr>
          <p:cNvSpPr/>
          <p:nvPr/>
        </p:nvSpPr>
        <p:spPr>
          <a:xfrm>
            <a:off x="8317080" y="6165720"/>
            <a:ext cx="647640" cy="503280"/>
          </a:xfrm>
          <a:custGeom>
            <a:avLst/>
            <a:gdLst>
              <a:gd name="textAreaLeft" fmla="*/ 32400 w 647640"/>
              <a:gd name="textAreaRight" fmla="*/ 615240 w 64764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7791" h="21600">
                <a:moveTo>
                  <a:pt x="0" y="0"/>
                </a:moveTo>
                <a:lnTo>
                  <a:pt x="27791" y="0"/>
                </a:lnTo>
                <a:lnTo>
                  <a:pt x="27791" y="21600"/>
                </a:lnTo>
                <a:lnTo>
                  <a:pt x="0" y="21600"/>
                </a:lnTo>
                <a:close/>
              </a:path>
              <a:path fill="lightenLess" w="27791" h="21600">
                <a:moveTo>
                  <a:pt x="0" y="0"/>
                </a:moveTo>
                <a:lnTo>
                  <a:pt x="27791" y="0"/>
                </a:lnTo>
                <a:lnTo>
                  <a:pt x="26391" y="1400"/>
                </a:lnTo>
                <a:lnTo>
                  <a:pt x="1400" y="1400"/>
                </a:lnTo>
                <a:close/>
              </a:path>
              <a:path fill="darken" w="27791" h="21600">
                <a:moveTo>
                  <a:pt x="27791" y="0"/>
                </a:moveTo>
                <a:lnTo>
                  <a:pt x="27791" y="21600"/>
                </a:lnTo>
                <a:lnTo>
                  <a:pt x="26391" y="20200"/>
                </a:lnTo>
                <a:lnTo>
                  <a:pt x="26391" y="1400"/>
                </a:lnTo>
                <a:close/>
              </a:path>
              <a:path fill="darkenLess" w="27791" h="21600">
                <a:moveTo>
                  <a:pt x="27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91" y="20200"/>
                </a:lnTo>
                <a:close/>
              </a:path>
              <a:path fill="lighten" w="27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91" h="21600">
                <a:moveTo>
                  <a:pt x="6889" y="3794"/>
                </a:moveTo>
                <a:lnTo>
                  <a:pt x="20902" y="10800"/>
                </a:lnTo>
                <a:lnTo>
                  <a:pt x="6889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Как называлась столица древлян, сожжённая княгиней Ольгой в качестве мести за убийство её мужа князя Игоря?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5400" spc="-1" strike="noStrike" u="sng">
                <a:solidFill>
                  <a:srgbClr val="cc99ff"/>
                </a:solidFill>
                <a:uFillTx/>
                <a:latin typeface="Arial"/>
                <a:hlinkClick r:id="rId1" action="ppaction://hlinksldjump"/>
              </a:rPr>
              <a:t>Переяславль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5400" spc="-1" strike="noStrike" u="sng">
                <a:solidFill>
                  <a:srgbClr val="cc99ff"/>
                </a:solidFill>
                <a:uFillTx/>
                <a:latin typeface="Arial"/>
                <a:hlinkClick r:id="rId2" action="ppaction://hlinksldjump"/>
              </a:rPr>
              <a:t>Искоротень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Любеч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Чернигов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7" name="">
            <a:hlinkClick r:id="rId3" action="ppaction://hlinksldjump"/>
          </p:cNvPr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4" name="09.%20Who%20Correct.wav"/>
      </p:stSnd>
    </p:sndAc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33520" y="4751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33520" y="374328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edfad2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Как называлась столица древлян, сожжённая княгиней Ольгой в качестве мести за убийство её мужа князя Игоря?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Переяславль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Искоротень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Любеч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Чернигов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5" name="">
            <a:hlinkClick r:id="" action="ppaction://hlinkshowjump?jump=nextslide"/>
          </p:cNvPr>
          <p:cNvSpPr/>
          <p:nvPr/>
        </p:nvSpPr>
        <p:spPr>
          <a:xfrm>
            <a:off x="8244000" y="6165720"/>
            <a:ext cx="649080" cy="432000"/>
          </a:xfrm>
          <a:custGeom>
            <a:avLst/>
            <a:gdLst>
              <a:gd name="textAreaLeft" fmla="*/ 27720 w 649080"/>
              <a:gd name="textAreaRight" fmla="*/ 621360 w 6490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2445" h="21600">
                <a:moveTo>
                  <a:pt x="0" y="0"/>
                </a:moveTo>
                <a:lnTo>
                  <a:pt x="32445" y="0"/>
                </a:lnTo>
                <a:lnTo>
                  <a:pt x="32445" y="21600"/>
                </a:lnTo>
                <a:lnTo>
                  <a:pt x="0" y="21600"/>
                </a:lnTo>
                <a:close/>
              </a:path>
              <a:path fill="lightenLess" w="32445" h="21600">
                <a:moveTo>
                  <a:pt x="0" y="0"/>
                </a:moveTo>
                <a:lnTo>
                  <a:pt x="32445" y="0"/>
                </a:lnTo>
                <a:lnTo>
                  <a:pt x="31045" y="1400"/>
                </a:lnTo>
                <a:lnTo>
                  <a:pt x="1400" y="1400"/>
                </a:lnTo>
                <a:close/>
              </a:path>
              <a:path fill="darken" w="32445" h="21600">
                <a:moveTo>
                  <a:pt x="32445" y="0"/>
                </a:moveTo>
                <a:lnTo>
                  <a:pt x="32445" y="21600"/>
                </a:lnTo>
                <a:lnTo>
                  <a:pt x="31045" y="20200"/>
                </a:lnTo>
                <a:lnTo>
                  <a:pt x="31045" y="1400"/>
                </a:lnTo>
                <a:close/>
              </a:path>
              <a:path fill="darkenLess" w="32445" h="21600">
                <a:moveTo>
                  <a:pt x="324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45" y="20200"/>
                </a:lnTo>
                <a:close/>
              </a:path>
              <a:path fill="lighten" w="324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45" h="21600">
                <a:moveTo>
                  <a:pt x="9216" y="3794"/>
                </a:moveTo>
                <a:lnTo>
                  <a:pt x="23229" y="10800"/>
                </a:lnTo>
                <a:lnTo>
                  <a:pt x="9216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Назовите год</a:t>
            </a:r>
            <a:br>
              <a:rPr sz="4800"/>
            </a:b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основания Москвы</a:t>
            </a:r>
            <a:endParaRPr b="0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047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147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247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1249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4" name="">
            <a:hlinkClick r:id="rId1" action="ppaction://hlinksldjump"/>
          </p:cNvPr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2" name="09.%20Who%20Correct.wav"/>
      </p:stSnd>
    </p:sndAc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33520" y="4751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374328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edfad2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Назовите год</a:t>
            </a:r>
            <a:br>
              <a:rPr sz="4800"/>
            </a:b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основания Москвы</a:t>
            </a:r>
            <a:endParaRPr b="0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1047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1147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1247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1249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2" name="">
            <a:hlinkClick r:id="" action="ppaction://hlinkshowjump?jump=nextslide"/>
          </p:cNvPr>
          <p:cNvSpPr/>
          <p:nvPr/>
        </p:nvSpPr>
        <p:spPr>
          <a:xfrm>
            <a:off x="8244000" y="6165720"/>
            <a:ext cx="649080" cy="432000"/>
          </a:xfrm>
          <a:custGeom>
            <a:avLst/>
            <a:gdLst>
              <a:gd name="textAreaLeft" fmla="*/ 27720 w 649080"/>
              <a:gd name="textAreaRight" fmla="*/ 621360 w 6490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2445" h="21600">
                <a:moveTo>
                  <a:pt x="0" y="0"/>
                </a:moveTo>
                <a:lnTo>
                  <a:pt x="32445" y="0"/>
                </a:lnTo>
                <a:lnTo>
                  <a:pt x="32445" y="21600"/>
                </a:lnTo>
                <a:lnTo>
                  <a:pt x="0" y="21600"/>
                </a:lnTo>
                <a:close/>
              </a:path>
              <a:path fill="lightenLess" w="32445" h="21600">
                <a:moveTo>
                  <a:pt x="0" y="0"/>
                </a:moveTo>
                <a:lnTo>
                  <a:pt x="32445" y="0"/>
                </a:lnTo>
                <a:lnTo>
                  <a:pt x="31045" y="1400"/>
                </a:lnTo>
                <a:lnTo>
                  <a:pt x="1400" y="1400"/>
                </a:lnTo>
                <a:close/>
              </a:path>
              <a:path fill="darken" w="32445" h="21600">
                <a:moveTo>
                  <a:pt x="32445" y="0"/>
                </a:moveTo>
                <a:lnTo>
                  <a:pt x="32445" y="21600"/>
                </a:lnTo>
                <a:lnTo>
                  <a:pt x="31045" y="20200"/>
                </a:lnTo>
                <a:lnTo>
                  <a:pt x="31045" y="1400"/>
                </a:lnTo>
                <a:close/>
              </a:path>
              <a:path fill="darkenLess" w="32445" h="21600">
                <a:moveTo>
                  <a:pt x="324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45" y="20200"/>
                </a:lnTo>
                <a:close/>
              </a:path>
              <a:path fill="lighten" w="324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45" h="21600">
                <a:moveTo>
                  <a:pt x="9216" y="3794"/>
                </a:moveTo>
                <a:lnTo>
                  <a:pt x="23229" y="10800"/>
                </a:lnTo>
                <a:lnTo>
                  <a:pt x="9216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Как звали князя Галицкого, современника Александра Невского, одного из самых блестящих русских князей?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5400" spc="-1" strike="noStrike" u="sng">
                <a:solidFill>
                  <a:srgbClr val="cc99ff"/>
                </a:solidFill>
                <a:uFillTx/>
                <a:latin typeface="Arial"/>
                <a:hlinkClick r:id="rId1" action="ppaction://hlinksldjump"/>
              </a:rPr>
              <a:t>Даниил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Роман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Юрий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Лев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1" name="">
            <a:hlinkClick r:id="rId2" action="ppaction://hlinksldjump"/>
          </p:cNvPr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3" name="09.%20Who%20Correct.wav"/>
      </p:stSnd>
    </p:sndAc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edfad2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33520" y="4751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33520" y="374328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Как звали князя Галицкого, современника Александра Невского, одного из самых блестящих русских князей?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Даниил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1" lang="ru-RU" sz="4800" spc="-1" strike="noStrike" baseline="10000">
                <a:solidFill>
                  <a:srgbClr val="ff9900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Роман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1" lang="ru-RU" sz="4800" spc="-1" strike="noStrike" baseline="10000">
                <a:solidFill>
                  <a:srgbClr val="ff9900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Юрий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1" lang="ru-RU" sz="4800" spc="-1" strike="noStrike" baseline="10000">
                <a:solidFill>
                  <a:srgbClr val="ff9900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Лев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9" name="">
            <a:hlinkClick r:id="" action="ppaction://hlinkshowjump?jump=nextslide"/>
          </p:cNvPr>
          <p:cNvSpPr/>
          <p:nvPr/>
        </p:nvSpPr>
        <p:spPr>
          <a:xfrm>
            <a:off x="8244000" y="6165720"/>
            <a:ext cx="649080" cy="432000"/>
          </a:xfrm>
          <a:custGeom>
            <a:avLst/>
            <a:gdLst>
              <a:gd name="textAreaLeft" fmla="*/ 27720 w 649080"/>
              <a:gd name="textAreaRight" fmla="*/ 621360 w 6490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2445" h="21600">
                <a:moveTo>
                  <a:pt x="0" y="0"/>
                </a:moveTo>
                <a:lnTo>
                  <a:pt x="32445" y="0"/>
                </a:lnTo>
                <a:lnTo>
                  <a:pt x="32445" y="21600"/>
                </a:lnTo>
                <a:lnTo>
                  <a:pt x="0" y="21600"/>
                </a:lnTo>
                <a:close/>
              </a:path>
              <a:path fill="lightenLess" w="32445" h="21600">
                <a:moveTo>
                  <a:pt x="0" y="0"/>
                </a:moveTo>
                <a:lnTo>
                  <a:pt x="32445" y="0"/>
                </a:lnTo>
                <a:lnTo>
                  <a:pt x="31045" y="1400"/>
                </a:lnTo>
                <a:lnTo>
                  <a:pt x="1400" y="1400"/>
                </a:lnTo>
                <a:close/>
              </a:path>
              <a:path fill="darken" w="32445" h="21600">
                <a:moveTo>
                  <a:pt x="32445" y="0"/>
                </a:moveTo>
                <a:lnTo>
                  <a:pt x="32445" y="21600"/>
                </a:lnTo>
                <a:lnTo>
                  <a:pt x="31045" y="20200"/>
                </a:lnTo>
                <a:lnTo>
                  <a:pt x="31045" y="1400"/>
                </a:lnTo>
                <a:close/>
              </a:path>
              <a:path fill="darkenLess" w="32445" h="21600">
                <a:moveTo>
                  <a:pt x="324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45" y="20200"/>
                </a:lnTo>
                <a:close/>
              </a:path>
              <a:path fill="lighten" w="324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45" h="21600">
                <a:moveTo>
                  <a:pt x="9216" y="3794"/>
                </a:moveTo>
                <a:lnTo>
                  <a:pt x="23229" y="10800"/>
                </a:lnTo>
                <a:lnTo>
                  <a:pt x="9216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8T19:11:23Z</dcterms:created>
  <dc:creator>Атлон</dc:creator>
  <dc:description/>
  <dc:language>en-US</dc:language>
  <cp:lastModifiedBy>Домашний</cp:lastModifiedBy>
  <dcterms:modified xsi:type="dcterms:W3CDTF">2009-04-22T20:01:23Z</dcterms:modified>
  <cp:revision>26</cp:revision>
  <dc:subject/>
  <dc:title>Past Simple with Pets</dc:title>
</cp:coreProperties>
</file>