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5.png" ContentType="image/png"/>
  <Override PartName="/ppt/media/image2.gif" ContentType="image/gif"/>
  <Override PartName="/ppt/media/Tarda.wav" ContentType="audio/x-wav"/>
  <Override PartName="/ppt/media/explode.wav" ContentType="audio/x-wav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C86-DCE0-43F1-8734-8526CC6D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F73-405C-496E-A2D5-67779C2F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02E-96D0-4075-A9F8-A771C9C8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AEB-CC1A-447F-B305-01A1ABC7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818F-1B8A-4925-9A6E-F680016A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F4B3-E8A8-4F49-BE45-D06B3EC8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EBEB-F5F2-447E-A875-7776D090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4F24-19DB-4A4D-BE97-C9355022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6B3B-B751-4556-90E4-E98077A2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F9CB-C435-4BEF-8DD5-BF20DFED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3CE0-D8BC-48F7-A375-AE452714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6A8-B3D4-4070-BCED-0E76BA00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8B8B-F304-48F2-8891-403AFA72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01B6-29D5-4B29-BA1D-35ED510D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C984-F85B-4560-A84E-65D918D3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1E15-029D-41AC-870B-B6ABC8EC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D3B6-4226-474D-A163-54B443E7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578-CFFE-426C-9E79-FBA2D45E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DCF-ECCF-4BAF-9362-B590D58D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5C1-4CEA-47A8-80ED-F9CE3352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AB5-4D72-45AC-B85D-93B30F12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703-866E-49E0-87EB-EEF5D6B3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7D6-4E39-49D6-A959-61C129FE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B4E-D3B6-4B3B-9905-00067EBE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FB96-33E8-4CBF-9BB0-99E036E3363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35B9-5F3E-44D3-ADBF-FF1FCD9EDC4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481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Историческая викторина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367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читель Конищева Н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раснодарский край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Тбилисский райо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. Нововладимировска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У «СОШ №10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36720" cy="186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6720" y="1197000"/>
            <a:ext cx="2897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476360" y="422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 неверны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25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48360" y="1341360"/>
            <a:ext cx="3816360" cy="3816360"/>
          </a:xfrm>
          <a:prstGeom prst="wedgeEllipseCallout">
            <a:avLst>
              <a:gd name="adj1" fmla="val -76995"/>
              <a:gd name="adj2" fmla="val 193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308400" cy="40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508720" y="2708280"/>
            <a:ext cx="309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Кие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зборск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овгород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4" action="ppaction://hlinksldjump"/>
              </a:rPr>
              <a:t>Ладог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бор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адог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9:11:23Z</dcterms:created>
  <dc:creator>Атлон</dc:creator>
  <dc:description/>
  <dc:language>en-US</dc:language>
  <cp:lastModifiedBy>Домашний</cp:lastModifiedBy>
  <dcterms:modified xsi:type="dcterms:W3CDTF">2009-04-22T20:01:23Z</dcterms:modified>
  <cp:revision>26</cp:revision>
  <dc:subject/>
  <dc:title>Past Simple with Pets</dc:title>
</cp:coreProperties>
</file>