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09.%20Who%20Correct.wav" ContentType="audio/x-wav"/>
  <Override PartName="/ppt/media/image5.png" ContentType="image/png"/>
  <Override PartName="/ppt/media/image2.gif" ContentType="image/gif"/>
  <Override PartName="/ppt/media/Tarda.wav" ContentType="audio/x-wav"/>
  <Override PartName="/ppt/media/explode.wav" ContentType="audio/x-wav"/>
  <Override PartName="/ppt/media/image3.png" ContentType="image/png"/>
  <Override PartName="/ppt/media/image4.png" ContentType="image/png"/>
  <Override PartName="/ppt/media/chimes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F4C6-2376-4884-906D-9DAA8D36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AE93-4244-442C-8873-FAB7CE49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7B92-D86C-4BAD-9EF0-77C2BBA9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20F4-C653-4C1C-B031-F489CEC6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ACD9-76C8-4A37-A57D-6A0382F4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DEBF-5742-4715-BE82-DA87B41E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01AB-9B57-4051-9652-09E4D7AD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2F24-46A6-4263-8811-68591E61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609B-F96B-4B28-8DB1-4AAD0434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62EE-20C7-48B5-98F7-A315BC0D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9639-34A5-4382-80A6-63A634D6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5A1C-5F63-4041-9FFA-14273A89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308F-CE46-4849-A3CC-6B484AF2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4191-50D7-4E14-9C66-F2F115BF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BEA8-7016-45EC-849A-5B224B29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3702-230D-45FA-818A-D5604D4C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C721-6537-4838-A385-020EC99B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56A2-2746-4395-B537-B6DAA471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B194-76F8-458A-8775-519E10DB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C0A7-7D6C-4DB0-AB13-83453856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9B68-8207-4CFF-A92C-1C856D51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A48A-35B4-4F58-892F-19F5DA2E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DFF6-0E99-478B-B8C7-F16C3453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D551-E114-4794-90B6-E9A29703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8376-CFF3-48E5-A47D-6400674FB0E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6499-4832-4702-8B0A-3CBFA578D2F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3.xml"/><Relationship Id="rId4" Type="http://schemas.openxmlformats.org/officeDocument/2006/relationships/slide" Target="slide14.xml"/><Relationship Id="rId5" Type="http://schemas.openxmlformats.org/officeDocument/2006/relationships/slide" Target=""/><Relationship Id="rId6" Type="http://schemas.openxmlformats.org/officeDocument/2006/relationships/audio" Target="../media/09.%20Who%20Correct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5.xml"/><Relationship Id="rId3" Type="http://schemas.openxmlformats.org/officeDocument/2006/relationships/slide" Target=""/><Relationship Id="rId4" Type="http://schemas.openxmlformats.org/officeDocument/2006/relationships/audio" Target="../media/09.%20Who%20Correct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7280" y="549360"/>
            <a:ext cx="64818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Историческая викторина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68360" y="3068640"/>
            <a:ext cx="63676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Учитель Конищева Н.В.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Краснодарский край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Тбилисский район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Ст. Нововладимировская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ОУ «СОШ №10»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810108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736720" cy="1863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246720" y="1197000"/>
            <a:ext cx="28972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город в Древней Руси «крестил» огнём и мечом дядя князя Владимира Добрыня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молен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8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город в Древней Руси «крестил» огнём и мечом дядя князя Владимира Добрыня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Смолен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звали сына Юрия Долгорукого, князя Владимирского, при котором в городе были возведены Успенский собор и церковь Покрова на Нерл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зя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Яро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Андрей Боголюбск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Мсти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5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звали сына Юрия Долгорукого, князя Владимирского, при котором в городе были возведены Успенский собор и церковь Покрова на Нерл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зя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Яро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ru-RU" sz="5400" spc="-1" strike="noStrike">
                <a:solidFill>
                  <a:srgbClr val="990000"/>
                </a:solidFill>
                <a:latin typeface="Arial"/>
              </a:rPr>
              <a:t>Андрей Боголюбск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Мсти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3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2700360" y="6206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1476360" y="4221000"/>
            <a:ext cx="6480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вет неверный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6" name="">
            <a:hlinkClick r:id="" action="ppaction://hlinkshowjump?jump=previousslide"/>
          </p:cNvPr>
          <p:cNvSpPr/>
          <p:nvPr/>
        </p:nvSpPr>
        <p:spPr>
          <a:xfrm>
            <a:off x="2509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7493"/>
                </a:moveTo>
                <a:lnTo>
                  <a:pt x="8519" y="7493"/>
                </a:lnTo>
                <a:lnTo>
                  <a:pt x="8519" y="12828"/>
                </a:lnTo>
                <a:cubicBezTo>
                  <a:pt x="8519" y="13751"/>
                  <a:pt x="9320" y="14482"/>
                  <a:pt x="10356" y="14482"/>
                </a:cubicBezTo>
                <a:lnTo>
                  <a:pt x="12018" y="14482"/>
                </a:lnTo>
                <a:cubicBezTo>
                  <a:pt x="13054" y="14482"/>
                  <a:pt x="13854" y="13751"/>
                  <a:pt x="13854" y="12828"/>
                </a:cubicBezTo>
                <a:lnTo>
                  <a:pt x="13854" y="7493"/>
                </a:lnTo>
                <a:lnTo>
                  <a:pt x="12018" y="7493"/>
                </a:lnTo>
                <a:lnTo>
                  <a:pt x="15526" y="3985"/>
                </a:lnTo>
                <a:lnTo>
                  <a:pt x="19199" y="7493"/>
                </a:lnTo>
                <a:lnTo>
                  <a:pt x="17362" y="7493"/>
                </a:lnTo>
                <a:lnTo>
                  <a:pt x="17362" y="12828"/>
                </a:lnTo>
                <a:cubicBezTo>
                  <a:pt x="17362" y="15596"/>
                  <a:pt x="14786" y="18155"/>
                  <a:pt x="12018" y="18155"/>
                </a:cubicBezTo>
                <a:lnTo>
                  <a:pt x="10356" y="18155"/>
                </a:lnTo>
                <a:cubicBezTo>
                  <a:pt x="7588" y="18155"/>
                  <a:pt x="5012" y="15596"/>
                  <a:pt x="5012" y="12828"/>
                </a:cubicBez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148360" y="1341360"/>
            <a:ext cx="3816360" cy="3816360"/>
          </a:xfrm>
          <a:prstGeom prst="wedgeEllipseCallout">
            <a:avLst>
              <a:gd name="adj1" fmla="val -76995"/>
              <a:gd name="adj2" fmla="val 1934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3308400" cy="4086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5508720" y="2708280"/>
            <a:ext cx="30956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лично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какой город был приглашён княжить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ряг Рюрик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852640"/>
            <a:ext cx="79819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Киев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Изборск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3" action="ppaction://hlinksldjump"/>
              </a:rPr>
              <a:t>Новгород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4" action="ppaction://hlinksldjump"/>
              </a:rPr>
              <a:t>Ладога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>
            <a:hlinkClick r:id="rId5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09.%20Who%20Correc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какой город был приглашён княжить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ряг Рюрик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збор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адога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называлась столица древлян, сожжённая княгиней Ольгой в качестве мести за убийство её мужа князя Игоря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Переяславл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Искоротен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Любеч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09.%20Who%20Correct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называлась столица древлян, сожжённая княгиней Ольгой в качестве мести за убийство её мужа князя Игоря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Переяславл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скоротен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юбеч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азовите год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снования Москвы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1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1249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азовите год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снования Москвы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0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1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2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249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звали князя Галицкого, современника Александра Невского, одного из самых блестящих русских князей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Даниил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ома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Юр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Л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1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звали князя Галицкого, современника Александра Невского, одного из самых блестящих русских князей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Даниил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Рома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Юр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9:11:23Z</dcterms:created>
  <dc:creator>Атлон</dc:creator>
  <dc:description/>
  <dc:language>en-US</dc:language>
  <cp:lastModifiedBy>Домашний</cp:lastModifiedBy>
  <dcterms:modified xsi:type="dcterms:W3CDTF">2009-04-22T20:01:23Z</dcterms:modified>
  <cp:revision>26</cp:revision>
  <dc:subject/>
  <dc:title>Past Simple with Pets</dc:title>
</cp:coreProperties>
</file>