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09.%20Who%20Correct.wav" ContentType="audio/x-wav"/>
  <Override PartName="/ppt/media/image5.png" ContentType="image/png"/>
  <Override PartName="/ppt/media/image2.gif" ContentType="image/gif"/>
  <Override PartName="/ppt/media/Tarda.wav" ContentType="audio/x-wav"/>
  <Override PartName="/ppt/media/explode.wav" ContentType="audio/x-wav"/>
  <Override PartName="/ppt/media/image3.png" ContentType="image/png"/>
  <Override PartName="/ppt/media/image4.png" ContentType="image/png"/>
  <Override PartName="/ppt/media/chimes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7702-5C1B-41D1-B598-E48BCCBF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BD93-BA7A-4553-B945-24E419F5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0371-C6EC-490F-A94F-F0D6CA37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328B-AD51-435F-AD3A-BB84F1A9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CB17-757B-48CC-A478-CDE5C6A3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9BC3-9789-4D08-B74F-31139FAF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FC52-404A-4C4B-B3B2-BD45D022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5AA0-FDF4-463D-A9EF-E5E29885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2C57-5AEA-4D48-B4D4-5347DF1E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59A3-4C2D-406E-95F5-16D93072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8C04-4915-4D89-91CA-DE3AB10E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6EF9-CEE1-4194-9F91-1AA85B1B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BA46-E5BF-491E-AB7C-89781F4B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A7AA-F5DA-4E6C-BE68-EC61F2AA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252C-F894-4D88-94EA-2A17483A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A5E5-1AE1-48B8-A6BC-FE3F1176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34F5-05FC-4242-B24F-6AC4E5B4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ECB5-A053-4D72-910A-B477A5A3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AFEF-A51E-4463-889E-CA906EAA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1BE1-EF1A-40D4-9FC2-4B5348E9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2E94-BCD8-4282-B0BB-D25EF44C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6657-95FF-410A-9C01-7C019D8C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D07B-F389-485F-8566-29473E45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A495-2893-4658-BCCF-D10D8CBA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7C4D-E59F-4E49-BAEC-63090395A50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DC7F-80F0-48AC-A578-F20F417664C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3.xml"/><Relationship Id="rId4" Type="http://schemas.openxmlformats.org/officeDocument/2006/relationships/slide" Target="slide14.xml"/><Relationship Id="rId5" Type="http://schemas.openxmlformats.org/officeDocument/2006/relationships/slide" Target=""/><Relationship Id="rId6" Type="http://schemas.openxmlformats.org/officeDocument/2006/relationships/audio" Target="../media/09.%20Who%20Correct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5.xml"/><Relationship Id="rId3" Type="http://schemas.openxmlformats.org/officeDocument/2006/relationships/slide" Target=""/><Relationship Id="rId4" Type="http://schemas.openxmlformats.org/officeDocument/2006/relationships/audio" Target="../media/09.%20Who%20Correct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7280" y="549360"/>
            <a:ext cx="64818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Историческая викторина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68360" y="3068640"/>
            <a:ext cx="63676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Учитель Конищева Н.В.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Краснодарский край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Тбилисский район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Ст. Нововладимировская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ОУ «СОШ №10»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810108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736720" cy="1863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246720" y="1197000"/>
            <a:ext cx="28972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город в Древней Руси «крестил» огнём и мечом дядя князя Владимира Добрыня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молен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8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город в Древней Руси «крестил» огнём и мечом дядя князя Владимира Добрыня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Смолен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звали сына Юрия Долгорукого, князя Владимирского, при котором в городе были возведены Успенский собор и церковь Покрова на Нерл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зя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Яро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Андрей Боголюбск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Мсти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5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звали сына Юрия Долгорукого, князя Владимирского, при котором в городе были возведены Успенский собор и церковь Покрова на Нерл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зя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Яро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ru-RU" sz="5400" spc="-1" strike="noStrike">
                <a:solidFill>
                  <a:srgbClr val="990000"/>
                </a:solidFill>
                <a:latin typeface="Arial"/>
              </a:rPr>
              <a:t>Андрей Боголюбск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Мсти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3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2700360" y="6206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1476360" y="4221000"/>
            <a:ext cx="6480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вет неверный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6" name="">
            <a:hlinkClick r:id="" action="ppaction://hlinkshowjump?jump=previousslide"/>
          </p:cNvPr>
          <p:cNvSpPr/>
          <p:nvPr/>
        </p:nvSpPr>
        <p:spPr>
          <a:xfrm>
            <a:off x="2509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7493"/>
                </a:moveTo>
                <a:lnTo>
                  <a:pt x="8519" y="7493"/>
                </a:lnTo>
                <a:lnTo>
                  <a:pt x="8519" y="12828"/>
                </a:lnTo>
                <a:cubicBezTo>
                  <a:pt x="8519" y="13751"/>
                  <a:pt x="9320" y="14482"/>
                  <a:pt x="10356" y="14482"/>
                </a:cubicBezTo>
                <a:lnTo>
                  <a:pt x="12018" y="14482"/>
                </a:lnTo>
                <a:cubicBezTo>
                  <a:pt x="13054" y="14482"/>
                  <a:pt x="13854" y="13751"/>
                  <a:pt x="13854" y="12828"/>
                </a:cubicBezTo>
                <a:lnTo>
                  <a:pt x="13854" y="7493"/>
                </a:lnTo>
                <a:lnTo>
                  <a:pt x="12018" y="7493"/>
                </a:lnTo>
                <a:lnTo>
                  <a:pt x="15526" y="3985"/>
                </a:lnTo>
                <a:lnTo>
                  <a:pt x="19199" y="7493"/>
                </a:lnTo>
                <a:lnTo>
                  <a:pt x="17362" y="7493"/>
                </a:lnTo>
                <a:lnTo>
                  <a:pt x="17362" y="12828"/>
                </a:lnTo>
                <a:cubicBezTo>
                  <a:pt x="17362" y="15596"/>
                  <a:pt x="14786" y="18155"/>
                  <a:pt x="12018" y="18155"/>
                </a:cubicBezTo>
                <a:lnTo>
                  <a:pt x="10356" y="18155"/>
                </a:lnTo>
                <a:cubicBezTo>
                  <a:pt x="7588" y="18155"/>
                  <a:pt x="5012" y="15596"/>
                  <a:pt x="5012" y="12828"/>
                </a:cubicBez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148360" y="1341360"/>
            <a:ext cx="3816360" cy="3816360"/>
          </a:xfrm>
          <a:prstGeom prst="wedgeEllipseCallout">
            <a:avLst>
              <a:gd name="adj1" fmla="val -76995"/>
              <a:gd name="adj2" fmla="val 1934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3308400" cy="4086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5508720" y="2708280"/>
            <a:ext cx="30956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лично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какой город был приглашён княжить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ряг Рюрик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852640"/>
            <a:ext cx="79819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Киев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Изборск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3" action="ppaction://hlinksldjump"/>
              </a:rPr>
              <a:t>Новгород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4" action="ppaction://hlinksldjump"/>
              </a:rPr>
              <a:t>Ладога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>
            <a:hlinkClick r:id="rId5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09.%20Who%20Correc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какой город был приглашён княжить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ряг Рюрик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збор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адога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называлась столица древлян, сожжённая княгиней Ольгой в качестве мести за убийство её мужа князя Игоря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Переяславл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Искоротен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Любеч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09.%20Who%20Correct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называлась столица древлян, сожжённая княгиней Ольгой в качестве мести за убийство её мужа князя Игоря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Переяславл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скоротен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юбеч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азовите год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снования Москвы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1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1249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азовите год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снования Москвы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0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1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2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249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звали князя Галицкого, современника Александра Невского, одного из самых блестящих русских князей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Даниил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ома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Юр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Л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1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звали князя Галицкого, современника Александра Невского, одного из самых блестящих русских князей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Даниил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Рома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Юр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9:11:23Z</dcterms:created>
  <dc:creator>Атлон</dc:creator>
  <dc:description/>
  <dc:language>en-US</dc:language>
  <cp:lastModifiedBy>Домашний</cp:lastModifiedBy>
  <dcterms:modified xsi:type="dcterms:W3CDTF">2009-04-22T20:01:23Z</dcterms:modified>
  <cp:revision>26</cp:revision>
  <dc:subject/>
  <dc:title>Past Simple with Pets</dc:title>
</cp:coreProperties>
</file>