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5.png" ContentType="image/png"/>
  <Override PartName="/ppt/media/image2.gif" ContentType="image/gif"/>
  <Override PartName="/ppt/media/Tarda.wav" ContentType="audio/x-wav"/>
  <Override PartName="/ppt/media/explode.wav" ContentType="audio/x-wav"/>
  <Override PartName="/ppt/media/image3.png" ContentType="image/png"/>
  <Override PartName="/ppt/media/image4.png" ContentType="image/png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DD1-79AF-41E1-9676-53DA0871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221-F8A7-45D6-BE11-2DF7B1F0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8B4-7A9D-4847-8C5A-04AD45E5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368-8BDD-4B3C-ABD8-72609396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EB2B-109F-4F2B-89FC-452F7676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840B-A654-4638-91B6-B29E34F8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7694-AD51-4313-A173-6A3E9628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6273-5337-43B5-90F7-5DF6B5D3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7B6B-FA4D-4395-B50C-6445B13A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0124-99AB-435F-874C-06F17900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1315-BE85-4160-A6B4-211EF6F1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10C-B66E-43E9-98C9-35425CA8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66BF-8EBA-49E0-B037-EF046B69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3BF1-DEBC-4982-962E-0E05C5E9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08FD-B4DE-4EC5-AD75-D7AB4436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F912-4C6A-4C24-A2CE-422AEFAF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FED2-9993-4883-9E0D-BE61974C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1192-FD1E-4471-BBAA-F8A6F661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AFA-B991-4B6C-B697-92483AEF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7E5E-F7AA-4C78-A51F-480D0422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8CD-66CD-4805-A69E-1250FA78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78F-59C1-4CCA-BF95-42EF2252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DFF-7550-4FB3-A609-535202C4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CB9-6CC5-4DD1-B24E-2CBB517C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4535-D1AF-43BA-AA98-B38F79152A4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FD09-1E0F-4B66-BCB8-487C91EA815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3.xml"/><Relationship Id="rId4" Type="http://schemas.openxmlformats.org/officeDocument/2006/relationships/slide" Target="slide14.xml"/><Relationship Id="rId5" Type="http://schemas.openxmlformats.org/officeDocument/2006/relationships/slide" Target="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audio" Target="../media/09.%20Who%20Correct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6481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Историческая викторина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3676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Учитель Конищева Н.В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раснодарский край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Тбилисский район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т. Нововладимировская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ОУ «СОШ №10»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101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736720" cy="186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46720" y="1197000"/>
            <a:ext cx="28972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8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5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ru-RU" sz="5400" spc="-1" strike="noStrike">
                <a:solidFill>
                  <a:srgbClr val="990000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700360" y="6206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1476360" y="4221000"/>
            <a:ext cx="648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вет неверный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25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148360" y="1341360"/>
            <a:ext cx="3816360" cy="3816360"/>
          </a:xfrm>
          <a:prstGeom prst="wedgeEllipseCallout">
            <a:avLst>
              <a:gd name="adj1" fmla="val -76995"/>
              <a:gd name="adj2" fmla="val 1934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3308400" cy="4086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5508720" y="2708280"/>
            <a:ext cx="30956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лично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852640"/>
            <a:ext cx="79819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Киев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зборск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овгород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4" action="ppaction://hlinksldjump"/>
              </a:rPr>
              <a:t>Ладог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>
            <a:hlinkClick r:id="rId5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09.%20Who%20Correc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бор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адог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09.%20Who%20Correct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9:11:23Z</dcterms:created>
  <dc:creator>Атлон</dc:creator>
  <dc:description/>
  <dc:language>en-US</dc:language>
  <cp:lastModifiedBy>Домашний</cp:lastModifiedBy>
  <dcterms:modified xsi:type="dcterms:W3CDTF">2009-04-22T20:01:23Z</dcterms:modified>
  <cp:revision>26</cp:revision>
  <dc:subject/>
  <dc:title>Past Simple with Pets</dc:title>
</cp:coreProperties>
</file>