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5.png" ContentType="image/png"/>
  <Override PartName="/ppt/media/image2.gif" ContentType="image/gif"/>
  <Override PartName="/ppt/media/Tarda.wav" ContentType="audio/x-wav"/>
  <Override PartName="/ppt/media/explode.wav" ContentType="audio/x-wav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24C3-5683-4C0F-97EC-0E7A4DA8E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2739-4292-4582-AD96-81F7EA45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7AD-EE34-4C73-AD0E-1157B7F1A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230-C972-45C5-B605-79CD0C73A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5956-8EE4-4B67-B5C9-77E31747E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87ABF-94B1-4F19-8D03-8E015DB5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DC77-242D-4DE8-901F-3FE56DDB1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1A27-4BF4-498F-B1CF-101CCE150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82DC-30A6-44A9-B4A7-387683F2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8A77D-4EC5-4AF2-9213-5DAE9987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D5DF1-96BD-4F07-A742-1A89A1F3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8E8A-D86C-477D-AE79-4AB8D7923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85D7A-3554-4E0B-A21B-A1C8CDA2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4E378-AF20-48B7-9D16-4E4C03CC4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6854-C0C4-41E7-B960-4DA4CA36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C68D5-AC34-43FE-8B11-E0044F464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0FD1-AB65-4CCA-922F-8BC903F5A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E2F-AF7C-4524-BC7C-DFEB99C7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6EB-AF04-4F22-BA17-0B936640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A2A-9136-4EBC-BA76-1C51C93B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328B-2AD4-49FE-B241-4D1609EA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749-A22C-48D1-9365-4329710D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BB2B-1F40-4552-99BB-D4A396BA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927B-FDF1-4197-8A1C-59BFEADF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E15C9-DA35-44FF-AFC4-859457E0C914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A6549-E209-40E6-AC85-91E8F905C04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481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Историческая викторина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367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читель Конищева Н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раснодарский край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Тбилисский райо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. Нововладимировска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У «СОШ №10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36720" cy="186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6720" y="1197000"/>
            <a:ext cx="2897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476360" y="422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 неверны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25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48360" y="1341360"/>
            <a:ext cx="3816360" cy="3816360"/>
          </a:xfrm>
          <a:prstGeom prst="wedgeEllipseCallout">
            <a:avLst>
              <a:gd name="adj1" fmla="val -76995"/>
              <a:gd name="adj2" fmla="val 193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308400" cy="40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508720" y="270828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Кие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зборс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овгород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4" action="ppaction://hlinksldjump"/>
              </a:rPr>
              <a:t>Ладог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бор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адог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9:11:23Z</dcterms:created>
  <dc:creator>Атлон</dc:creator>
  <dc:description/>
  <dc:language>en-US</dc:language>
  <cp:lastModifiedBy>Домашний</cp:lastModifiedBy>
  <dcterms:modified xsi:type="dcterms:W3CDTF">2009-04-22T20:01:23Z</dcterms:modified>
  <cp:revision>26</cp:revision>
  <dc:subject/>
  <dc:title>Past Simple with Pets</dc:title>
</cp:coreProperties>
</file>