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C1F-7FA0-4ADB-A589-59C57D41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E0E-98F6-4EF3-8A21-70572840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BDE-1A5A-4592-9F7B-F16764DD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657-EA8E-4762-9E70-765E3635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B6EE-7FAF-4CE8-A9C9-C785066E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579A-50FD-4CE2-968A-2945BE73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EF3C-460B-4EA0-93AF-63841A52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26C7-B994-4EED-9E39-2D12640B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2292-92D9-4726-AA60-B3143598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BD52-41F5-4FCC-B84A-653B1C72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F4DB-1A7A-4947-BBD5-4F8FF197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584-D317-4EC9-B22C-BC6E83D0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F4C9-1926-4626-B43C-02909708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B4D2-2F05-470D-ACF7-58D9319D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26E6-66BD-4B44-8843-D7263903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CE4D-49C4-4532-9402-90B6BDA5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9513-9BD4-4670-B413-76CD0FBE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1CD-BC5A-4B7E-867B-1DC29075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FC9-3115-4480-AA09-92F478E4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03D-E45A-4AC7-856C-075213E0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126-1592-4426-A23C-B8FB56C8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189-F146-47EF-9833-4BED5AB3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CE5-70C6-437D-BEF1-03CC9EDE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F6A-B393-49A7-8ABC-F3932EAA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AECA-449E-4934-B328-C7165ED0BB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98E8-1697-42A5-9157-23CA673A66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4260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 Образование и наука. Русские первооткрыватели и путешественники.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71920" y="5286240"/>
            <a:ext cx="5256000" cy="1341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492000" y="1413000"/>
            <a:ext cx="547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губский Иван Алексеевич - естествоиспытатель. Из семьи священника. Среднее образование получил в Харьковском Коллегиуме, по окончании которого был оставлен там учителем риторики. В 1793 г. поступил в на медицинский факультет Московского университета, в 1796 г. окончил его с золотой медалью и был назначен смотрителем кабинета естественной истории. В 1798 г., представив диссертацию , произведен в должность адъюнкта и начал преподавать естественную историю и физику в Благородном пансионе. В июле 1802 г. защитил диссертацию первый опыт описания фауны Московской губ., и получил степень доктора медицины, после чего "для усовершенствования в естественной истории, химии врачебном веществословии" был командирован загра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dvigubsky"/>
          <p:cNvPicPr/>
          <p:nvPr/>
        </p:nvPicPr>
        <p:blipFill>
          <a:blip r:embed="rId1"/>
          <a:stretch/>
        </p:blipFill>
        <p:spPr>
          <a:xfrm>
            <a:off x="324000" y="1638360"/>
            <a:ext cx="3093840" cy="3878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4"/>
          <p:cNvSpPr/>
          <p:nvPr/>
        </p:nvSpPr>
        <p:spPr>
          <a:xfrm>
            <a:off x="324000" y="5661000"/>
            <a:ext cx="3095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Иван Алексе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Двигуб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ус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вдоким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ядько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двинул и доказал идею о том, что все  явления в природе обусловлены естественными причинами и подчинены общим законам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7 февраля 1792 г., имение Пип (Эстляндия). Умер 16 ноября 1876 г., Дерпт. Естествоиспытатель. Иностранный член-корреспондент РАН с 20 декабря 1826 г., ординарный академик по зоологии с 9 апреля 1828 г., иностранный почетный член с 28 октября 1830 г., вторично ординарный академик с 11 апреля 1834 г. по 27 октября 1862 г., почетный член со 2 ноября 1862 г. с правом присутствия и голоса в засед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9" descr="К.М.Бэр"/>
          <p:cNvPicPr/>
          <p:nvPr/>
        </p:nvPicPr>
        <p:blipFill>
          <a:blip r:embed="rId1"/>
          <a:stretch/>
        </p:blipFill>
        <p:spPr>
          <a:xfrm>
            <a:off x="468360" y="1341360"/>
            <a:ext cx="3181320" cy="3810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4427640" y="6021360"/>
            <a:ext cx="4176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« Всеобщий закон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прир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179280" y="5445000"/>
            <a:ext cx="36007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c6c"/>
                </a:solidFill>
                <a:latin typeface="Tahoma"/>
              </a:rPr>
              <a:t>Карл Максимович Бэ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5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лся основоположником военно – полевой хиру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годы Крымской войны применял нарк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овал  для лечения переломов неподвижную гипсовую повя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0" descr="Николай Пирогов"/>
          <p:cNvPicPr/>
          <p:nvPr/>
        </p:nvPicPr>
        <p:blipFill>
          <a:blip r:embed="rId1"/>
          <a:stretch/>
        </p:blipFill>
        <p:spPr>
          <a:xfrm>
            <a:off x="826920" y="1665360"/>
            <a:ext cx="3170520" cy="3527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324000" y="5300640"/>
            <a:ext cx="3887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Н.Н. Пир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 rot="1698600">
            <a:off x="313200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9"/>
          <p:cNvSpPr/>
          <p:nvPr/>
        </p:nvSpPr>
        <p:spPr>
          <a:xfrm rot="20597400">
            <a:off x="622764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2349360"/>
            <a:ext cx="4572000" cy="432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непту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Считали, что все ге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роцессы обусловл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действием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788000" y="2349360"/>
            <a:ext cx="417672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плуто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Полагали, что осно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этих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является налич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«центрального огн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внутри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ёл медленный процесс накопления знаний, который привёл в последствии к революции в этой науке. Главным достижением стало создание мощных телескопов, которые позволили  составить более детальное описание Солнечной системы. В 1839 году была создана Пулковская обсерватория, ставшая центром  астрономических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211280" y="1341000"/>
            <a:ext cx="47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Лобачевский Николай Иванович (1792-1856), русский математик, создатель неевклидовой геометрии (геометрия Лобачевск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ктор Казанского университета (1827-184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руды по алгебре, математическому анализу, теории вероятностей, механике, физике и астроно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1700280"/>
            <a:ext cx="365112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лобаче"/>
          <p:cNvPicPr/>
          <p:nvPr/>
        </p:nvPicPr>
        <p:blipFill>
          <a:blip r:embed="rId1"/>
          <a:stretch/>
        </p:blipFill>
        <p:spPr>
          <a:xfrm>
            <a:off x="5148360" y="1628640"/>
            <a:ext cx="3589200" cy="43927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7" name="Rectangle 3"/>
          <p:cNvSpPr/>
          <p:nvPr/>
        </p:nvSpPr>
        <p:spPr>
          <a:xfrm>
            <a:off x="468360" y="1628640"/>
            <a:ext cx="431784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1826 г. профессор Казанского университета Н.Н.Лобачевский создал неевклидову геометрию, которая нашла практическое применение только во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половин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XX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5906520" y="6165720"/>
            <a:ext cx="2626920" cy="45972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.И.Лобач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250920" y="1528920"/>
            <a:ext cx="4321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етров Василий Владимирович (1761-1834), российский физик, один из первых российских электротехников, академик Петербургской АН (1809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3" descr="петров"/>
          <p:cNvPicPr/>
          <p:nvPr/>
        </p:nvPicPr>
        <p:blipFill>
          <a:blip r:embed="rId2"/>
          <a:stretch/>
        </p:blipFill>
        <p:spPr>
          <a:xfrm>
            <a:off x="5003640" y="1989000"/>
            <a:ext cx="3654720" cy="39592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859280" y="512640"/>
            <a:ext cx="4284720" cy="583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нц Эмилий Христианович (1804 – 1865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сский физик  и электротехник, академик Петербургской АН (1830), ректор Санкт-Петербургского университета               (с 1863).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3" descr="ленц"/>
          <p:cNvPicPr/>
          <p:nvPr/>
        </p:nvPicPr>
        <p:blipFill>
          <a:blip r:embed="rId2"/>
          <a:stretch/>
        </p:blipFill>
        <p:spPr>
          <a:xfrm>
            <a:off x="684360" y="1844640"/>
            <a:ext cx="3463920" cy="4537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105080" cy="1052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развитием образования в первой половине 19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как развитие науки сказалось на развитии всего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утешественниками, выясним, как их открытия повлияли на развит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85480" y="1642680"/>
            <a:ext cx="867564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дающийся вклад в физику составили  работы Ленца по электромагнитной индукции и нагревательному действию т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м установлено знаменитое правило направления электродвижущей силы индукции (закон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42 г. независимо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ж. Джоуля Ленц открыл закон теплового действия электрического тока (закон Джоуля -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местно с Б.С.Якоби впервые разработал методы расчета электромагнитов в электрических маш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75600" cy="1168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111276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50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коби Борис Семенович (наст. имя и фам. Мориц Герман фон Якоби,) (21 сентября 1801, Потсдам — 11 марта 1874, Санкт-Петербург), российский физик и изобретатель в области электротехн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Jakobi_B"/>
          <p:cNvPicPr/>
          <p:nvPr/>
        </p:nvPicPr>
        <p:blipFill>
          <a:blip r:embed="rId2"/>
          <a:stretch/>
        </p:blipFill>
        <p:spPr>
          <a:xfrm>
            <a:off x="250920" y="1773360"/>
            <a:ext cx="373860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788000" y="1483920"/>
            <a:ext cx="4170240" cy="468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Якоби и Э.Ленц разработали теорию электрических явлений на основе которой был созданы электродвигатель и гальванопла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50920" y="5373720"/>
            <a:ext cx="4103640" cy="119124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виг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Б.С.Як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5" descr="Рисунок3"/>
          <p:cNvPicPr/>
          <p:nvPr/>
        </p:nvPicPr>
        <p:blipFill>
          <a:blip r:embed="rId2"/>
          <a:stretch/>
        </p:blipFill>
        <p:spPr>
          <a:xfrm>
            <a:off x="468360" y="1461960"/>
            <a:ext cx="3606840" cy="3934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5" name="AutoShape 6"/>
          <p:cNvSpPr/>
          <p:nvPr/>
        </p:nvSpPr>
        <p:spPr>
          <a:xfrm>
            <a:off x="900000" y="450864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1476360" y="472428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788000" y="1196640"/>
            <a:ext cx="4356000" cy="525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. Якоби изобрел буквопечатающий аппарат в 1839 г. Этот аппарат стал практически первым телеграфным записывающим устройством и действовал на подземной линии Петербург - Царское 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" descr="Jacobi%202_B4021840A341420C81EC3BFD7E3F699E"/>
          <p:cNvPicPr/>
          <p:nvPr/>
        </p:nvPicPr>
        <p:blipFill>
          <a:blip r:embed="rId2"/>
          <a:stretch/>
        </p:blipFill>
        <p:spPr>
          <a:xfrm>
            <a:off x="179280" y="981000"/>
            <a:ext cx="4249800" cy="33051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80" name="Picture 4" descr="image64"/>
          <p:cNvPicPr/>
          <p:nvPr/>
        </p:nvPicPr>
        <p:blipFill>
          <a:blip r:embed="rId3"/>
          <a:stretch/>
        </p:blipFill>
        <p:spPr>
          <a:xfrm>
            <a:off x="324000" y="4508640"/>
            <a:ext cx="3960720" cy="21463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319280" y="115920"/>
            <a:ext cx="4824360" cy="7524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05- 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03 г. на кораблях « Надежда» и « Нева» отправились в экспедицию на исследования северной части Тихого океана. В ходе плавания были нанесены на карту более тысячи километров берегов Сахалина, собраны наблюдения о многих районах  через которые проплыв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Picture 11" descr="is?FullvBzpQWBQH6QPUHfSwvLU_T-KMEaGkHOA9HyLNpw"/>
          <p:cNvPicPr/>
          <p:nvPr/>
        </p:nvPicPr>
        <p:blipFill>
          <a:blip r:embed="rId1"/>
          <a:stretch/>
        </p:blipFill>
        <p:spPr>
          <a:xfrm>
            <a:off x="900000" y="1773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2"/>
          <p:cNvSpPr/>
          <p:nvPr/>
        </p:nvSpPr>
        <p:spPr>
          <a:xfrm>
            <a:off x="539640" y="5805360"/>
            <a:ext cx="3382920" cy="6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И.Ф. Крузенште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рыл один из островов Гавайского архипелага, названный его именем. Собрал много данных об Алеутских островах и Аляске, островах тихого и Ледовитого оке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1" descr="lisyanskiy"/>
          <p:cNvPicPr/>
          <p:nvPr/>
        </p:nvPicPr>
        <p:blipFill>
          <a:blip r:embed="rId1"/>
          <a:stretch/>
        </p:blipFill>
        <p:spPr>
          <a:xfrm>
            <a:off x="468360" y="177336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2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Юрий Фёд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Лися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5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частник первой русской кругосветной экспедиции. В 1819 – 1821 гг. на шлюпках « Восток» и « Мирный» отправились в путешествие.  16 января подошли к берегам неведомой  Антарктиды. Ими была открыта группа островов, названная островами Россиян. Были сделаны важнейшие географические открытия, привезены ценные коллекции, данные наблюдений за водами Мирового океана и ледяными покрытиями нового контин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8" descr="Портрет"/>
          <p:cNvPicPr/>
          <p:nvPr/>
        </p:nvPicPr>
        <p:blipFill>
          <a:blip r:embed="rId1"/>
          <a:stretch/>
        </p:blipFill>
        <p:spPr>
          <a:xfrm>
            <a:off x="179280" y="148428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1" descr="Михаил Петрович Лазарев.jpg"/>
          <p:cNvPicPr/>
          <p:nvPr/>
        </p:nvPicPr>
        <p:blipFill>
          <a:blip r:embed="rId2"/>
          <a:stretch/>
        </p:blipFill>
        <p:spPr>
          <a:xfrm>
            <a:off x="2700360" y="2708280"/>
            <a:ext cx="2251080" cy="30243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2"/>
          <p:cNvSpPr txBox="1"/>
          <p:nvPr/>
        </p:nvSpPr>
        <p:spPr>
          <a:xfrm>
            <a:off x="179280" y="4437000"/>
            <a:ext cx="24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.Ф. Беллинсгауз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7" name="WordArt 13"/>
          <p:cNvSpPr txBox="1"/>
          <p:nvPr/>
        </p:nvSpPr>
        <p:spPr>
          <a:xfrm>
            <a:off x="2556000" y="580536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П. Лазар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9" name="Picture 12" descr="Портрет"/>
          <p:cNvPicPr/>
          <p:nvPr/>
        </p:nvPicPr>
        <p:blipFill>
          <a:blip r:embed="rId1"/>
          <a:stretch/>
        </p:blipFill>
        <p:spPr>
          <a:xfrm>
            <a:off x="250920" y="1700280"/>
            <a:ext cx="3333600" cy="4033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3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лександр Андр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Бар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3924360" y="1521000"/>
            <a:ext cx="4968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л территории, примыкавшие к Тихоокеанскому побережью Северо-Западной Америки, установил торговые связи с Калифорнией, Гавайскими островами, Китаем. По распоряжению Баранова в 1812 году основан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т Рос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алифорнии. Также основал большинство русских поселений на Аляске, в том числе Новоархангельск (с 1867 года — Ситка) и перенес туда центр Русской Америки. За «…усердие его к заведению, утверждению и расширению в Америке российской торговли» в 1799 году император Павел I Петрович наградил Баранова именной медаль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3 ноября (5 декабря) 1813)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акин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стромской губернии — 17 ( 29) апреля 1876, Санкт-Петербург) — российский адмирал (1874 год), исследователь Дальнего Востока, основатель города Николаевск-на-Амуре. Доказал, что усть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м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ступно для входа морских судов и что Сахалин — ост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8" descr="Портрет"/>
          <p:cNvPicPr/>
          <p:nvPr/>
        </p:nvPicPr>
        <p:blipFill>
          <a:blip r:embed="rId1"/>
          <a:stretch/>
        </p:blipFill>
        <p:spPr>
          <a:xfrm>
            <a:off x="684360" y="1557360"/>
            <a:ext cx="3089160" cy="4464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Геннадий Ивано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Нев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469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395280" y="260280"/>
            <a:ext cx="835344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ла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24000" y="1557360"/>
            <a:ext cx="864072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образ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нау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усские первооткрыватели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утешественни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22-1825 гг. совершил кругосветное путешествие и оставил потомкам описание увиденного. В 1852-1855 гг. во время  экспедиции были открыты острова Римского – Корсакова, удалось побывать в закрытой Японии и даже подписать с ними до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8" descr="Портрет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Ефимий Васи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утя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11 - 1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работаем с документ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108, 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дведём итог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, записи, задания в рабочей тетра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250920" y="115920"/>
            <a:ext cx="8497800" cy="12970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4991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Общеобразовательная школ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гимназии (7 л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уездные училища (3 г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ходские училищ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1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3640" y="3213000"/>
            <a:ext cx="3765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Высшая школа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университе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академ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13"/>
          <p:cNvSpPr/>
          <p:nvPr/>
        </p:nvSpPr>
        <p:spPr>
          <a:xfrm rot="2281200">
            <a:off x="2700000" y="134136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 rot="19635000">
            <a:off x="5508720" y="134100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 rot="1483800">
            <a:off x="2889360" y="1328760"/>
            <a:ext cx="485640" cy="1284120"/>
          </a:xfrm>
          <a:prstGeom prst="downArrow">
            <a:avLst>
              <a:gd name="adj1" fmla="val 50000"/>
              <a:gd name="adj2" fmla="val 50264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 rot="18648600">
            <a:off x="4968360" y="1176480"/>
            <a:ext cx="485640" cy="126216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0" y="2276640"/>
            <a:ext cx="3132000" cy="115236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ход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ноклас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82560" y="1757160"/>
            <a:ext cx="1731600" cy="9666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езд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рёхкласс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133200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179280" y="4292640"/>
            <a:ext cx="2592360" cy="23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Училис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представ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«низ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Закон Бо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рам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5857920" y="3860640"/>
            <a:ext cx="296208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Училис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Дети ремесленни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мещ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мет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Исто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граф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3929040" y="1357200"/>
            <a:ext cx="485640" cy="1224000"/>
          </a:xfrm>
          <a:prstGeom prst="downArrow">
            <a:avLst>
              <a:gd name="adj1" fmla="val 50000"/>
              <a:gd name="adj2" fmla="val 63010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3071880" y="4572000"/>
            <a:ext cx="2663640" cy="194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Учились дети дворя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чиновник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купцов пе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гиль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3348000" y="2565360"/>
            <a:ext cx="2581200" cy="136692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емиклассные гимназ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4329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6877080" y="2940120"/>
            <a:ext cx="485640" cy="849240"/>
          </a:xfrm>
          <a:prstGeom prst="downArrow">
            <a:avLst>
              <a:gd name="adj1" fmla="val 50000"/>
              <a:gd name="adj2" fmla="val 4371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1811 году был открыт Александровский            ( Царскосельский) лицей, в котором обучались представители высшего дворянского общества   ( в том числе и А.С. Пушк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esta_20_1"/>
          <p:cNvPicPr/>
          <p:nvPr/>
        </p:nvPicPr>
        <p:blipFill>
          <a:blip r:embed="rId1"/>
          <a:stretch/>
        </p:blipFill>
        <p:spPr>
          <a:xfrm>
            <a:off x="324000" y="1771560"/>
            <a:ext cx="4032000" cy="265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003640" y="1628640"/>
            <a:ext cx="3780000" cy="936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пт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003640" y="3860640"/>
            <a:ext cx="3816360" cy="10083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арьков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003640" y="2708280"/>
            <a:ext cx="38163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за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92360" y="5805360"/>
            <a:ext cx="3311280" cy="889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ле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3640" y="5013360"/>
            <a:ext cx="3816360" cy="863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ербург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1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3968640" y="144000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6" descr="Рисунок10"/>
          <p:cNvPicPr/>
          <p:nvPr/>
        </p:nvPicPr>
        <p:blipFill>
          <a:blip r:embed="rId1"/>
          <a:stretch/>
        </p:blipFill>
        <p:spPr>
          <a:xfrm>
            <a:off x="468360" y="1700280"/>
            <a:ext cx="2944800" cy="3816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22" name="AutoShape 18"/>
          <p:cNvSpPr/>
          <p:nvPr/>
        </p:nvSpPr>
        <p:spPr>
          <a:xfrm rot="18772800">
            <a:off x="1029240" y="5531040"/>
            <a:ext cx="485640" cy="890640"/>
          </a:xfrm>
          <a:prstGeom prst="downArrow">
            <a:avLst>
              <a:gd name="adj1" fmla="val 50000"/>
              <a:gd name="adj2" fmla="val 458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 rot="16200000">
            <a:off x="4113360" y="239364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 rot="16200000">
            <a:off x="4041360" y="3527280"/>
            <a:ext cx="486000" cy="1584360"/>
          </a:xfrm>
          <a:prstGeom prst="downArrow">
            <a:avLst>
              <a:gd name="adj1" fmla="val 50000"/>
              <a:gd name="adj2" fmla="val 815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1"/>
          <p:cNvSpPr/>
          <p:nvPr/>
        </p:nvSpPr>
        <p:spPr>
          <a:xfrm rot="16200000">
            <a:off x="3968640" y="453564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В 20-50 – е годы отнош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равительства к нуж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бразования изменилос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Теперь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была нацелена на воспит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нравственности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снованной 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елигиозных начала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величивалось и число высших учебных заведений. Особенно быстро развивались училища по подготовке специалистов в различных областях. Рос объём литературы для всех слоёв населения. Развивалось и библиотечное дело. В 30-40 –е годы библиотеки были  открыты по инициативе местной общественности в большинстве уездных и губернских го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образования во многом способствовало развитию отечественной на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268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01T11:51:04Z</dcterms:modified>
  <cp:revision>18</cp:revision>
  <dc:subject/>
  <dc:title>Древний Египет</dc:title>
</cp:coreProperties>
</file>