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BEC6-F5A7-4CED-8BDF-6C962C8D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D1E2-1321-4560-98A1-95DF7049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F81F-EE11-4A16-839A-EB999078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C349-60E7-4DC8-AB41-A0EBFC41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0957-AC8F-428A-BCC7-5983D6A3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8341-CF54-490C-98B5-1C7FB0C2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8556-CD88-48B0-B5CE-6B06EC17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BE6C-FF0A-4FED-B01E-477E5A32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EAB8-9B35-48D0-B544-B696E5C6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B445-3EC2-4B33-9A9F-1951523A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4B35-43B9-40EB-A27D-EBD6E39B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F831-89B6-4333-AE18-5AF3C5FA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CB3F-C83F-415D-9080-D5515BB2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7FF6-43C7-4C75-9F1A-BBC5C005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F214-8AB4-4AD9-8D02-32A3B27E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3AE4-EF5E-4F1B-949D-E8E692FA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40A6-5EC6-4ABB-8AF7-13D58066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76A2-A2AD-4CED-9E46-5AE15C73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8F58-5BBC-4D62-9BCB-1649DE8C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3590-BEEB-4877-A450-7D1A3AC1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1A21-D4CA-4CA7-924B-C898B685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2DB8-04F1-4C06-8BA5-398D0294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2077-2877-4E86-A1EE-D0C918DF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5123-6B54-41E8-B166-D27AE977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94BE-2A86-4A78-8BB3-CD8841E1B5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73EA-159F-42CE-9D94-375414F657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35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42600" y="1285920"/>
            <a:ext cx="8001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« Образование и наука. Русские первооткрыватели и путешественники.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3571920" y="5286240"/>
            <a:ext cx="5256000" cy="134172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атериал подготовлен учителем истор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3492000" y="1413000"/>
            <a:ext cx="547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вигубский Иван Алексеевич - естествоиспытатель. Из семьи священника. Среднее образование получил в Харьковском Коллегиуме, по окончании которого был оставлен там учителем риторики. В 1793 г. поступил в на медицинский факультет Московского университета, в 1796 г. окончил его с золотой медалью и был назначен смотрителем кабинета естественной истории. В 1798 г., представив диссертацию , произведен в должность адъюнкта и начал преподавать естественную историю и физику в Благородном пансионе. В июле 1802 г. защитил диссертацию первый опыт описания фауны Московской губ., и получил степень доктора медицины, после чего "для усовершенствования в естественной истории, химии врачебном веществословии" был командирован заграниц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1" name="Picture 13" descr="dvigubsky"/>
          <p:cNvPicPr/>
          <p:nvPr/>
        </p:nvPicPr>
        <p:blipFill>
          <a:blip r:embed="rId1"/>
          <a:stretch/>
        </p:blipFill>
        <p:spPr>
          <a:xfrm>
            <a:off x="324000" y="1638360"/>
            <a:ext cx="3093840" cy="38782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14"/>
          <p:cNvSpPr/>
          <p:nvPr/>
        </p:nvSpPr>
        <p:spPr>
          <a:xfrm>
            <a:off x="324000" y="5661000"/>
            <a:ext cx="3095640" cy="7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Иван Алексее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Двигуб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250920" y="189000"/>
            <a:ext cx="8642160" cy="1008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иолог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Биолог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уст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вдоким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ядьков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ыдвинул и доказал идею о том, что все  явления в природе обусловлены естественными причинами и подчинены общим законам разви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40672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одился 17 февраля 1792 г., имение Пип (Эстляндия). Умер 16 ноября 1876 г., Дерпт. Естествоиспытатель. Иностранный член-корреспондент РАН с 20 декабря 1826 г., ординарный академик по зоологии с 9 апреля 1828 г., иностранный почетный член с 28 октября 1830 г., вторично ординарный академик с 11 апреля 1834 г. по 27 октября 1862 г., почетный член со 2 ноября 1862 г. с правом присутствия и голоса в заседания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8" name="Picture 9" descr="К.М.Бэр"/>
          <p:cNvPicPr/>
          <p:nvPr/>
        </p:nvPicPr>
        <p:blipFill>
          <a:blip r:embed="rId1"/>
          <a:stretch/>
        </p:blipFill>
        <p:spPr>
          <a:xfrm>
            <a:off x="468360" y="1341360"/>
            <a:ext cx="3181320" cy="381024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Биолог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4427640" y="6021360"/>
            <a:ext cx="4176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« Всеобщий закон развит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природы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Rectangle 12"/>
          <p:cNvSpPr/>
          <p:nvPr/>
        </p:nvSpPr>
        <p:spPr>
          <a:xfrm>
            <a:off x="179280" y="5445000"/>
            <a:ext cx="3600720" cy="79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5c6c"/>
                </a:solidFill>
                <a:latin typeface="Tahoma"/>
              </a:rPr>
              <a:t>Карл Максимович Бэ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едицин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557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Являлся основоположником военно – полевой хирург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годы Крымской войны применял нарко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спользовал  для лечения переломов неподвижную гипсовую повяз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4" name="Picture 10" descr="Николай Пирогов"/>
          <p:cNvPicPr/>
          <p:nvPr/>
        </p:nvPicPr>
        <p:blipFill>
          <a:blip r:embed="rId1"/>
          <a:stretch/>
        </p:blipFill>
        <p:spPr>
          <a:xfrm>
            <a:off x="826920" y="1665360"/>
            <a:ext cx="3170520" cy="35272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1"/>
          <p:cNvSpPr/>
          <p:nvPr/>
        </p:nvSpPr>
        <p:spPr>
          <a:xfrm>
            <a:off x="324000" y="5300640"/>
            <a:ext cx="3887640" cy="7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Н.Н. Пирог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Геолог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AutoShape 8"/>
          <p:cNvSpPr/>
          <p:nvPr/>
        </p:nvSpPr>
        <p:spPr>
          <a:xfrm rot="1698600">
            <a:off x="3132000" y="1412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AutoShape 9"/>
          <p:cNvSpPr/>
          <p:nvPr/>
        </p:nvSpPr>
        <p:spPr>
          <a:xfrm rot="20597400">
            <a:off x="6227640" y="1412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0" y="2349360"/>
            <a:ext cx="4572000" cy="432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« нептунист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Считали, что все геологическ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процессы обусловлен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действием во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4788000" y="2349360"/>
            <a:ext cx="4176720" cy="4319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« плутонист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Полагали, что основ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этих процес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является налич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«центрального огн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внутри Зем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Шёл медленный процесс накопления знаний, который привёл в последствии к революции в этой науке. Главным достижением стало создание мощных телескопов, которые позволили  составить более детальное описание Солнечной системы. В 1839 году была создана Пулковская обсерватория, ставшая центром  астрономических рабо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Астроном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211280" y="1341000"/>
            <a:ext cx="475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Лобачевский Николай Иванович (1792-1856), русский математик, создатель неевклидовой геометрии (геометрия Лобачевского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Ректор Казанского университета (1827-1846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Труды по алгебре, математическому анализу, теории вероятностей, механике, физике и астроном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4" name="Picture 7" descr="Рисунок4"/>
          <p:cNvPicPr/>
          <p:nvPr/>
        </p:nvPicPr>
        <p:blipFill>
          <a:blip r:embed="rId1"/>
          <a:stretch/>
        </p:blipFill>
        <p:spPr>
          <a:xfrm>
            <a:off x="324000" y="1700280"/>
            <a:ext cx="3651120" cy="48243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атемат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лобаче"/>
          <p:cNvPicPr/>
          <p:nvPr/>
        </p:nvPicPr>
        <p:blipFill>
          <a:blip r:embed="rId1"/>
          <a:stretch/>
        </p:blipFill>
        <p:spPr>
          <a:xfrm>
            <a:off x="5148360" y="1628640"/>
            <a:ext cx="3589200" cy="439272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57" name="Rectangle 3"/>
          <p:cNvSpPr/>
          <p:nvPr/>
        </p:nvSpPr>
        <p:spPr>
          <a:xfrm>
            <a:off x="468360" y="1628640"/>
            <a:ext cx="4317840" cy="504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 1826 г. профессор Казанского университета Н.Н.Лобачевский создал неевклидову геометрию, которая нашла практическое применение только во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I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- половине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XX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-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5906520" y="6165720"/>
            <a:ext cx="2626920" cy="459720"/>
          </a:xfrm>
          <a:prstGeom prst="rect">
            <a:avLst/>
          </a:prstGeom>
          <a:solidFill>
            <a:srgbClr val="9383b3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Н.И.Лобачев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атемат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250920" y="1528920"/>
            <a:ext cx="4321080" cy="532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Петров Василий Владимирович (1761-1834), российский физик, один из первых российских электротехников, академик Петербургской АН (1809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1" name="Picture 3" descr="петров"/>
          <p:cNvPicPr/>
          <p:nvPr/>
        </p:nvPicPr>
        <p:blipFill>
          <a:blip r:embed="rId2"/>
          <a:stretch/>
        </p:blipFill>
        <p:spPr>
          <a:xfrm>
            <a:off x="5003640" y="1989000"/>
            <a:ext cx="3654720" cy="39592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859280" y="512640"/>
            <a:ext cx="4284720" cy="583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Ленц Эмилий Христианович (1804 – 1865)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, р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усский физик  и электротехник, академик Петербургской АН (1830), ректор Санкт-Петербургского университета               (с 1863).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4" name="Picture 3" descr="ленц"/>
          <p:cNvPicPr/>
          <p:nvPr/>
        </p:nvPicPr>
        <p:blipFill>
          <a:blip r:embed="rId2"/>
          <a:stretch/>
        </p:blipFill>
        <p:spPr>
          <a:xfrm>
            <a:off x="684360" y="1844640"/>
            <a:ext cx="3463920" cy="45370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4105080" cy="105228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Сегодня на урок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развитием образования в первой половине 19 ве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как развитие науки сказалось на развитии всего государ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утешественниками, выясним, как их открытия повлияли на развитие Ро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285480" y="1642680"/>
            <a:ext cx="8675640" cy="4714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ыдающийся вклад в физику составили  работы Ленца по электромагнитной индукции и нагревательному действию то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Им установлено знаменитое правило направления электродвижущей силы индукции (закон Ленц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 1842 г. независимо о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Дж. Джоуля Ленц открыл закон теплового действия электрического тока (закон Джоуля - Ленц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овместно с Б.С.Якоби впервые разработал методы расчета электромагнитов в электрических машин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611280" y="188640"/>
            <a:ext cx="8175600" cy="11682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1112760" y="6095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4286160" y="1500120"/>
            <a:ext cx="4857840" cy="5013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Якоби Борис Семенович (наст. имя и фам. Мориц Герман фон Якоби,) (21 сентября 1801, Потсдам — 11 марта 1874, Санкт-Петербург), российский физик и изобретатель в области электротехник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0" name="Picture 4" descr="Jakobi_B"/>
          <p:cNvPicPr/>
          <p:nvPr/>
        </p:nvPicPr>
        <p:blipFill>
          <a:blip r:embed="rId2"/>
          <a:stretch/>
        </p:blipFill>
        <p:spPr>
          <a:xfrm>
            <a:off x="250920" y="1773360"/>
            <a:ext cx="3738600" cy="48243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4788000" y="1483920"/>
            <a:ext cx="4170240" cy="4683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Б.Якоби и Э.Ленц разработали теорию электрических явлений на основе которой был созданы электродвигатель и гальванопласт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250920" y="5373720"/>
            <a:ext cx="4103640" cy="1191240"/>
          </a:xfrm>
          <a:prstGeom prst="rect">
            <a:avLst/>
          </a:prstGeom>
          <a:solidFill>
            <a:srgbClr val="9383b3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Электриче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двига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Б.С.Якоб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4" name="Picture 5" descr="Рисунок3"/>
          <p:cNvPicPr/>
          <p:nvPr/>
        </p:nvPicPr>
        <p:blipFill>
          <a:blip r:embed="rId2"/>
          <a:stretch/>
        </p:blipFill>
        <p:spPr>
          <a:xfrm>
            <a:off x="468360" y="1461960"/>
            <a:ext cx="3606840" cy="39340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75" name="AutoShape 6"/>
          <p:cNvSpPr/>
          <p:nvPr/>
        </p:nvSpPr>
        <p:spPr>
          <a:xfrm>
            <a:off x="900000" y="4508640"/>
            <a:ext cx="936720" cy="64764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236" h="21600">
                <a:moveTo>
                  <a:pt x="0" y="0"/>
                </a:moveTo>
                <a:lnTo>
                  <a:pt x="31236" y="0"/>
                </a:lnTo>
                <a:lnTo>
                  <a:pt x="31236" y="21600"/>
                </a:lnTo>
                <a:lnTo>
                  <a:pt x="0" y="21600"/>
                </a:lnTo>
                <a:close/>
              </a:path>
              <a:path fill="lightenLess" w="31236" h="21600">
                <a:moveTo>
                  <a:pt x="0" y="0"/>
                </a:moveTo>
                <a:lnTo>
                  <a:pt x="31236" y="0"/>
                </a:lnTo>
                <a:lnTo>
                  <a:pt x="29836" y="1400"/>
                </a:lnTo>
                <a:lnTo>
                  <a:pt x="1400" y="1400"/>
                </a:lnTo>
                <a:close/>
              </a:path>
              <a:path fill="darken" w="31236" h="21600">
                <a:moveTo>
                  <a:pt x="31236" y="0"/>
                </a:moveTo>
                <a:lnTo>
                  <a:pt x="31236" y="21600"/>
                </a:lnTo>
                <a:lnTo>
                  <a:pt x="29836" y="20200"/>
                </a:lnTo>
                <a:lnTo>
                  <a:pt x="29836" y="1400"/>
                </a:lnTo>
                <a:close/>
              </a:path>
              <a:path fill="darkenLess" w="31236" h="21600">
                <a:moveTo>
                  <a:pt x="31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36" y="20200"/>
                </a:lnTo>
                <a:close/>
              </a:path>
              <a:path fill="lighten" w="31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AutoShape 7"/>
          <p:cNvSpPr/>
          <p:nvPr/>
        </p:nvSpPr>
        <p:spPr>
          <a:xfrm>
            <a:off x="1476360" y="4724280"/>
            <a:ext cx="936720" cy="64800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1219" h="21600">
                <a:moveTo>
                  <a:pt x="0" y="0"/>
                </a:moveTo>
                <a:lnTo>
                  <a:pt x="31219" y="0"/>
                </a:lnTo>
                <a:lnTo>
                  <a:pt x="31219" y="21600"/>
                </a:lnTo>
                <a:lnTo>
                  <a:pt x="0" y="21600"/>
                </a:lnTo>
                <a:close/>
              </a:path>
              <a:path fill="lightenLess" w="31219" h="21600">
                <a:moveTo>
                  <a:pt x="0" y="0"/>
                </a:moveTo>
                <a:lnTo>
                  <a:pt x="31219" y="0"/>
                </a:lnTo>
                <a:lnTo>
                  <a:pt x="29819" y="1400"/>
                </a:lnTo>
                <a:lnTo>
                  <a:pt x="1400" y="1400"/>
                </a:lnTo>
                <a:close/>
              </a:path>
              <a:path fill="darken" w="31219" h="21600">
                <a:moveTo>
                  <a:pt x="31219" y="0"/>
                </a:moveTo>
                <a:lnTo>
                  <a:pt x="31219" y="21600"/>
                </a:lnTo>
                <a:lnTo>
                  <a:pt x="29819" y="20200"/>
                </a:lnTo>
                <a:lnTo>
                  <a:pt x="29819" y="1400"/>
                </a:lnTo>
                <a:close/>
              </a:path>
              <a:path fill="darkenLess" w="31219" h="21600">
                <a:moveTo>
                  <a:pt x="31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19" y="20200"/>
                </a:lnTo>
                <a:close/>
              </a:path>
              <a:path fill="lighten" w="31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4788000" y="1196640"/>
            <a:ext cx="4356000" cy="5256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Б. Якоби изобрел буквопечатающий аппарат в 1839 г. Этот аппарат стал практически первым телеграфным записывающим устройством и действовал на подземной линии Петербург - Царское Сел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9" name="Picture 3" descr="Jacobi%202_B4021840A341420C81EC3BFD7E3F699E"/>
          <p:cNvPicPr/>
          <p:nvPr/>
        </p:nvPicPr>
        <p:blipFill>
          <a:blip r:embed="rId2"/>
          <a:stretch/>
        </p:blipFill>
        <p:spPr>
          <a:xfrm>
            <a:off x="179280" y="981000"/>
            <a:ext cx="4249800" cy="33051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pic>
        <p:nvPicPr>
          <p:cNvPr id="480" name="Picture 4" descr="image64"/>
          <p:cNvPicPr/>
          <p:nvPr/>
        </p:nvPicPr>
        <p:blipFill>
          <a:blip r:embed="rId3"/>
          <a:stretch/>
        </p:blipFill>
        <p:spPr>
          <a:xfrm>
            <a:off x="324000" y="4508640"/>
            <a:ext cx="3960720" cy="214632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81" name="PlaceHolder 2"/>
          <p:cNvSpPr>
            <a:spLocks noGrp="1"/>
          </p:cNvSpPr>
          <p:nvPr>
            <p:ph type="title"/>
          </p:nvPr>
        </p:nvSpPr>
        <p:spPr>
          <a:xfrm>
            <a:off x="4319280" y="115920"/>
            <a:ext cx="4824360" cy="7524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105- 1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Хим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7750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1803 г. на кораблях « Надежда» и « Нева» отправились в экспедицию на исследования северной части Тихого океана. В ходе плавания были нанесены на карту более тысячи километров берегов Сахалина, собраны наблюдения о многих районах  через которые проплыва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6" name="Picture 11" descr="is?FullvBzpQWBQH6QPUHfSwvLU_T-KMEaGkHOA9HyLNpw"/>
          <p:cNvPicPr/>
          <p:nvPr/>
        </p:nvPicPr>
        <p:blipFill>
          <a:blip r:embed="rId1"/>
          <a:stretch/>
        </p:blipFill>
        <p:spPr>
          <a:xfrm>
            <a:off x="900000" y="1773360"/>
            <a:ext cx="2841840" cy="367344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12"/>
          <p:cNvSpPr/>
          <p:nvPr/>
        </p:nvSpPr>
        <p:spPr>
          <a:xfrm>
            <a:off x="539640" y="5805360"/>
            <a:ext cx="3382920" cy="64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И.Ф. Крузенштер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995280" y="1599840"/>
            <a:ext cx="48466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ткрыл один из островов Гавайского архипелага, названный его именем. Собрал много данных об Алеутских островах и Аляске, островах тихого и Ледовитого океа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0" name="Picture 11" descr="lisyanskiy"/>
          <p:cNvPicPr/>
          <p:nvPr/>
        </p:nvPicPr>
        <p:blipFill>
          <a:blip r:embed="rId1"/>
          <a:stretch/>
        </p:blipFill>
        <p:spPr>
          <a:xfrm>
            <a:off x="468360" y="1773360"/>
            <a:ext cx="2936880" cy="367164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12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Юрий Фёдоро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Лисян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788000" y="1600200"/>
            <a:ext cx="40543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частник первой русской кругосветной экспедиции. В 1819 – 1821 гг. на шлюпках « Восток» и « Мирный» отправились в путешествие.  16 января подошли к берегам неведомой  Антарктиды. Ими была открыта группа островов, названная островами Россиян. Были сделаны важнейшие географические открытия, привезены ценные коллекции, данные наблюдений за водами Мирового океана и ледяными покрытиями нового контин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4" name="Picture 8" descr="Портрет"/>
          <p:cNvPicPr/>
          <p:nvPr/>
        </p:nvPicPr>
        <p:blipFill>
          <a:blip r:embed="rId1"/>
          <a:stretch/>
        </p:blipFill>
        <p:spPr>
          <a:xfrm>
            <a:off x="179280" y="1484280"/>
            <a:ext cx="2016360" cy="28148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1" descr="Михаил Петрович Лазарев.jpg"/>
          <p:cNvPicPr/>
          <p:nvPr/>
        </p:nvPicPr>
        <p:blipFill>
          <a:blip r:embed="rId2"/>
          <a:stretch/>
        </p:blipFill>
        <p:spPr>
          <a:xfrm>
            <a:off x="2700360" y="2708280"/>
            <a:ext cx="2251080" cy="3024360"/>
          </a:xfrm>
          <a:prstGeom prst="rect">
            <a:avLst/>
          </a:prstGeom>
          <a:ln w="0">
            <a:noFill/>
          </a:ln>
        </p:spPr>
      </p:pic>
      <p:sp>
        <p:nvSpPr>
          <p:cNvPr id="496" name="WordArt 12"/>
          <p:cNvSpPr txBox="1"/>
          <p:nvPr/>
        </p:nvSpPr>
        <p:spPr>
          <a:xfrm>
            <a:off x="179280" y="4437000"/>
            <a:ext cx="244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.Ф. Беллинсгаузе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7" name="WordArt 13"/>
          <p:cNvSpPr txBox="1"/>
          <p:nvPr/>
        </p:nvSpPr>
        <p:spPr>
          <a:xfrm>
            <a:off x="2556000" y="5805360"/>
            <a:ext cx="244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.П. Лазаре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99" name="Picture 12" descr="Портрет"/>
          <p:cNvPicPr/>
          <p:nvPr/>
        </p:nvPicPr>
        <p:blipFill>
          <a:blip r:embed="rId1"/>
          <a:stretch/>
        </p:blipFill>
        <p:spPr>
          <a:xfrm>
            <a:off x="250920" y="1700280"/>
            <a:ext cx="3333600" cy="403380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13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Александр Андреевич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Бара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Rectangle 14"/>
          <p:cNvSpPr/>
          <p:nvPr/>
        </p:nvSpPr>
        <p:spPr>
          <a:xfrm>
            <a:off x="3924360" y="1521000"/>
            <a:ext cx="496872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сследовал территории, примыкавшие к Тихоокеанскому побережью Северо-Западной Америки, установил торговые связи с Калифорнией, Гавайскими островами, Китаем. По распоряжению Баранова в 1812 году основан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Форт Росс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Калифорнии. Также основал большинство русских поселений на Аляске, в том числе Новоархангельск (с 1867 года — Ситка) и перенес туда центр Русской Америки. За «…усердие его к заведению, утверждению и расширению в Америке российской торговли» в 1799 году император Павел I Петрович наградил Баранова именной медалью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846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3 ноября (5 декабря) 1813),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Дракино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, Костромской губернии — 17 ( 29) апреля 1876, Санкт-Петербург) — российский адмирал (1874 год), исследователь Дальнего Востока, основатель города Николаевск-на-Амуре. Доказал, что устье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Амур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доступно для входа морских судов и что Сахалин — остр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4" name="Picture 8" descr="Портрет"/>
          <p:cNvPicPr/>
          <p:nvPr/>
        </p:nvPicPr>
        <p:blipFill>
          <a:blip r:embed="rId1"/>
          <a:stretch/>
        </p:blipFill>
        <p:spPr>
          <a:xfrm>
            <a:off x="684360" y="1557360"/>
            <a:ext cx="3089160" cy="446400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0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Геннадий Иванович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Невель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46936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395280" y="260280"/>
            <a:ext cx="8353440" cy="1008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План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324000" y="1557360"/>
            <a:ext cx="8640720" cy="511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5b5d6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азвитие образова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buClr>
                <a:srgbClr val="5b5d6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азвитие наук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buClr>
                <a:srgbClr val="5b5d6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усские первооткрыватели 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утешественник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7750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1822-1825 гг. совершил кругосветное путешествие и оставил потомкам описание увиденного. В 1852-1855 гг. во время  экспедиции были открыты острова Римского – Корсакова, удалось побывать в закрытой Японии и даже подписать с ними догово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8" name="Picture 8" descr="Портрет"/>
          <p:cNvPicPr/>
          <p:nvPr/>
        </p:nvPicPr>
        <p:blipFill>
          <a:blip r:embed="rId1"/>
          <a:stretch/>
        </p:blipFill>
        <p:spPr>
          <a:xfrm>
            <a:off x="611280" y="1700280"/>
            <a:ext cx="3168720" cy="410364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10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Ефимий Василье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Путят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111 - 1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оработаем с документам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108, 11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одведём итог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граф 16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17, записи, задания в рабочей тетрад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8"/>
          <p:cNvSpPr/>
          <p:nvPr/>
        </p:nvSpPr>
        <p:spPr>
          <a:xfrm>
            <a:off x="250920" y="115920"/>
            <a:ext cx="8497800" cy="129708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0920" y="3213000"/>
            <a:ext cx="49910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Общеобразовательная школ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Calibri"/>
              </a:rPr>
              <a:t>гимназии (7 ле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Calibri"/>
              </a:rPr>
              <a:t>уездные училища (3 год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риходские училищ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(1 год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03640" y="3213000"/>
            <a:ext cx="3765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Высшая школа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Calibri"/>
              </a:rPr>
              <a:t>университет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Calibri"/>
              </a:rPr>
              <a:t>академ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AutoShape 13"/>
          <p:cNvSpPr/>
          <p:nvPr/>
        </p:nvSpPr>
        <p:spPr>
          <a:xfrm rot="2281200">
            <a:off x="2700000" y="1341360"/>
            <a:ext cx="485640" cy="2087640"/>
          </a:xfrm>
          <a:prstGeom prst="downArrow">
            <a:avLst>
              <a:gd name="adj1" fmla="val 50000"/>
              <a:gd name="adj2" fmla="val 107468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AutoShape 14"/>
          <p:cNvSpPr/>
          <p:nvPr/>
        </p:nvSpPr>
        <p:spPr>
          <a:xfrm rot="19635000">
            <a:off x="5508720" y="1341000"/>
            <a:ext cx="485640" cy="2087640"/>
          </a:xfrm>
          <a:prstGeom prst="downArrow">
            <a:avLst>
              <a:gd name="adj1" fmla="val 50000"/>
              <a:gd name="adj2" fmla="val 107468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AutoShape 8"/>
          <p:cNvSpPr/>
          <p:nvPr/>
        </p:nvSpPr>
        <p:spPr>
          <a:xfrm rot="1483800">
            <a:off x="2889360" y="1328760"/>
            <a:ext cx="485640" cy="1284120"/>
          </a:xfrm>
          <a:prstGeom prst="downArrow">
            <a:avLst>
              <a:gd name="adj1" fmla="val 50000"/>
              <a:gd name="adj2" fmla="val 50264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AutoShape 9"/>
          <p:cNvSpPr/>
          <p:nvPr/>
        </p:nvSpPr>
        <p:spPr>
          <a:xfrm rot="18648600">
            <a:off x="4968360" y="1176480"/>
            <a:ext cx="485640" cy="1262160"/>
          </a:xfrm>
          <a:prstGeom prst="downArrow">
            <a:avLst>
              <a:gd name="adj1" fmla="val 50000"/>
              <a:gd name="adj2" fmla="val 50271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Oval 12"/>
          <p:cNvSpPr/>
          <p:nvPr/>
        </p:nvSpPr>
        <p:spPr>
          <a:xfrm>
            <a:off x="0" y="2276640"/>
            <a:ext cx="3132000" cy="1152360"/>
          </a:xfrm>
          <a:prstGeom prst="ellipse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ходск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днокласс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илищ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082560" y="1757160"/>
            <a:ext cx="1731600" cy="9666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Уездны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трёхклассны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училищ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AutoShape 15"/>
          <p:cNvSpPr/>
          <p:nvPr/>
        </p:nvSpPr>
        <p:spPr>
          <a:xfrm>
            <a:off x="1332000" y="3429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Rectangle 16"/>
          <p:cNvSpPr/>
          <p:nvPr/>
        </p:nvSpPr>
        <p:spPr>
          <a:xfrm>
            <a:off x="179280" y="4292640"/>
            <a:ext cx="2592360" cy="2305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Учились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представите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«низов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7b2e"/>
                </a:solidFill>
                <a:uFillTx/>
                <a:latin typeface="Tahoma"/>
              </a:rPr>
              <a:t>Изуч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Закон Бож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Грамот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арифмети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5857920" y="3860640"/>
            <a:ext cx="2962080" cy="280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7b2e"/>
                </a:solidFill>
                <a:uFillTx/>
                <a:latin typeface="Tahoma"/>
              </a:rPr>
              <a:t>Училис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b5d6b"/>
                </a:solidFill>
                <a:uFillTx/>
                <a:latin typeface="Tahoma"/>
              </a:rPr>
              <a:t>Дети ремесленников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b5d6b"/>
                </a:solidFill>
                <a:uFillTx/>
                <a:latin typeface="Tahoma"/>
              </a:rPr>
              <a:t>мещан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7b2e"/>
                </a:solidFill>
                <a:uFillTx/>
                <a:latin typeface="Tahoma"/>
              </a:rPr>
              <a:t>Изуч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русский язы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Арифмети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Геометр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Истор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географ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3929040" y="1357200"/>
            <a:ext cx="485640" cy="1224000"/>
          </a:xfrm>
          <a:prstGeom prst="downArrow">
            <a:avLst>
              <a:gd name="adj1" fmla="val 50000"/>
              <a:gd name="adj2" fmla="val 63010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3071880" y="4572000"/>
            <a:ext cx="2663640" cy="194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Учились дети дворян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чиновников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купцов перв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гильд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Oval 21"/>
          <p:cNvSpPr/>
          <p:nvPr/>
        </p:nvSpPr>
        <p:spPr>
          <a:xfrm>
            <a:off x="3348000" y="2565360"/>
            <a:ext cx="2581200" cy="1366920"/>
          </a:xfrm>
          <a:prstGeom prst="ellipse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Семиклассные гимназ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AutoShape 22"/>
          <p:cNvSpPr/>
          <p:nvPr/>
        </p:nvSpPr>
        <p:spPr>
          <a:xfrm>
            <a:off x="4329000" y="3573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AutoShape 23"/>
          <p:cNvSpPr/>
          <p:nvPr/>
        </p:nvSpPr>
        <p:spPr>
          <a:xfrm>
            <a:off x="6877080" y="2940120"/>
            <a:ext cx="485640" cy="849240"/>
          </a:xfrm>
          <a:prstGeom prst="downArrow">
            <a:avLst>
              <a:gd name="adj1" fmla="val 50000"/>
              <a:gd name="adj2" fmla="val 43718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 1811 году был открыт Александровский            ( Царскосельский) лицей, в котором обучались представители высшего дворянского общества   ( в том числе и А.С. Пушки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7" descr="mesta_20_1"/>
          <p:cNvPicPr/>
          <p:nvPr/>
        </p:nvPicPr>
        <p:blipFill>
          <a:blip r:embed="rId1"/>
          <a:stretch/>
        </p:blipFill>
        <p:spPr>
          <a:xfrm>
            <a:off x="324000" y="1771560"/>
            <a:ext cx="4032000" cy="265752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5003640" y="1628640"/>
            <a:ext cx="3780000" cy="93672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рпт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802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Rectangle 9"/>
          <p:cNvSpPr/>
          <p:nvPr/>
        </p:nvSpPr>
        <p:spPr>
          <a:xfrm>
            <a:off x="5003640" y="3860640"/>
            <a:ext cx="3816360" cy="100836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Харьков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80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5003640" y="2708280"/>
            <a:ext cx="3816360" cy="1008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зан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80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11"/>
          <p:cNvSpPr/>
          <p:nvPr/>
        </p:nvSpPr>
        <p:spPr>
          <a:xfrm>
            <a:off x="1692360" y="5805360"/>
            <a:ext cx="3311280" cy="8892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илен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80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5003640" y="5013360"/>
            <a:ext cx="3816360" cy="86364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тербург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819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AutoShape 13"/>
          <p:cNvSpPr/>
          <p:nvPr/>
        </p:nvSpPr>
        <p:spPr>
          <a:xfrm rot="16200000">
            <a:off x="3968640" y="1440000"/>
            <a:ext cx="486000" cy="1584000"/>
          </a:xfrm>
          <a:prstGeom prst="downArrow">
            <a:avLst>
              <a:gd name="adj1" fmla="val 50000"/>
              <a:gd name="adj2" fmla="val 81481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1" name="Picture 16" descr="Рисунок10"/>
          <p:cNvPicPr/>
          <p:nvPr/>
        </p:nvPicPr>
        <p:blipFill>
          <a:blip r:embed="rId1"/>
          <a:stretch/>
        </p:blipFill>
        <p:spPr>
          <a:xfrm>
            <a:off x="468360" y="1700280"/>
            <a:ext cx="2944800" cy="38163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22" name="AutoShape 18"/>
          <p:cNvSpPr/>
          <p:nvPr/>
        </p:nvSpPr>
        <p:spPr>
          <a:xfrm rot="18772800">
            <a:off x="1029240" y="5531040"/>
            <a:ext cx="485640" cy="890640"/>
          </a:xfrm>
          <a:prstGeom prst="downArrow">
            <a:avLst>
              <a:gd name="adj1" fmla="val 50000"/>
              <a:gd name="adj2" fmla="val 45849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AutoShape 19"/>
          <p:cNvSpPr/>
          <p:nvPr/>
        </p:nvSpPr>
        <p:spPr>
          <a:xfrm rot="16200000">
            <a:off x="4113360" y="2393640"/>
            <a:ext cx="485640" cy="1584360"/>
          </a:xfrm>
          <a:prstGeom prst="downArrow">
            <a:avLst>
              <a:gd name="adj1" fmla="val 50000"/>
              <a:gd name="adj2" fmla="val 8156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AutoShape 20"/>
          <p:cNvSpPr/>
          <p:nvPr/>
        </p:nvSpPr>
        <p:spPr>
          <a:xfrm rot="16200000">
            <a:off x="4041360" y="3527280"/>
            <a:ext cx="486000" cy="1584360"/>
          </a:xfrm>
          <a:prstGeom prst="downArrow">
            <a:avLst>
              <a:gd name="adj1" fmla="val 50000"/>
              <a:gd name="adj2" fmla="val 815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AutoShape 21"/>
          <p:cNvSpPr/>
          <p:nvPr/>
        </p:nvSpPr>
        <p:spPr>
          <a:xfrm rot="16200000">
            <a:off x="3968640" y="4535640"/>
            <a:ext cx="486000" cy="1584000"/>
          </a:xfrm>
          <a:prstGeom prst="downArrow">
            <a:avLst>
              <a:gd name="adj1" fmla="val 50000"/>
              <a:gd name="adj2" fmla="val 81481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179280" y="1628640"/>
            <a:ext cx="8785440" cy="511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В 20-50 – е годы отноше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равительства к нужда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образования изменилось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Теперь шко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была нацелена на воспита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нравственности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основанной н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елигиозных началах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величивалось и число высших учебных заведений. Особенно быстро развивались училища по подготовке специалистов в различных областях. Рос объём литературы для всех слоёв населения. Развивалось и библиотечное дело. В 30-40 –е годы библиотеки были  открыты по инициативе местной общественности в большинстве уездных и губернских город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вершенствование системы образования во многом способствовало развитию отечественной нау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126828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3-01T11:51:04Z</dcterms:modified>
  <cp:revision>18</cp:revision>
  <dc:subject/>
  <dc:title>Древний Египет</dc:title>
</cp:coreProperties>
</file>