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E168-8489-49CB-9F54-8D5C997B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3EB-74A4-40BD-9C8D-1B85FB52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4F59-2077-4762-9E41-085FC9DF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740C-09F2-4FA5-9AAD-A223C98C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AF90-0056-4D79-8611-6B94CDDD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CCE-C89D-4ABB-A941-DD4D919D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67B-D4ED-452B-8D3B-848EEA17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2A35-A909-4908-A26C-193FF31A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99B-2CAB-40FA-8CDF-502D29BE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120B-4129-45E2-8CE9-1C8C52DB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A3E-8D36-428E-9992-ACDCCE69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4CE-A7DC-4D1D-9343-71C62C95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51FA-3217-4A48-9E47-F94D6D757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1.pn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3708360" y="4797360"/>
            <a:ext cx="2305080" cy="15591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9" descr=""/>
          <p:cNvPicPr/>
          <p:nvPr/>
        </p:nvPicPr>
        <p:blipFill>
          <a:blip r:embed="rId3"/>
          <a:stretch/>
        </p:blipFill>
        <p:spPr>
          <a:xfrm>
            <a:off x="1908000" y="3500280"/>
            <a:ext cx="2592720" cy="1528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4"/>
          <a:stretch/>
        </p:blipFill>
        <p:spPr>
          <a:xfrm>
            <a:off x="6516720" y="4797360"/>
            <a:ext cx="2448000" cy="1758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§26. СССР и его союзники в решающих битвах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мировой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5"/>
          <a:stretch/>
        </p:blipFill>
        <p:spPr>
          <a:xfrm>
            <a:off x="5221440" y="3448080"/>
            <a:ext cx="2735280" cy="1709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6"/>
          <a:stretch/>
        </p:blipFill>
        <p:spPr>
          <a:xfrm>
            <a:off x="2843280" y="1773360"/>
            <a:ext cx="3024000" cy="1681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7"/>
          <a:stretch/>
        </p:blipFill>
        <p:spPr>
          <a:xfrm>
            <a:off x="250920" y="4797360"/>
            <a:ext cx="2232000" cy="1440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"/>
          <p:cNvPicPr/>
          <p:nvPr/>
        </p:nvPicPr>
        <p:blipFill>
          <a:blip r:embed="rId8"/>
          <a:stretch/>
        </p:blipFill>
        <p:spPr>
          <a:xfrm>
            <a:off x="539640" y="1773360"/>
            <a:ext cx="1584360" cy="20635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"/>
          <p:cNvPicPr/>
          <p:nvPr/>
        </p:nvPicPr>
        <p:blipFill>
          <a:blip r:embed="rId9"/>
          <a:stretch/>
        </p:blipFill>
        <p:spPr>
          <a:xfrm>
            <a:off x="6588000" y="1662120"/>
            <a:ext cx="2233800" cy="1622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6360" y="6308640"/>
            <a:ext cx="633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удаев Александр Борисович, учитель истории и обществозн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кровской улусной многопрофильной гимнази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exander_khudaev@mail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2627280" y="44280"/>
            <a:ext cx="38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lekino"/>
              </a:rPr>
              <a:t>Курская би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3059280" y="1339920"/>
            <a:ext cx="33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yrillicGoth"/>
              </a:rPr>
              <a:t>5 июля - 23 августа 1943 г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yrillicGoth"/>
              <a:ea typeface="CyrillicGoth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6659640" y="549360"/>
            <a:ext cx="2268360" cy="431640"/>
          </a:xfrm>
          <a:prstGeom prst="wedgeRoundRectCallout">
            <a:avLst>
              <a:gd name="adj1" fmla="val -57768"/>
              <a:gd name="adj2" fmla="val 116912"/>
              <a:gd name="adj3" fmla="val 16667"/>
            </a:avLst>
          </a:prstGeom>
          <a:solidFill>
            <a:srgbClr val="ffcc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дней и но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4"/>
          <a:stretch/>
        </p:blipFill>
        <p:spPr>
          <a:xfrm>
            <a:off x="900000" y="973080"/>
            <a:ext cx="863640" cy="511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4"/>
          <p:cNvSpPr/>
          <p:nvPr/>
        </p:nvSpPr>
        <p:spPr>
          <a:xfrm>
            <a:off x="468360" y="213372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Маншт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лю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7"/>
          <p:cNvSpPr/>
          <p:nvPr/>
        </p:nvSpPr>
        <p:spPr>
          <a:xfrm>
            <a:off x="2627280" y="623736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23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6624720" y="220500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ов Г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оссовский К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утин Н.Ф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в И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71"/>
          <p:cNvSpPr txBox="1"/>
          <p:nvPr/>
        </p:nvSpPr>
        <p:spPr>
          <a:xfrm>
            <a:off x="179280" y="1413000"/>
            <a:ext cx="280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yrillicGoth"/>
              </a:rPr>
              <a:t>"Цитадель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yrillicGoth"/>
              <a:ea typeface="CyrillicGoth"/>
            </a:endParaRPr>
          </a:p>
        </p:txBody>
      </p:sp>
      <p:pic>
        <p:nvPicPr>
          <p:cNvPr id="59" name="Picture 74" descr="8_16"/>
          <p:cNvPicPr/>
          <p:nvPr/>
        </p:nvPicPr>
        <p:blipFill>
          <a:blip r:embed="rId5"/>
          <a:stretch/>
        </p:blipFill>
        <p:spPr>
          <a:xfrm>
            <a:off x="-396720" y="4532400"/>
            <a:ext cx="3060720" cy="2325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6"/>
          <p:cNvSpPr/>
          <p:nvPr/>
        </p:nvSpPr>
        <p:spPr>
          <a:xfrm>
            <a:off x="6443640" y="4869000"/>
            <a:ext cx="25192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 первый торжественный салют в Моск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9"/>
          <p:cNvSpPr/>
          <p:nvPr/>
        </p:nvSpPr>
        <p:spPr>
          <a:xfrm>
            <a:off x="4643280" y="6453360"/>
            <a:ext cx="435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вершение коренного перел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2"/>
          <p:cNvSpPr/>
          <p:nvPr/>
        </p:nvSpPr>
        <p:spPr>
          <a:xfrm>
            <a:off x="4643280" y="2492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рянски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3"/>
          <p:cNvSpPr/>
          <p:nvPr/>
        </p:nvSpPr>
        <p:spPr>
          <a:xfrm>
            <a:off x="4932360" y="3789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епно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4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95"/>
          <p:cNvSpPr/>
          <p:nvPr/>
        </p:nvSpPr>
        <p:spPr>
          <a:xfrm>
            <a:off x="3635280" y="3068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96"/>
          <p:cNvSpPr/>
          <p:nvPr/>
        </p:nvSpPr>
        <p:spPr>
          <a:xfrm>
            <a:off x="4498920" y="479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7"/>
          <p:cNvSpPr/>
          <p:nvPr/>
        </p:nvSpPr>
        <p:spPr>
          <a:xfrm>
            <a:off x="4140360" y="4221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98"/>
          <p:cNvSpPr/>
          <p:nvPr/>
        </p:nvSpPr>
        <p:spPr>
          <a:xfrm>
            <a:off x="4067280" y="5445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9"/>
          <p:cNvSpPr/>
          <p:nvPr/>
        </p:nvSpPr>
        <p:spPr>
          <a:xfrm>
            <a:off x="2987640" y="299736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Орё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0"/>
          <p:cNvSpPr/>
          <p:nvPr/>
        </p:nvSpPr>
        <p:spPr>
          <a:xfrm>
            <a:off x="4211640" y="4005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Ку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1"/>
          <p:cNvSpPr/>
          <p:nvPr/>
        </p:nvSpPr>
        <p:spPr>
          <a:xfrm>
            <a:off x="4572000" y="449280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охор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2"/>
          <p:cNvSpPr/>
          <p:nvPr/>
        </p:nvSpPr>
        <p:spPr>
          <a:xfrm>
            <a:off x="3059280" y="59500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Харь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203"/>
          <p:cNvSpPr/>
          <p:nvPr/>
        </p:nvSpPr>
        <p:spPr>
          <a:xfrm flipV="1" rot="1292400">
            <a:off x="3850920" y="3357720"/>
            <a:ext cx="431640" cy="501480"/>
          </a:xfrm>
          <a:prstGeom prst="pie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rc 204"/>
          <p:cNvSpPr/>
          <p:nvPr/>
        </p:nvSpPr>
        <p:spPr>
          <a:xfrm flipV="1" rot="15228600">
            <a:off x="3958920" y="4906800"/>
            <a:ext cx="432000" cy="501120"/>
          </a:xfrm>
          <a:prstGeom prst="pie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5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6"/>
          <p:cNvSpPr/>
          <p:nvPr/>
        </p:nvSpPr>
        <p:spPr>
          <a:xfrm>
            <a:off x="4643280" y="60213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Юго-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6"/>
          <a:stretch/>
        </p:blipFill>
        <p:spPr>
          <a:xfrm>
            <a:off x="3348000" y="2637000"/>
            <a:ext cx="574560" cy="33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8" descr="image16"/>
          <p:cNvPicPr/>
          <p:nvPr/>
        </p:nvPicPr>
        <p:blipFill>
          <a:blip r:embed="rId7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0" descr="image16"/>
          <p:cNvPicPr/>
          <p:nvPr/>
        </p:nvPicPr>
        <p:blipFill>
          <a:blip r:embed="rId8"/>
          <a:stretch/>
        </p:blipFill>
        <p:spPr>
          <a:xfrm>
            <a:off x="5651640" y="5734080"/>
            <a:ext cx="504720" cy="320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9"/>
          <a:stretch/>
        </p:blipFill>
        <p:spPr>
          <a:xfrm>
            <a:off x="3274920" y="5537160"/>
            <a:ext cx="574920" cy="3398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212"/>
          <p:cNvSpPr/>
          <p:nvPr/>
        </p:nvSpPr>
        <p:spPr>
          <a:xfrm rot="20725800">
            <a:off x="3924360" y="299736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80808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13"/>
          <p:cNvSpPr/>
          <p:nvPr/>
        </p:nvSpPr>
        <p:spPr>
          <a:xfrm rot="11704200">
            <a:off x="3924000" y="450828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80808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14"/>
          <p:cNvSpPr/>
          <p:nvPr/>
        </p:nvSpPr>
        <p:spPr>
          <a:xfrm>
            <a:off x="3995640" y="6021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5"/>
          <p:cNvSpPr/>
          <p:nvPr/>
        </p:nvSpPr>
        <p:spPr>
          <a:xfrm>
            <a:off x="4282920" y="53737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Бел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6"/>
          <p:cNvSpPr/>
          <p:nvPr/>
        </p:nvSpPr>
        <p:spPr>
          <a:xfrm>
            <a:off x="2916360" y="3213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7"/>
          <p:cNvSpPr/>
          <p:nvPr/>
        </p:nvSpPr>
        <p:spPr>
          <a:xfrm>
            <a:off x="4427640" y="5661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8"/>
          <p:cNvSpPr/>
          <p:nvPr/>
        </p:nvSpPr>
        <p:spPr>
          <a:xfrm>
            <a:off x="2987640" y="3816360"/>
            <a:ext cx="1152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Центр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р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9"/>
          <p:cNvSpPr/>
          <p:nvPr/>
        </p:nvSpPr>
        <p:spPr>
          <a:xfrm>
            <a:off x="3203640" y="4581360"/>
            <a:ext cx="115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Воронеж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р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20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21" descr="image16"/>
          <p:cNvPicPr/>
          <p:nvPr/>
        </p:nvPicPr>
        <p:blipFill>
          <a:blip r:embed="rId10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1" name="Freeform 222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3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24" descr="image16"/>
          <p:cNvPicPr/>
          <p:nvPr/>
        </p:nvPicPr>
        <p:blipFill>
          <a:blip r:embed="rId11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25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6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27" descr="image16"/>
          <p:cNvPicPr/>
          <p:nvPr/>
        </p:nvPicPr>
        <p:blipFill>
          <a:blip r:embed="rId12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7" name="Freeform 228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9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0" descr="image16"/>
          <p:cNvPicPr/>
          <p:nvPr/>
        </p:nvPicPr>
        <p:blipFill>
          <a:blip r:embed="rId13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0" name="Freeform 231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2" descr="image16"/>
          <p:cNvPicPr/>
          <p:nvPr/>
        </p:nvPicPr>
        <p:blipFill>
          <a:blip r:embed="rId14"/>
          <a:stretch/>
        </p:blipFill>
        <p:spPr>
          <a:xfrm>
            <a:off x="5796000" y="414972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33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4" descr="image16"/>
          <p:cNvPicPr/>
          <p:nvPr/>
        </p:nvPicPr>
        <p:blipFill>
          <a:blip r:embed="rId15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235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237"/>
          <p:cNvSpPr txBox="1"/>
          <p:nvPr/>
        </p:nvSpPr>
        <p:spPr>
          <a:xfrm>
            <a:off x="6443640" y="1268280"/>
            <a:ext cx="2521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 </a:t>
            </a: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"Суворов, Кутузов"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pic>
        <p:nvPicPr>
          <p:cNvPr id="106" name="Picture 239" descr="1267_1"/>
          <p:cNvPicPr/>
          <p:nvPr/>
        </p:nvPicPr>
        <p:blipFill>
          <a:blip r:embed="rId16"/>
          <a:stretch/>
        </p:blipFill>
        <p:spPr>
          <a:xfrm>
            <a:off x="826920" y="3068640"/>
            <a:ext cx="951120" cy="144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2" descr="0941_1"/>
          <p:cNvPicPr/>
          <p:nvPr/>
        </p:nvPicPr>
        <p:blipFill>
          <a:blip r:embed="rId17"/>
          <a:stretch/>
        </p:blipFill>
        <p:spPr>
          <a:xfrm>
            <a:off x="7380360" y="3429000"/>
            <a:ext cx="774720" cy="122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43" descr="0923_1"/>
          <p:cNvPicPr/>
          <p:nvPr/>
        </p:nvPicPr>
        <p:blipFill>
          <a:blip r:embed="rId18"/>
          <a:stretch/>
        </p:blipFill>
        <p:spPr>
          <a:xfrm>
            <a:off x="6588000" y="3505320"/>
            <a:ext cx="73188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4" descr="0942_1"/>
          <p:cNvPicPr/>
          <p:nvPr/>
        </p:nvPicPr>
        <p:blipFill>
          <a:blip r:embed="rId19"/>
          <a:stretch/>
        </p:blipFill>
        <p:spPr>
          <a:xfrm>
            <a:off x="8244000" y="3535200"/>
            <a:ext cx="714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51280" y="623736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z.Kpfw-VI T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20" y="443700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z.Kpfw-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080" y="270828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z.Kpfw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a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Объект 9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2303280" cy="100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6443640" y="3141720"/>
            <a:ext cx="2305080" cy="893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3" descr=""/>
          <p:cNvPicPr/>
          <p:nvPr/>
        </p:nvPicPr>
        <p:blipFill>
          <a:blip r:embed="rId4"/>
          <a:stretch/>
        </p:blipFill>
        <p:spPr>
          <a:xfrm>
            <a:off x="6084720" y="5157720"/>
            <a:ext cx="2735280" cy="1112760"/>
          </a:xfrm>
          <a:prstGeom prst="rect">
            <a:avLst/>
          </a:prstGeom>
          <a:ln w="0">
            <a:noFill/>
          </a:ln>
        </p:spPr>
      </p:pic>
      <p:pic>
        <p:nvPicPr>
          <p:cNvPr id="116" name="Объект 8" descr=""/>
          <p:cNvPicPr/>
          <p:nvPr/>
        </p:nvPicPr>
        <p:blipFill>
          <a:blip r:embed="rId5"/>
          <a:stretch/>
        </p:blipFill>
        <p:spPr>
          <a:xfrm>
            <a:off x="1116000" y="4149720"/>
            <a:ext cx="2519280" cy="1009800"/>
          </a:xfrm>
          <a:prstGeom prst="rect">
            <a:avLst/>
          </a:prstGeom>
          <a:ln w="0">
            <a:noFill/>
          </a:ln>
        </p:spPr>
      </p:pic>
      <p:pic>
        <p:nvPicPr>
          <p:cNvPr id="117" name="Объект 11" descr=""/>
          <p:cNvPicPr/>
          <p:nvPr/>
        </p:nvPicPr>
        <p:blipFill>
          <a:blip r:embed="rId6"/>
          <a:stretch/>
        </p:blipFill>
        <p:spPr>
          <a:xfrm>
            <a:off x="468360" y="3068640"/>
            <a:ext cx="2590920" cy="93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4"/>
          <p:cNvSpPr/>
          <p:nvPr/>
        </p:nvSpPr>
        <p:spPr>
          <a:xfrm>
            <a:off x="8246160" y="2924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В1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7838280" y="4581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-34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7382520" y="621648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-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вероб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7" descr="8_4"/>
          <p:cNvPicPr/>
          <p:nvPr/>
        </p:nvPicPr>
        <p:blipFill>
          <a:blip r:embed="rId7"/>
          <a:stretch/>
        </p:blipFill>
        <p:spPr>
          <a:xfrm>
            <a:off x="684360" y="5084640"/>
            <a:ext cx="2158920" cy="10749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18"/>
          <p:cNvSpPr txBox="1"/>
          <p:nvPr/>
        </p:nvSpPr>
        <p:spPr>
          <a:xfrm>
            <a:off x="2771640" y="189000"/>
            <a:ext cx="374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12 июля 1943 года</a:t>
            </a:r>
            <a:endParaRPr b="1" lang="en-US" sz="1800" spc="1" strike="noStrike">
              <a:ln w="1260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23" name="AutoShape 19"/>
          <p:cNvSpPr/>
          <p:nvPr/>
        </p:nvSpPr>
        <p:spPr>
          <a:xfrm>
            <a:off x="539640" y="549360"/>
            <a:ext cx="8280360" cy="1150920"/>
          </a:xfrm>
          <a:custGeom>
            <a:avLst/>
            <a:gdLst>
              <a:gd name="textAreaLeft" fmla="*/ 1035000 w 8280360"/>
              <a:gd name="textAreaRight" fmla="*/ 7245360 w 8280360"/>
              <a:gd name="textAreaTop" fmla="*/ 413280 h 1150920"/>
              <a:gd name="textAreaBottom" fmla="*/ 10789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3844"/>
                </a:moveTo>
                <a:arcTo wR="21600" hR="18571" stAng="7432950" swAng="-521114"/>
                <a:lnTo>
                  <a:pt x="2700" y="20245"/>
                </a:lnTo>
                <a:arcTo wR="21600" hR="18571" stAng="6911836" swAng="-3023672"/>
                <a:lnTo>
                  <a:pt x="18900" y="14977"/>
                </a:lnTo>
                <a:arcTo wR="21600" hR="18571" stAng="3888164" swAng="-521114"/>
                <a:lnTo>
                  <a:pt x="18900" y="8055"/>
                </a:lnTo>
                <a:lnTo>
                  <a:pt x="21600" y="0"/>
                </a:lnTo>
                <a:lnTo>
                  <a:pt x="21600" y="0"/>
                </a:lnTo>
                <a:arcTo wR="21600" hR="18571" stAng="3367050" swAng="1029996"/>
                <a:lnTo>
                  <a:pt x="16200" y="7166"/>
                </a:lnTo>
                <a:arcTo wR="21600" hR="18571" stAng="4397046" swAng="2005907"/>
                <a:lnTo>
                  <a:pt x="5400" y="1898"/>
                </a:lnTo>
                <a:arcTo wR="21600" hR="18571" stAng="6402954" swAng="1029996"/>
                <a:lnTo>
                  <a:pt x="2700" y="8055"/>
                </a:lnTo>
                <a:close/>
              </a:path>
              <a:path fill="none" w="21600" h="21600">
                <a:moveTo>
                  <a:pt x="5400" y="7166"/>
                </a:moveTo>
                <a:arcTo wR="21600" hR="18571" stAng="6402954" swAng="508882"/>
                <a:lnTo>
                  <a:pt x="5400" y="1898"/>
                </a:lnTo>
              </a:path>
              <a:path fill="none" w="21600" h="21600">
                <a:moveTo>
                  <a:pt x="16200" y="7166"/>
                </a:moveTo>
                <a:arcTo wR="21600" hR="18571" stAng="4397046" swAng="-508882"/>
                <a:lnTo>
                  <a:pt x="16200" y="1898"/>
                </a:lnTo>
              </a:path>
              <a:path fill="none" w="21600" h="21600">
                <a:moveTo>
                  <a:pt x="2700" y="14977"/>
                </a:moveTo>
                <a:lnTo>
                  <a:pt x="2700" y="6401"/>
                </a:lnTo>
              </a:path>
              <a:path fill="none" w="21600" h="21600">
                <a:moveTo>
                  <a:pt x="18900" y="14977"/>
                </a:moveTo>
                <a:lnTo>
                  <a:pt x="18900" y="6401"/>
                </a:lnTo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 д.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рохоровк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оизош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амое крупнейшее танковое сражение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6732720" y="1989000"/>
            <a:ext cx="2303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-я гв. танковая арм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А.Ротми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2411280" y="1916280"/>
            <a:ext cx="2089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д 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Рейх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Адольф Гитле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Мертвая голо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24"/>
          <p:cNvSpPr txBox="1"/>
          <p:nvPr/>
        </p:nvSpPr>
        <p:spPr>
          <a:xfrm>
            <a:off x="4932360" y="2060640"/>
            <a:ext cx="1346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lekino"/>
              </a:rPr>
              <a:t>ок. 1200 </a:t>
            </a:r>
            <a:endParaRPr b="1" lang="en-US" sz="2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lekino"/>
              </a:rPr>
              <a:t>танков</a:t>
            </a:r>
            <a:endParaRPr b="1" lang="en-US" sz="20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2556000" y="5734080"/>
            <a:ext cx="39607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ентябрь 1943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тва за Днеп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Восточный в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06.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XI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.1943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7" descr="gold_star"/>
          <p:cNvPicPr/>
          <p:nvPr/>
        </p:nvPicPr>
        <p:blipFill>
          <a:blip r:embed="rId12"/>
          <a:stretch/>
        </p:blipFill>
        <p:spPr>
          <a:xfrm>
            <a:off x="4140360" y="3213000"/>
            <a:ext cx="998280" cy="18669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8"/>
          <p:cNvSpPr/>
          <p:nvPr/>
        </p:nvSpPr>
        <p:spPr>
          <a:xfrm>
            <a:off x="3852720" y="5157720"/>
            <a:ext cx="144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. 2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дат и офиц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0" descr="pogon-werm-15-3a.gif (11092 bytes)"/>
          <p:cNvPicPr/>
          <p:nvPr/>
        </p:nvPicPr>
        <p:blipFill>
          <a:blip r:embed="rId13"/>
          <a:srcRect l="0" t="0" r="74451" b="85369"/>
          <a:stretch/>
        </p:blipFill>
        <p:spPr>
          <a:xfrm>
            <a:off x="250920" y="148428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1" descr="pogon-werm-15-3a.gif (11092 bytes)"/>
          <p:cNvPicPr/>
          <p:nvPr/>
        </p:nvPicPr>
        <p:blipFill>
          <a:blip r:embed="rId14"/>
          <a:srcRect l="25511" t="0" r="48940" b="84994"/>
          <a:stretch/>
        </p:blipFill>
        <p:spPr>
          <a:xfrm>
            <a:off x="395280" y="1844640"/>
            <a:ext cx="720720" cy="43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2" descr="pogon-werm-15-3a.gif (11092 bytes)"/>
          <p:cNvPicPr/>
          <p:nvPr/>
        </p:nvPicPr>
        <p:blipFill>
          <a:blip r:embed="rId15"/>
          <a:srcRect l="51073" t="-2478" r="23430" b="84994"/>
          <a:stretch/>
        </p:blipFill>
        <p:spPr>
          <a:xfrm>
            <a:off x="539640" y="220500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pogon-werm-15-3.gif (2230 bytes)"/>
          <p:cNvPicPr/>
          <p:nvPr/>
        </p:nvPicPr>
        <p:blipFill>
          <a:blip r:embed="rId16"/>
          <a:srcRect l="8915" t="4541" r="55568" b="63463"/>
          <a:stretch/>
        </p:blipFill>
        <p:spPr>
          <a:xfrm>
            <a:off x="1476360" y="2060640"/>
            <a:ext cx="6462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Рисунок1"/>
          <p:cNvPicPr/>
          <p:nvPr/>
        </p:nvPicPr>
        <p:blipFill>
          <a:blip r:embed="rId2"/>
          <a:stretch/>
        </p:blipFill>
        <p:spPr>
          <a:xfrm>
            <a:off x="4643280" y="260280"/>
            <a:ext cx="4248360" cy="255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5" name="WordArt 9"/>
          <p:cNvSpPr txBox="1"/>
          <p:nvPr/>
        </p:nvSpPr>
        <p:spPr>
          <a:xfrm>
            <a:off x="250920" y="11736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Тегеранская конференц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55640" y="2205000"/>
            <a:ext cx="3384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рытие второго фр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5076720" y="292392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_Typer"/>
              </a:rPr>
              <a:t>И.В.Сталин, Ф.Рузвельт, У.Черчил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95280" y="184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й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250920" y="2852640"/>
            <a:ext cx="4535280" cy="201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Итоги Тегеранской конфер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ие второго фро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«операция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Overlord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рм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упление СССР в войну против Яп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военное устройство Германии и Поль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1332000" y="5013360"/>
            <a:ext cx="355608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6 июня 1944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ерация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О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erlord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адка англо-американских войск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нд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1619280" y="6307920"/>
            <a:ext cx="64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андующий объединенными войсками –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Д.Эйзенхауэ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252360" y="1341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 ноября – 1 декабря 194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2" descr="Рисунок29"/>
          <p:cNvPicPr/>
          <p:nvPr/>
        </p:nvPicPr>
        <p:blipFill>
          <a:blip r:embed="rId3"/>
          <a:stretch/>
        </p:blipFill>
        <p:spPr>
          <a:xfrm>
            <a:off x="5003640" y="3429000"/>
            <a:ext cx="3961080" cy="2697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5" name="Picture 24" descr="1254_1"/>
          <p:cNvPicPr/>
          <p:nvPr/>
        </p:nvPicPr>
        <p:blipFill>
          <a:blip r:embed="rId4"/>
          <a:stretch/>
        </p:blipFill>
        <p:spPr>
          <a:xfrm>
            <a:off x="108000" y="4941720"/>
            <a:ext cx="112860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691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Январь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ятие блокады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енин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евраль - март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бережной Украины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ход к границе с Румын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ачало мая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ры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юнь-июль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перация </a:t>
            </a:r>
            <a:r>
              <a:rPr b="1" i="1" lang="en-US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«Багратион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освобождение Белоруссии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7 ноября 199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шистские войска окончательно изгнаны с советской терри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2385"/>
          <p:cNvPicPr/>
          <p:nvPr/>
        </p:nvPicPr>
        <p:blipFill>
          <a:blip r:embed="rId2"/>
          <a:stretch/>
        </p:blipFill>
        <p:spPr>
          <a:xfrm>
            <a:off x="6732720" y="404640"/>
            <a:ext cx="172692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2391"/>
          <p:cNvPicPr/>
          <p:nvPr/>
        </p:nvPicPr>
        <p:blipFill>
          <a:blip r:embed="rId3"/>
          <a:stretch/>
        </p:blipFill>
        <p:spPr>
          <a:xfrm>
            <a:off x="4356000" y="333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1404"/>
          <p:cNvPicPr/>
          <p:nvPr/>
        </p:nvPicPr>
        <p:blipFill>
          <a:blip r:embed="rId4"/>
          <a:stretch/>
        </p:blipFill>
        <p:spPr>
          <a:xfrm>
            <a:off x="7380360" y="1773360"/>
            <a:ext cx="1474560" cy="216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5"/>
          <a:stretch/>
        </p:blipFill>
        <p:spPr>
          <a:xfrm>
            <a:off x="468360" y="260280"/>
            <a:ext cx="2881440" cy="1695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6"/>
          <a:stretch/>
        </p:blipFill>
        <p:spPr>
          <a:xfrm>
            <a:off x="7380360" y="4005360"/>
            <a:ext cx="1584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45:37Z</dcterms:created>
  <dc:creator>саня</dc:creator>
  <dc:description/>
  <dc:language>en-US</dc:language>
  <cp:lastModifiedBy>КарМаН</cp:lastModifiedBy>
  <dcterms:modified xsi:type="dcterms:W3CDTF">2012-03-11T03:00:55Z</dcterms:modified>
  <cp:revision>11</cp:revision>
  <dc:subject/>
  <dc:title>Слайд 1</dc:title>
</cp:coreProperties>
</file>