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BFB-B86D-43FA-8A78-EBFB9268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40F-8437-4B3C-8B70-0D0FFA81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D19-27E3-4803-BD38-6A4C1B35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288-94DF-4818-BDE5-4E9ECF94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8EE-1FAB-4801-A065-15D37D64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D69-2E2E-4B9A-B6D5-3BB0D4E4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CB4-FED6-4265-8DC0-6FAB65A4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A3B-DCE6-443A-8FA1-D0393735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3B9-7D22-4527-8D0B-F0605143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AAB-906A-44AE-9B41-D3A4A990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A63-EA0E-4567-A314-98805473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C68-25BB-47CF-92CA-23CFB71B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0296-1395-4A2F-A73F-6155D5E91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3708360" y="4797360"/>
            <a:ext cx="2305080" cy="1559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9" descr=""/>
          <p:cNvPicPr/>
          <p:nvPr/>
        </p:nvPicPr>
        <p:blipFill>
          <a:blip r:embed="rId3"/>
          <a:stretch/>
        </p:blipFill>
        <p:spPr>
          <a:xfrm>
            <a:off x="1908000" y="3500280"/>
            <a:ext cx="2592720" cy="15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tretch/>
        </p:blipFill>
        <p:spPr>
          <a:xfrm>
            <a:off x="6516720" y="4797360"/>
            <a:ext cx="2448000" cy="1758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§26. СССР и его союзники в решающих битвах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5221440" y="344808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2843280" y="1773360"/>
            <a:ext cx="3024000" cy="16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250920" y="4797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8"/>
          <a:stretch/>
        </p:blipFill>
        <p:spPr>
          <a:xfrm>
            <a:off x="539640" y="1773360"/>
            <a:ext cx="1584360" cy="2063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9"/>
          <a:stretch/>
        </p:blipFill>
        <p:spPr>
          <a:xfrm>
            <a:off x="6588000" y="1662120"/>
            <a:ext cx="2233800" cy="1622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6360" y="6308640"/>
            <a:ext cx="633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удаев Александр Борисович, учитель истории и обществозн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ровской улусной многопрофильной гимнази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exander_khudaev@mail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2627280" y="44280"/>
            <a:ext cx="38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lekino"/>
              </a:rPr>
              <a:t>Курская би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059280" y="1339920"/>
            <a:ext cx="33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yrillicGoth"/>
              </a:rPr>
              <a:t>5 июля - 23 августа 1943 г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6659640" y="549360"/>
            <a:ext cx="2268360" cy="431640"/>
          </a:xfrm>
          <a:prstGeom prst="wedgeRoundRectCallout">
            <a:avLst>
              <a:gd name="adj1" fmla="val -57768"/>
              <a:gd name="adj2" fmla="val 116912"/>
              <a:gd name="adj3" fmla="val 16667"/>
            </a:avLst>
          </a:prstGeom>
          <a:solidFill>
            <a:srgbClr val="ffcc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дней и но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900000" y="973080"/>
            <a:ext cx="863640" cy="511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4"/>
          <p:cNvSpPr/>
          <p:nvPr/>
        </p:nvSpPr>
        <p:spPr>
          <a:xfrm>
            <a:off x="468360" y="21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Ма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лю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7"/>
          <p:cNvSpPr/>
          <p:nvPr/>
        </p:nvSpPr>
        <p:spPr>
          <a:xfrm>
            <a:off x="2627280" y="6237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23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6624720" y="220500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 Г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утин Н.Ф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1"/>
          <p:cNvSpPr txBox="1"/>
          <p:nvPr/>
        </p:nvSpPr>
        <p:spPr>
          <a:xfrm>
            <a:off x="179280" y="1413000"/>
            <a:ext cx="280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yrillicGoth"/>
              </a:rPr>
              <a:t>"Цитадель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pic>
        <p:nvPicPr>
          <p:cNvPr id="59" name="Picture 74" descr="8_16"/>
          <p:cNvPicPr/>
          <p:nvPr/>
        </p:nvPicPr>
        <p:blipFill>
          <a:blip r:embed="rId5"/>
          <a:stretch/>
        </p:blipFill>
        <p:spPr>
          <a:xfrm>
            <a:off x="-396720" y="4532400"/>
            <a:ext cx="3060720" cy="232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6"/>
          <p:cNvSpPr/>
          <p:nvPr/>
        </p:nvSpPr>
        <p:spPr>
          <a:xfrm>
            <a:off x="6443640" y="4869000"/>
            <a:ext cx="251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первый торжественный салют 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9"/>
          <p:cNvSpPr/>
          <p:nvPr/>
        </p:nvSpPr>
        <p:spPr>
          <a:xfrm>
            <a:off x="4643280" y="6453360"/>
            <a:ext cx="435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вершение коренного пере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2"/>
          <p:cNvSpPr/>
          <p:nvPr/>
        </p:nvSpPr>
        <p:spPr>
          <a:xfrm>
            <a:off x="4643280" y="2492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рянски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3"/>
          <p:cNvSpPr/>
          <p:nvPr/>
        </p:nvSpPr>
        <p:spPr>
          <a:xfrm>
            <a:off x="4932360" y="3789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епно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4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5"/>
          <p:cNvSpPr/>
          <p:nvPr/>
        </p:nvSpPr>
        <p:spPr>
          <a:xfrm>
            <a:off x="3635280" y="3068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96"/>
          <p:cNvSpPr/>
          <p:nvPr/>
        </p:nvSpPr>
        <p:spPr>
          <a:xfrm>
            <a:off x="449892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7"/>
          <p:cNvSpPr/>
          <p:nvPr/>
        </p:nvSpPr>
        <p:spPr>
          <a:xfrm>
            <a:off x="414036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8"/>
          <p:cNvSpPr/>
          <p:nvPr/>
        </p:nvSpPr>
        <p:spPr>
          <a:xfrm>
            <a:off x="4067280" y="5445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9"/>
          <p:cNvSpPr/>
          <p:nvPr/>
        </p:nvSpPr>
        <p:spPr>
          <a:xfrm>
            <a:off x="2987640" y="2997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рё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0"/>
          <p:cNvSpPr/>
          <p:nvPr/>
        </p:nvSpPr>
        <p:spPr>
          <a:xfrm>
            <a:off x="4211640" y="4005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у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1"/>
          <p:cNvSpPr/>
          <p:nvPr/>
        </p:nvSpPr>
        <p:spPr>
          <a:xfrm>
            <a:off x="4572000" y="44928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хо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2"/>
          <p:cNvSpPr/>
          <p:nvPr/>
        </p:nvSpPr>
        <p:spPr>
          <a:xfrm>
            <a:off x="3059280" y="5950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Харь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203"/>
          <p:cNvSpPr/>
          <p:nvPr/>
        </p:nvSpPr>
        <p:spPr>
          <a:xfrm flipV="1" rot="1292400">
            <a:off x="3850920" y="3357720"/>
            <a:ext cx="431640" cy="50148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204"/>
          <p:cNvSpPr/>
          <p:nvPr/>
        </p:nvSpPr>
        <p:spPr>
          <a:xfrm flipV="1" rot="15228600">
            <a:off x="3958920" y="4906800"/>
            <a:ext cx="432000" cy="50112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5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6"/>
          <p:cNvSpPr/>
          <p:nvPr/>
        </p:nvSpPr>
        <p:spPr>
          <a:xfrm>
            <a:off x="4643280" y="6021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Юго-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348000" y="2637000"/>
            <a:ext cx="574560" cy="33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8" descr="image16"/>
          <p:cNvPicPr/>
          <p:nvPr/>
        </p:nvPicPr>
        <p:blipFill>
          <a:blip r:embed="rId7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0" descr="image16"/>
          <p:cNvPicPr/>
          <p:nvPr/>
        </p:nvPicPr>
        <p:blipFill>
          <a:blip r:embed="rId8"/>
          <a:stretch/>
        </p:blipFill>
        <p:spPr>
          <a:xfrm>
            <a:off x="5651640" y="573408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9"/>
          <a:stretch/>
        </p:blipFill>
        <p:spPr>
          <a:xfrm>
            <a:off x="3274920" y="5537160"/>
            <a:ext cx="574920" cy="339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12"/>
          <p:cNvSpPr/>
          <p:nvPr/>
        </p:nvSpPr>
        <p:spPr>
          <a:xfrm rot="20725800">
            <a:off x="3924360" y="299736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3"/>
          <p:cNvSpPr/>
          <p:nvPr/>
        </p:nvSpPr>
        <p:spPr>
          <a:xfrm rot="11704200">
            <a:off x="3924000" y="450828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14"/>
          <p:cNvSpPr/>
          <p:nvPr/>
        </p:nvSpPr>
        <p:spPr>
          <a:xfrm>
            <a:off x="3995640" y="6021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5"/>
          <p:cNvSpPr/>
          <p:nvPr/>
        </p:nvSpPr>
        <p:spPr>
          <a:xfrm>
            <a:off x="4282920" y="537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ел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6"/>
          <p:cNvSpPr/>
          <p:nvPr/>
        </p:nvSpPr>
        <p:spPr>
          <a:xfrm>
            <a:off x="2916360" y="321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7"/>
          <p:cNvSpPr/>
          <p:nvPr/>
        </p:nvSpPr>
        <p:spPr>
          <a:xfrm>
            <a:off x="4427640" y="5661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8"/>
          <p:cNvSpPr/>
          <p:nvPr/>
        </p:nvSpPr>
        <p:spPr>
          <a:xfrm>
            <a:off x="2987640" y="3816360"/>
            <a:ext cx="11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Центр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9"/>
          <p:cNvSpPr/>
          <p:nvPr/>
        </p:nvSpPr>
        <p:spPr>
          <a:xfrm>
            <a:off x="3203640" y="458136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Воронеж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0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21" descr="image16"/>
          <p:cNvPicPr/>
          <p:nvPr/>
        </p:nvPicPr>
        <p:blipFill>
          <a:blip r:embed="rId10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1" name="Freeform 222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4" descr="image16"/>
          <p:cNvPicPr/>
          <p:nvPr/>
        </p:nvPicPr>
        <p:blipFill>
          <a:blip r:embed="rId11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6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27" descr="image16"/>
          <p:cNvPicPr/>
          <p:nvPr/>
        </p:nvPicPr>
        <p:blipFill>
          <a:blip r:embed="rId12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7" name="Freeform 228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9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0" descr="image16"/>
          <p:cNvPicPr/>
          <p:nvPr/>
        </p:nvPicPr>
        <p:blipFill>
          <a:blip r:embed="rId13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231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2" descr="image16"/>
          <p:cNvPicPr/>
          <p:nvPr/>
        </p:nvPicPr>
        <p:blipFill>
          <a:blip r:embed="rId14"/>
          <a:stretch/>
        </p:blipFill>
        <p:spPr>
          <a:xfrm>
            <a:off x="5796000" y="414972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3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4" descr="image16"/>
          <p:cNvPicPr/>
          <p:nvPr/>
        </p:nvPicPr>
        <p:blipFill>
          <a:blip r:embed="rId15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23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37"/>
          <p:cNvSpPr txBox="1"/>
          <p:nvPr/>
        </p:nvSpPr>
        <p:spPr>
          <a:xfrm>
            <a:off x="6443640" y="1268280"/>
            <a:ext cx="252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 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"Суворов, Кутузов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pic>
        <p:nvPicPr>
          <p:cNvPr id="106" name="Picture 239" descr="1267_1"/>
          <p:cNvPicPr/>
          <p:nvPr/>
        </p:nvPicPr>
        <p:blipFill>
          <a:blip r:embed="rId16"/>
          <a:stretch/>
        </p:blipFill>
        <p:spPr>
          <a:xfrm>
            <a:off x="826920" y="3068640"/>
            <a:ext cx="9511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2" descr="0941_1"/>
          <p:cNvPicPr/>
          <p:nvPr/>
        </p:nvPicPr>
        <p:blipFill>
          <a:blip r:embed="rId17"/>
          <a:stretch/>
        </p:blipFill>
        <p:spPr>
          <a:xfrm>
            <a:off x="7380360" y="3429000"/>
            <a:ext cx="77472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3" descr="0923_1"/>
          <p:cNvPicPr/>
          <p:nvPr/>
        </p:nvPicPr>
        <p:blipFill>
          <a:blip r:embed="rId18"/>
          <a:stretch/>
        </p:blipFill>
        <p:spPr>
          <a:xfrm>
            <a:off x="6588000" y="3505320"/>
            <a:ext cx="73188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4" descr="0942_1"/>
          <p:cNvPicPr/>
          <p:nvPr/>
        </p:nvPicPr>
        <p:blipFill>
          <a:blip r:embed="rId19"/>
          <a:stretch/>
        </p:blipFill>
        <p:spPr>
          <a:xfrm>
            <a:off x="8244000" y="3535200"/>
            <a:ext cx="714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51280" y="623736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z.Kpfw-VI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20" y="44370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080" y="27082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9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30328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2305080" cy="893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"/>
          <p:cNvPicPr/>
          <p:nvPr/>
        </p:nvPicPr>
        <p:blipFill>
          <a:blip r:embed="rId4"/>
          <a:stretch/>
        </p:blipFill>
        <p:spPr>
          <a:xfrm>
            <a:off x="6084720" y="5157720"/>
            <a:ext cx="2735280" cy="1112760"/>
          </a:xfrm>
          <a:prstGeom prst="rect">
            <a:avLst/>
          </a:prstGeom>
          <a:ln w="0">
            <a:noFill/>
          </a:ln>
        </p:spPr>
      </p:pic>
      <p:pic>
        <p:nvPicPr>
          <p:cNvPr id="116" name="Объект 8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2519280" cy="10098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11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259092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8246160" y="292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7838280" y="458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-34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7382520" y="62164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-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вероб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8_4"/>
          <p:cNvPicPr/>
          <p:nvPr/>
        </p:nvPicPr>
        <p:blipFill>
          <a:blip r:embed="rId7"/>
          <a:stretch/>
        </p:blipFill>
        <p:spPr>
          <a:xfrm>
            <a:off x="684360" y="5084640"/>
            <a:ext cx="2158920" cy="1074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8"/>
          <p:cNvSpPr txBox="1"/>
          <p:nvPr/>
        </p:nvSpPr>
        <p:spPr>
          <a:xfrm>
            <a:off x="2771640" y="189000"/>
            <a:ext cx="374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12 июля 1943 года</a:t>
            </a:r>
            <a:endParaRPr b="1" lang="en-US" sz="18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539640" y="549360"/>
            <a:ext cx="8280360" cy="1150920"/>
          </a:xfrm>
          <a:custGeom>
            <a:avLst/>
            <a:gdLst>
              <a:gd name="textAreaLeft" fmla="*/ 1035000 w 8280360"/>
              <a:gd name="textAreaRight" fmla="*/ 7245360 w 8280360"/>
              <a:gd name="textAreaTop" fmla="*/ 413280 h 1150920"/>
              <a:gd name="textAreaBottom" fmla="*/ 1078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3844"/>
                </a:moveTo>
                <a:arcTo wR="21600" hR="18571" stAng="7432950" swAng="-521114"/>
                <a:lnTo>
                  <a:pt x="2700" y="20245"/>
                </a:lnTo>
                <a:arcTo wR="21600" hR="18571" stAng="6911836" swAng="-3023672"/>
                <a:lnTo>
                  <a:pt x="18900" y="14977"/>
                </a:lnTo>
                <a:arcTo wR="21600" hR="18571" stAng="3888164" swAng="-521114"/>
                <a:lnTo>
                  <a:pt x="18900" y="8055"/>
                </a:lnTo>
                <a:lnTo>
                  <a:pt x="21600" y="0"/>
                </a:lnTo>
                <a:lnTo>
                  <a:pt x="21600" y="0"/>
                </a:lnTo>
                <a:arcTo wR="21600" hR="18571" stAng="3367050" swAng="1029996"/>
                <a:lnTo>
                  <a:pt x="16200" y="7166"/>
                </a:lnTo>
                <a:arcTo wR="21600" hR="18571" stAng="4397046" swAng="2005907"/>
                <a:lnTo>
                  <a:pt x="5400" y="1898"/>
                </a:lnTo>
                <a:arcTo wR="21600" hR="18571" stAng="6402954" swAng="1029996"/>
                <a:lnTo>
                  <a:pt x="2700" y="8055"/>
                </a:lnTo>
                <a:close/>
              </a:path>
              <a:path fill="none" w="21600" h="21600">
                <a:moveTo>
                  <a:pt x="5400" y="7166"/>
                </a:moveTo>
                <a:arcTo wR="21600" hR="18571" stAng="6402954" swAng="508882"/>
                <a:lnTo>
                  <a:pt x="5400" y="1898"/>
                </a:lnTo>
              </a:path>
              <a:path fill="none" w="21600" h="21600">
                <a:moveTo>
                  <a:pt x="16200" y="7166"/>
                </a:moveTo>
                <a:arcTo wR="21600" hR="18571" stAng="4397046" swAng="-508882"/>
                <a:lnTo>
                  <a:pt x="16200" y="1898"/>
                </a:lnTo>
              </a:path>
              <a:path fill="none" w="21600" h="21600">
                <a:moveTo>
                  <a:pt x="2700" y="14977"/>
                </a:moveTo>
                <a:lnTo>
                  <a:pt x="2700" y="6401"/>
                </a:lnTo>
              </a:path>
              <a:path fill="none" w="21600" h="21600">
                <a:moveTo>
                  <a:pt x="18900" y="14977"/>
                </a:moveTo>
                <a:lnTo>
                  <a:pt x="18900" y="6401"/>
                </a:lnTo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 д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охоровк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оизош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амое крупнейшее танковое сражение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32720" y="1989000"/>
            <a:ext cx="2303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я гв. танковая арм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Ротми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2411280" y="1916280"/>
            <a:ext cx="2089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д 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ей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дольф Гитл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Мертвая го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4"/>
          <p:cNvSpPr txBox="1"/>
          <p:nvPr/>
        </p:nvSpPr>
        <p:spPr>
          <a:xfrm>
            <a:off x="4932360" y="2060640"/>
            <a:ext cx="134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ок. 1200 </a:t>
            </a:r>
            <a:endParaRPr b="1" lang="en-US" sz="2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танков</a:t>
            </a:r>
            <a:endParaRPr b="1" lang="en-US" sz="2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2556000" y="5734080"/>
            <a:ext cx="396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ентябрь 1943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тва за Днеп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Восточн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06.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XI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.1943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7" descr="gold_star"/>
          <p:cNvPicPr/>
          <p:nvPr/>
        </p:nvPicPr>
        <p:blipFill>
          <a:blip r:embed="rId12"/>
          <a:stretch/>
        </p:blipFill>
        <p:spPr>
          <a:xfrm>
            <a:off x="4140360" y="3213000"/>
            <a:ext cx="998280" cy="1866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3852720" y="5157720"/>
            <a:ext cx="144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. 2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дат и офиц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0" descr="pogon-werm-15-3a.gif (11092 bytes)"/>
          <p:cNvPicPr/>
          <p:nvPr/>
        </p:nvPicPr>
        <p:blipFill>
          <a:blip r:embed="rId13"/>
          <a:srcRect l="0" t="0" r="74451" b="85369"/>
          <a:stretch/>
        </p:blipFill>
        <p:spPr>
          <a:xfrm>
            <a:off x="250920" y="148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pogon-werm-15-3a.gif (11092 bytes)"/>
          <p:cNvPicPr/>
          <p:nvPr/>
        </p:nvPicPr>
        <p:blipFill>
          <a:blip r:embed="rId14"/>
          <a:srcRect l="25511" t="0" r="48940" b="84994"/>
          <a:stretch/>
        </p:blipFill>
        <p:spPr>
          <a:xfrm>
            <a:off x="395280" y="1844640"/>
            <a:ext cx="720720" cy="4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pogon-werm-15-3a.gif (11092 bytes)"/>
          <p:cNvPicPr/>
          <p:nvPr/>
        </p:nvPicPr>
        <p:blipFill>
          <a:blip r:embed="rId15"/>
          <a:srcRect l="51073" t="-2478" r="23430" b="84994"/>
          <a:stretch/>
        </p:blipFill>
        <p:spPr>
          <a:xfrm>
            <a:off x="539640" y="220500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pogon-werm-15-3.gif (2230 bytes)"/>
          <p:cNvPicPr/>
          <p:nvPr/>
        </p:nvPicPr>
        <p:blipFill>
          <a:blip r:embed="rId16"/>
          <a:srcRect l="8915" t="4541" r="55568" b="63463"/>
          <a:stretch/>
        </p:blipFill>
        <p:spPr>
          <a:xfrm>
            <a:off x="1476360" y="2060640"/>
            <a:ext cx="646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Рисунок1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255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5" name="WordArt 9"/>
          <p:cNvSpPr txBox="1"/>
          <p:nvPr/>
        </p:nvSpPr>
        <p:spPr>
          <a:xfrm>
            <a:off x="250920" y="11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Тегеранская конференц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55640" y="220500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ие второго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076720" y="29239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_Typer"/>
              </a:rPr>
              <a:t>И.В.Сталин, Ф.Рузвельт, У.Черчил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9528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50920" y="2852640"/>
            <a:ext cx="4535280" cy="20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тоги Тегеранской конфер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второго фро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«операция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Overlord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м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упление СССР в войну против Яп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военное устройство Германии и Поль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332000" y="5013360"/>
            <a:ext cx="355608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 июня 1944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ерация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rlord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адка англо-американских войск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н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619280" y="6307920"/>
            <a:ext cx="64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ующий объединенными войсками –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Д.Эйзенхауэ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2360" y="1341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ноября – 1 декабря 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2" descr="Рисунок29"/>
          <p:cNvPicPr/>
          <p:nvPr/>
        </p:nvPicPr>
        <p:blipFill>
          <a:blip r:embed="rId3"/>
          <a:stretch/>
        </p:blipFill>
        <p:spPr>
          <a:xfrm>
            <a:off x="5003640" y="3429000"/>
            <a:ext cx="3961080" cy="26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5" name="Picture 24" descr="1254_1"/>
          <p:cNvPicPr/>
          <p:nvPr/>
        </p:nvPicPr>
        <p:blipFill>
          <a:blip r:embed="rId4"/>
          <a:stretch/>
        </p:blipFill>
        <p:spPr>
          <a:xfrm>
            <a:off x="108000" y="4941720"/>
            <a:ext cx="112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691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Январ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ятие блокады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враль - март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бережной Украин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к границе с Румы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чало мая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ры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юнь-июл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ерация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«Багратион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освобождение Белоруссии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 ноября 199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шистские войска окончательно изгнаны с советск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2385"/>
          <p:cNvPicPr/>
          <p:nvPr/>
        </p:nvPicPr>
        <p:blipFill>
          <a:blip r:embed="rId2"/>
          <a:stretch/>
        </p:blipFill>
        <p:spPr>
          <a:xfrm>
            <a:off x="6732720" y="404640"/>
            <a:ext cx="172692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2391"/>
          <p:cNvPicPr/>
          <p:nvPr/>
        </p:nvPicPr>
        <p:blipFill>
          <a:blip r:embed="rId3"/>
          <a:stretch/>
        </p:blipFill>
        <p:spPr>
          <a:xfrm>
            <a:off x="4356000" y="333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1404"/>
          <p:cNvPicPr/>
          <p:nvPr/>
        </p:nvPicPr>
        <p:blipFill>
          <a:blip r:embed="rId4"/>
          <a:stretch/>
        </p:blipFill>
        <p:spPr>
          <a:xfrm>
            <a:off x="7380360" y="1773360"/>
            <a:ext cx="147456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2881440" cy="169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6"/>
          <a:stretch/>
        </p:blipFill>
        <p:spPr>
          <a:xfrm>
            <a:off x="7380360" y="4005360"/>
            <a:ext cx="1584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45:37Z</dcterms:created>
  <dc:creator>саня</dc:creator>
  <dc:description/>
  <dc:language>en-US</dc:language>
  <cp:lastModifiedBy>КарМаН</cp:lastModifiedBy>
  <dcterms:modified xsi:type="dcterms:W3CDTF">2012-03-11T03:00:55Z</dcterms:modified>
  <cp:revision>11</cp:revision>
  <dc:subject/>
  <dc:title>Слайд 1</dc:title>
</cp:coreProperties>
</file>