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503F-D530-4CA4-A347-EB5B812C7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F96B-F4A8-4A83-8054-95055006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1D3D-8869-4130-9773-A65607774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DB97-63A5-4005-A365-4C7A0D60F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3E23-EDF2-44E9-BA97-DB15A9B9C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B692-6629-4707-B8DD-ABB356E0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0FD9-5C7F-4984-9030-388D764B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FF8E-C00E-444A-AE8E-DCA995D4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8844-61B3-4F2C-9E8C-9DA122D4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0A82-DD05-4816-981C-75480629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542F-7ADD-45DC-B571-8E60CA04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E15A-1378-4D31-A036-F0539E20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5F46-92E2-4FD0-9730-5F2D767D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3D5C-FCE3-4F10-A069-0BFE496B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2DDD-48E7-42F4-941A-1C4629F2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1AD3-AEB6-4117-924A-09AE245FB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6116-A5B7-4D36-810B-B768052E0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09AD-0C1C-435E-87DB-4081323E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CB92-426A-4EB3-87B9-F3D8465A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C3CF-91EB-497F-BF46-5CB172E8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B550-F105-44A8-B255-90DD7F67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1B90-1F9A-4750-B53C-FF39E083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46C7-D5E0-4792-8F1B-778DE4A7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0B45-6943-4773-806B-B24B5537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9447-6C36-4BF9-9799-74B5FB8BDD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D105-739F-4366-A5D9-F7C05627946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hrono.ru/1900ge.html" TargetMode="External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35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Тема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899640" y="2997360"/>
            <a:ext cx="7488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« Германия: раскол и объединение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763640" y="5229360"/>
            <a:ext cx="5616720" cy="12240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Презентация разработана учителем ист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Будинской О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Антоненковой А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16000" y="333360"/>
            <a:ext cx="6696000" cy="57456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овейшая история. 9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826920" y="333360"/>
            <a:ext cx="7993080" cy="93492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7 октября 1949 г. – провозглашение Г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обытия в Восточной Германии развивались по аналогии. Была введена восточная марка в советской зоне. Политическая партия Восточной Германии( среди которых главную роль играла Социалистическая единая партия Германии), сформировали Немецкий национальный совет, который на заседании 7 октября 1949 года провозгласил создание Германской Демократической Республики на территории восточной зоны.. 12 октября палата ( временный парламент) избрали президентом ГДР Отто Громвел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9280" y="3566880"/>
            <a:ext cx="8964720" cy="31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Основные принципы  экономического порядк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осударство непосредственно не занимается регулирование хозяйственных процессов, но устанавливает правила, по которым действуют субъек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вободная конкуренция, постоянство экономической политики и стабильность денежного обращения в условиях открытого рынка, защита частной собствен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179280" y="189000"/>
            <a:ext cx="878544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1949 – 19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5651640" y="1557360"/>
            <a:ext cx="2808000" cy="20638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476360" y="1916280"/>
            <a:ext cx="3745080" cy="888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Л. Эрхард. Премьер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Министр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79280" y="189000"/>
            <a:ext cx="878544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1949 – 19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1484280"/>
            <a:ext cx="8964720" cy="5257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Модель социального рыночного хозяйства в Ф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успешно сработала в 1950- 1960 гг., когда тем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рироста промышленной продукции в Европе состави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в среднем 8,5% в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о к концу 1960-х годов в ФРГ начался эконом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ризис. Затем последовали мировые экономическ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ризисы. К концу 80-х годов выросло чис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езработных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ahoma"/>
              </a:rPr>
              <a:t>1949-1969 гг.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ьства в ФРГ формировал ХДС в союзе с СвДП, а канцлер выбирался из ХДС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1969 – 1982 гг.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ьства  ФРГ формировала СДПГ в союзе со СвДП, возглавил В. Брандт. В его политике важное место занимали вопросы урегулирования отношений с ГДР и восточноевропейскими странами с целью заключить догово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846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1982 по 1998 гг. возглавил правительств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озгласил возвращение к политике Л. Эрхарда, но признал необходимость со стороны государства социальной корректировки стихийно действующего рыночного механ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ёл приватизацию малоэффективных сфер эконом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азана поддержка развитию новых технолог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6" name="" descr=" "/>
          <p:cNvPicPr/>
          <p:nvPr/>
        </p:nvPicPr>
        <p:blipFill>
          <a:blip r:embed="rId1"/>
          <a:stretch/>
        </p:blipFill>
        <p:spPr>
          <a:xfrm>
            <a:off x="5724360" y="1628640"/>
            <a:ext cx="2406960" cy="33847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292720" y="5373720"/>
            <a:ext cx="3600360" cy="576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Гельмут Ко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998 году СДПГ победила на парламентских выборах и канцлером стал социал – демократ Г. Шрёд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9" name="" descr="Герхард Шрёдер не знает, как бороться с внутренней оппозицией.Фото Reuters"/>
          <p:cNvPicPr/>
          <p:nvPr/>
        </p:nvPicPr>
        <p:blipFill>
          <a:blip r:embed="rId1"/>
          <a:stretch/>
        </p:blipFill>
        <p:spPr>
          <a:xfrm>
            <a:off x="5580000" y="1628640"/>
            <a:ext cx="2733840" cy="37450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5292720" y="5373720"/>
            <a:ext cx="3600360" cy="576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Герхард Шрёд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РАБОТАЕМ ПО УЧЕБНИК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. 233 – 234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ветьте на вопрос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 чём различия экономического и политического развития ГДР и ФРГ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ГДР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« Бархатная революция» в ГДР. Объединение Германии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539640" y="1844640"/>
            <a:ext cx="8280360" cy="482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Самостоятельно прочитайте материал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подготовьтесь ответить на вопро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a5c6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Что такое « бархатная революция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2) Каковы её особенност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a5c6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3) К чему она приве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ной задачей стало обеспечение фактического единсвта Германии – включение восточных земель в экономическую и социальную систему государства. За 4 года ( 1990-1994)  была осуществлена ускоренная приватизация, деиндустриализация целых промышленных районов и резкий рост безработиц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обходимы были активные действ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уществлять социальные выпла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здание новых рабочих ме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еподготовка безработ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доставление досрочной пен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ведён налог солидар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Сегодня на уроке: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мся с послевоенным положением Герман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почему произошло разделение Германии на ФРГ и ГДР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следим их пути развит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что подтолкнуло ФРГ и ГДР объединиться в одно государ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6630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ahoma"/>
              </a:rPr>
              <a:t>Политика Гельмута Кол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должил политику Г. Кол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метилось тенденция на сближение позиций двух ведущих сил Герма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чата реформа образ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и сокращены пособия по безработице. Но увеличены расходы на науку и образ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нижены налоги на малый бизне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и приняты программы для поощрения добровольных организаций граждан в помощи старикам и инвалид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езультате  выборов 2005 года социал – демократы проиграли, но христианские демократы не смогли добиться большинства. В такой ситуации христианские демократы и социал – демократы образовали « большую коалиция» двух крупнейших партий страны  и коалиционное правительство во главе с Ангелой Мерке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3" name="" descr=" "/>
          <p:cNvPicPr/>
          <p:nvPr/>
        </p:nvPicPr>
        <p:blipFill>
          <a:blip r:embed="rId1"/>
          <a:stretch/>
        </p:blipFill>
        <p:spPr>
          <a:xfrm>
            <a:off x="5364000" y="981000"/>
            <a:ext cx="2514600" cy="29527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5003640" y="4124160"/>
            <a:ext cx="3527640" cy="8892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Ангела Меркель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Канцлер Герма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Подведём итог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просы на стр. 23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араграф 26, записи, сообщение о падение Берлинской сте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План уро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ккупационный режим Герм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кол Германии. Образование ФРГ и Г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номическое и политическое развитие Ф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номическое и политическое развитие Г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ъединение Герм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Послевоенное развитие Герма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250920" y="1628640"/>
            <a:ext cx="8640720" cy="504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1 период: 1945-1949 гг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Оккупационный реж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2 период: 1949 – 1990 гг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Сосуществование и соперни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ФРГ и Г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3 период 1990 г.  - объединение дву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Германских государств в ФР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Вильгельм Кейтель подписывает Акт о безоговорочной капитуляции Германии"/>
          <p:cNvPicPr/>
          <p:nvPr/>
        </p:nvPicPr>
        <p:blipFill>
          <a:blip r:embed="rId1"/>
          <a:stretch/>
        </p:blipFill>
        <p:spPr>
          <a:xfrm>
            <a:off x="4896000" y="147600"/>
            <a:ext cx="4248000" cy="32814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95280" y="981000"/>
            <a:ext cx="4176720" cy="107964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В. Кейтель подписывает А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о безоговорочной капитуля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Герм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8 мая 1945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3645000"/>
            <a:ext cx="9144000" cy="302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осле подписания Акта о безоговорочной капитуля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Германия лишилась своей государственности.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западных зонах власть осуществляли СШ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Франция и Великобритания, а в  восточной – ССС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Общее руководство осуществлял Контрольный сов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5076720" y="455760"/>
            <a:ext cx="3780000" cy="27144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79280" y="1197000"/>
            <a:ext cx="4753080" cy="936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Крымская ( Ялтинская ) Конферен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1945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Представители: И. Сталин, У. Черчилль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Ф. Рузвель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79280" y="3429000"/>
            <a:ext cx="8856720" cy="331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Международные конференции в Ялте и Постдам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определили следующую политику по отнош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 Герман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нацифик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милитар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картел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мократ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826920" y="333360"/>
            <a:ext cx="7777440" cy="1008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Парламент в Герман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968600">
            <a:off x="3276360" y="1413000"/>
            <a:ext cx="485640" cy="1479600"/>
          </a:xfrm>
          <a:prstGeom prst="downArrow">
            <a:avLst>
              <a:gd name="adj1" fmla="val 50000"/>
              <a:gd name="adj2" fmla="val 76168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19711200">
            <a:off x="6012000" y="1412640"/>
            <a:ext cx="485640" cy="1493640"/>
          </a:xfrm>
          <a:prstGeom prst="downArrow">
            <a:avLst>
              <a:gd name="adj1" fmla="val 50000"/>
              <a:gd name="adj2" fmla="val 76890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971640" y="4869000"/>
            <a:ext cx="3024000" cy="180000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Верхняя палат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ундес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51640" y="5013360"/>
            <a:ext cx="3024000" cy="172872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ижняя палата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ундест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26920" y="2852640"/>
            <a:ext cx="7848720" cy="180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а основе конституции 14 августа 1949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ыли проведены в трёх объединё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западных зонах выборы в парламен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79280" y="333360"/>
            <a:ext cx="8785440" cy="107964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Раскол Герман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Образование ФРГ и Г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2800440" cy="38577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5508720" y="5661000"/>
            <a:ext cx="363528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онрад Аденауэ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резидент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01680" y="1600200"/>
            <a:ext cx="47750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ДЕНАУЭР Конрад (1876-1967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едеральный канцлер </a:t>
            </a:r>
            <a:r>
              <a:rPr b="0" lang="en-US" sz="1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ФРГ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в 1949-1963 годах. В 1917-1933 годах - обер-бургомистр Кельна, в 1920-1932 годах - председатель прусского Государственного совета. Один из основателей (1946) и с 1950 года председатель Христианско-демократического союза. Внес значительный вклад в создание Основного закона (конституции) и государства ФРГ. В 1951 - 1955 годы министр иностранных дел. Добился приема ФРГ в Западно-Европейский Союз и НАТО. В 1955 году правительство Аденауэра установило дипломатические отношения с ССС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ундестаг и бундесрат одобрили конституцию и избрали президента Федеративной Республики Германии, а  20 сентября лидер Христианско – демократического союза Конрад Аденауэр представил парламенту первое правительство Ф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250920" y="260280"/>
            <a:ext cx="8713800" cy="115272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7 сентября 1949 г. – создание Ф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32:10Z</dcterms:modified>
  <cp:revision>13</cp:revision>
  <dc:subject/>
  <dc:title>Древний Египет</dc:title>
</cp:coreProperties>
</file>