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43BD-A0F3-4E45-95C8-A4D014CC6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8412-9B43-4947-9419-E3908401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FFF6-C891-40B8-91B5-8B3F0FA63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FC5D-1431-4546-A28A-251968378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2240-8C61-4025-9429-656A91A6B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5CD4-07DC-493D-9C6D-C8DA2EC1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B957-10DC-4965-8F06-9BDDB4A6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74D6-FE40-4996-A1AC-1627A1A9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2CF7-3358-4A7B-ACB8-B72788AA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15B7-48F2-4FB0-A9C0-E645D72F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AA2B-29B5-456A-9026-F477E7CA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0D22-4209-4980-B557-90300982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2D747-74FB-49BA-8337-239C3BE5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B1D7C-E105-4B4D-8623-61C3ED42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F8C7-7F0D-4042-8A19-4B1DD73C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87CE-C95F-43D2-9EDF-B6D1B8FCC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2007-20EF-4536-A31F-D1470A1F0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5FD6-6665-451A-B00A-5E798708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18F6-0F8D-4BFB-82ED-E893F4BE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0E86-49E1-4BF5-B2CE-4D4C3F4A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5F91-0B13-405F-9603-A02BEC59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96D6-DF01-4600-B93D-EEB9BCB0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F005-44BA-4E04-9E60-8BFFAC0D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4D72-FF61-4180-9E62-100471E6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6174-5EE3-45A4-B2CB-883463F242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95F6-170D-4BC5-BDE4-E9907376035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hrono.ru/1900ge.html" TargetMode="External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35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Тема уро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899640" y="2997360"/>
            <a:ext cx="7488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« Германия: раскол и объединение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763640" y="5229360"/>
            <a:ext cx="5616720" cy="122400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Презентация разработана учителем ист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Будинской О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Антоненковой А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16000" y="333360"/>
            <a:ext cx="6696000" cy="57456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овейшая история. 9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826920" y="333360"/>
            <a:ext cx="7993080" cy="93492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7 октября 1949 г. – провозглашение Г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обытия в Восточной Германии развивались по аналогии. Была введена восточная марка в советской зоне. Политическая партия Восточной Германии( среди которых главную роль играла Социалистическая единая партия Германии), сформировали Немецкий национальный совет, который на заседании 7 октября 1949 года провозгласил создание Германской Демократической Республики на территории восточной зоны.. 12 октября палата ( временный парламент) избрали президентом ГДР Отто Громвел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79280" y="3566880"/>
            <a:ext cx="8964720" cy="31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Основные принципы  экономического порядк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осударство непосредственно не занимается регулирование хозяйственных процессов, но устанавливает правила, по которым действуют субъек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вободная конкуренция, постоянство экономической политики и стабильность денежного обращения в условиях открытого рынка, защита частной собственн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"/>
          <p:cNvSpPr/>
          <p:nvPr/>
        </p:nvSpPr>
        <p:spPr>
          <a:xfrm>
            <a:off x="179280" y="189000"/>
            <a:ext cx="8785440" cy="10792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1949 – 1990 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5651640" y="1557360"/>
            <a:ext cx="2808000" cy="20638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476360" y="1916280"/>
            <a:ext cx="3745080" cy="8888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Л. Эрхард. Премьер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Министр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79280" y="189000"/>
            <a:ext cx="8785440" cy="10792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1949 – 1990 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1484280"/>
            <a:ext cx="8964720" cy="5257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Модель социального рыночного хозяйства в ФР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успешно сработала в 1950- 1960 гг., когда тем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рироста промышленной продукции в Европе состави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в среднем 8,5% в г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о к концу 1960-х годов в ФРГ начался экономи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ризис. Затем последовали мировые экономическ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ризисы. К концу 80-х годов выросло чис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езработных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Tahoma"/>
              </a:rPr>
              <a:t>1949-1969 гг.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ительства в ФРГ формировал ХДС в союзе с СвДП, а канцлер выбирался из ХДС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Tahoma"/>
              </a:rPr>
              <a:t>1969 – 1982 гг.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ительства  ФРГ формировала СДПГ в союзе со СвДП, возглавил В. Брандт. В его политике важное место занимали вопросы урегулирования отношений с ГДР и восточноевропейскими странами с целью заключить догово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846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1982 по 1998 гг. возглавил правительств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озгласил возвращение к политике Л. Эрхарда, но признал необходимость со стороны государства социальной корректировки стихийно действующего рыночного механиз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ёл приватизацию малоэффективных сфер эконом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азана поддержка развитию новых технолог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6" name="" descr=" "/>
          <p:cNvPicPr/>
          <p:nvPr/>
        </p:nvPicPr>
        <p:blipFill>
          <a:blip r:embed="rId1"/>
          <a:stretch/>
        </p:blipFill>
        <p:spPr>
          <a:xfrm>
            <a:off x="5724360" y="1628640"/>
            <a:ext cx="2406960" cy="33847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5292720" y="5373720"/>
            <a:ext cx="3600360" cy="5763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Гельмут Ко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998 году СДПГ победила на парламентских выборах и канцлером стал социал – демократ Г. Шрёде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9" name="" descr="Герхард Шрёдер не знает, как бороться с внутренней оппозицией.Фото Reuters"/>
          <p:cNvPicPr/>
          <p:nvPr/>
        </p:nvPicPr>
        <p:blipFill>
          <a:blip r:embed="rId1"/>
          <a:stretch/>
        </p:blipFill>
        <p:spPr>
          <a:xfrm>
            <a:off x="5580000" y="1628640"/>
            <a:ext cx="2733840" cy="374508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"/>
          <p:cNvSpPr/>
          <p:nvPr/>
        </p:nvSpPr>
        <p:spPr>
          <a:xfrm>
            <a:off x="5292720" y="5373720"/>
            <a:ext cx="3600360" cy="5763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Герхард Шрёд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РАБОТАЕМ ПО УЧЕБНИКУ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. 233 – 234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ветьте на вопрос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 чём различия экономического и политического развития ГДР и ФРГ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ГДР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« Бархатная революция» в ГДР. Объединение Германии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539640" y="1844640"/>
            <a:ext cx="8280360" cy="4824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Самостоятельно прочитайте материал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подготовьтесь ответить на вопрос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a5c6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Что такое « бархатная революция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2) Каковы её особенност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a5c6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3) К чему она привел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авной задачей стало обеспечение фактического единсвта Германии – включение восточных земель в экономическую и социальную систему государства. За 4 года ( 1990-1994)  была осуществлена ускоренная приватизация, деиндустриализация целых промышленных районов и резкий рост безработиц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обходимы были активные действ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уществлять социальные выпла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здание новых рабочих ме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еподготовка безработн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доставление досрочной пенс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ведён налог солидар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Сегодня на уроке: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комимся с послевоенным положением Герман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м, почему произошло разделение Германии на ФРГ и ГДР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следим их пути развит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м, что подтолкнуло ФРГ и ГДР объединиться в одно государ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6630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ahoma"/>
              </a:rPr>
              <a:t>Политика Гельмута Кол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должил политику Г. Кол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метилось тенденция на сближение позиций двух ведущих сил Герма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чата реформа образо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ыли сокращены пособия по безработице. Но увеличены расходы на науку и образ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нижены налоги на малый бизне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ыли приняты программы для поощрения добровольных организаций граждан в помощи старикам и инвалида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езультате  выборов 2005 года социал – демократы проиграли, но христианские демократы не смогли добиться большинства. В такой ситуации христианские демократы и социал – демократы образовали « большую коалиция» двух крупнейших партий страны  и коалиционное правительство во главе с Ангелой Меркел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3" name="" descr=" "/>
          <p:cNvPicPr/>
          <p:nvPr/>
        </p:nvPicPr>
        <p:blipFill>
          <a:blip r:embed="rId1"/>
          <a:stretch/>
        </p:blipFill>
        <p:spPr>
          <a:xfrm>
            <a:off x="5364000" y="981000"/>
            <a:ext cx="2514600" cy="29527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5003640" y="4124160"/>
            <a:ext cx="3527640" cy="88920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Ангела Меркель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Канцлер Герма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Подведём итог уро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просы на стр. 23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араграф 26, записи, сообщение о падение Берлинской сте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План урок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ккупационный режим Герм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скол Германии. Образование ФРГ и Г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кономическое и политическое развитие ФР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кономическое и политическое развитие Г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ъединение Герм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Послевоенное развитие Герма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250920" y="1628640"/>
            <a:ext cx="8640720" cy="504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1 период: 1945-1949 гг.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Оккупационный режи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2 период: 1949 – 1990 гг.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Сосуществование и сопернич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ФРГ и Г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3 период 1990 г.  - объединение дву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Германских государств в ФР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Вильгельм Кейтель подписывает Акт о безоговорочной капитуляции Германии"/>
          <p:cNvPicPr/>
          <p:nvPr/>
        </p:nvPicPr>
        <p:blipFill>
          <a:blip r:embed="rId1"/>
          <a:stretch/>
        </p:blipFill>
        <p:spPr>
          <a:xfrm>
            <a:off x="4896000" y="147600"/>
            <a:ext cx="4248000" cy="32814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395280" y="981000"/>
            <a:ext cx="4176720" cy="107964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В. Кейтель подписывает А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о безоговорочной капитуля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Герм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8 мая 1945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3645000"/>
            <a:ext cx="9144000" cy="3024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осле подписания Акта о безоговорочной капитуля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Германия лишилась своей государственности.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западных зонах власть осуществляли СШ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Франция и Великобритания, а в  восточной – ССС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Общее руководство осуществлял Контрольный сов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5076720" y="455760"/>
            <a:ext cx="3780000" cy="27144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79280" y="1197000"/>
            <a:ext cx="4753080" cy="93672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Крымская ( Ялтинская ) Конферен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1945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Представители: И. Сталин, У. Черчилль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Ф. Рузвель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79280" y="3429000"/>
            <a:ext cx="8856720" cy="331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Международные конференции в Ялте и Постдам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определили следующую политику по отноше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 Герман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нацифик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милитар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картел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мократ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826920" y="333360"/>
            <a:ext cx="7777440" cy="1008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Парламент в Герман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968600">
            <a:off x="3276360" y="1413000"/>
            <a:ext cx="485640" cy="1479600"/>
          </a:xfrm>
          <a:prstGeom prst="downArrow">
            <a:avLst>
              <a:gd name="adj1" fmla="val 50000"/>
              <a:gd name="adj2" fmla="val 76168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19711200">
            <a:off x="6012000" y="1412640"/>
            <a:ext cx="485640" cy="1493640"/>
          </a:xfrm>
          <a:prstGeom prst="downArrow">
            <a:avLst>
              <a:gd name="adj1" fmla="val 50000"/>
              <a:gd name="adj2" fmla="val 76890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971640" y="4869000"/>
            <a:ext cx="3024000" cy="180000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Верхняя палат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ундес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651640" y="5013360"/>
            <a:ext cx="3024000" cy="172872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ижняя палата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ундеста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26920" y="2852640"/>
            <a:ext cx="7848720" cy="180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а основе конституции 14 августа 1949 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ыли проведены в трёх объединё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западных зонах выборы в парламен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79280" y="333360"/>
            <a:ext cx="8785440" cy="1079640"/>
          </a:xfrm>
          <a:prstGeom prst="rect">
            <a:avLst/>
          </a:prstGeom>
          <a:solidFill>
            <a:srgbClr val="ffff99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Раскол Герман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Образование ФРГ и Г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2800440" cy="38577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5508720" y="5661000"/>
            <a:ext cx="3635280" cy="72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онрад Аденауэ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резидент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301680" y="1600200"/>
            <a:ext cx="47750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АДЕНАУЭР Конрад (1876-1967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едеральный канцлер </a:t>
            </a:r>
            <a:r>
              <a:rPr b="0" lang="en-US" sz="1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ФРГ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в 1949-1963 годах. В 1917-1933 годах - обер-бургомистр Кельна, в 1920-1932 годах - председатель прусского Государственного совета. Один из основателей (1946) и с 1950 года председатель Христианско-демократического союза. Внес значительный вклад в создание Основного закона (конституции) и государства ФРГ. В 1951 - 1955 годы министр иностранных дел. Добился приема ФРГ в Западно-Европейский Союз и НАТО. В 1955 году правительство Аденауэра установило дипломатические отношения с ССС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ундестаг и бундесрат одобрили конституцию и избрали президента Федеративной Республики Германии, а  20 сентября лидер Христианско – демократического союза Конрад Аденауэр представил парламенту первое правительство ФР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250920" y="260280"/>
            <a:ext cx="8713800" cy="1152720"/>
          </a:xfrm>
          <a:prstGeom prst="rect">
            <a:avLst/>
          </a:prstGeom>
          <a:solidFill>
            <a:srgbClr val="ffff99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7 сентября 1949 г. – создание ФР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3:32:10Z</dcterms:modified>
  <cp:revision>13</cp:revision>
  <dc:subject/>
  <dc:title>Древний Египет</dc:title>
</cp:coreProperties>
</file>