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6D18-F168-4996-855C-63825DE98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09C6-93AC-4945-8440-DED230A4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0CAD-55A1-4D54-BCA0-B07007357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55C8-41B3-4842-87BE-BC4CC2AE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BB6D-64AA-47E2-BEEA-1B2D7302C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F7F7-05A6-4428-BE87-DEC7E5EE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E703-1409-4978-825C-A452E679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F618-226F-47EE-B2F8-7EDE3EAB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1E5F-5733-4B94-985B-6A8A757E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C3C3-6B87-4671-9399-E74E8A2D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F622-47BF-4FE3-BA2B-88DAC233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7190-E78C-473D-B203-DB2E134A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EFD9-27AB-469E-A82E-F03EAAD5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74B0-B763-4319-B679-AEF4AE01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5EF5-69DC-49DC-8AAF-57CA285B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FB05-7734-4C9A-91FE-EADFFA996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A4CC-3DFA-4313-A80D-C1ECCDF05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D059-BEC8-4AC2-ABDE-23C363C4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A94B-FDB2-45B5-92A3-27178D81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C09F-E94D-4513-81CA-10D58892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E307-3F18-464D-B1BE-22702B6C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C335-CAED-4D1E-83C5-EC9D4AA3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156C-F038-41DB-A511-1F5DF6A3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C316-CA14-41AB-8617-23190AF9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ACEC-DEFC-46C3-8617-B2AFAD29328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9C23-F0B3-40CA-B83F-2C99D55832A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179280" y="1557360"/>
            <a:ext cx="4969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ЕФОР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.А. СТОЛЫП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162"/>
          <p:cNvPicPr/>
          <p:nvPr/>
        </p:nvPicPr>
        <p:blipFill>
          <a:blip r:embed="rId1"/>
          <a:stretch/>
        </p:blipFill>
        <p:spPr>
          <a:xfrm>
            <a:off x="5292720" y="476280"/>
            <a:ext cx="3446640" cy="540072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285840" y="4286160"/>
            <a:ext cx="4929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МОУ СОШ №39 г.Саран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ашкина Светла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684360" y="620640"/>
            <a:ext cx="792000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грарная реформа: ее цели, суть, напр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ы проведения реформы и ее ит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угие реформы и планы Столып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ятельность Государственной Ду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468360" y="549360"/>
            <a:ext cx="7775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11280" y="333360"/>
            <a:ext cx="8064360" cy="63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НОЯБРЯ 1906 ГО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З О РАЗРЕШЕНИИ ВЫХОДА КРЕСТЬЯН ИЗ ОБЩ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ЕЛЬ РЕФОРМЫ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ушение общины и формирование в деревне класса собствен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ЫЕ МЕРОПРИЯТИЯ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ушение общины, создание хуторов и отруб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селенческая полит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684360" y="549360"/>
            <a:ext cx="792000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У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участок земли, выделенный крестьянину при выходе его из общины с переселением из деревни на свой учас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РУ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участок земли, выделенный крестьянину при выходе из общины с сохранением его двора в дерев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Т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бъединение лиц некоторых профессий для совместной работы с участием в общих доходах и общей ответствен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ОПЕРАТИ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изводственная или торгово-закупочная организация, созданная для совместного ведения хозяйства несколькими участниками или организациями, а также для получения прибыли в интересах всех участников объеди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684360" y="404640"/>
            <a:ext cx="8064360" cy="57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ОГИ АГРАРНОЙ РЕФОР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ьное расслоение крестья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полнение рядов рабочего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т посевных площадей, увеличение экспорта хлеба, закупок сельхозмаш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воение переселенцами более 30 млн. десятин пустующих земель в Сиби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рождение сельскохозяйственной коопе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! Помещичья земля осталась нетрону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684360" y="549360"/>
            <a:ext cx="8064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ГОСУДАРСТВЕННАЯ Д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7 апреля – 8 июля 1906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едатель Думы - кадет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А.Муром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с"/>
          <p:cNvPicPr/>
          <p:nvPr/>
        </p:nvPicPr>
        <p:blipFill>
          <a:blip r:embed="rId1"/>
          <a:stretch/>
        </p:blipFill>
        <p:spPr>
          <a:xfrm>
            <a:off x="1481040" y="2637000"/>
            <a:ext cx="34257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539640" y="476280"/>
            <a:ext cx="8136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ГОСУДАРСТВЕННАЯ Д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 февраля – 2 июня 1907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едатель Думы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дет Ф.А.Голов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ф"/>
          <p:cNvPicPr/>
          <p:nvPr/>
        </p:nvPicPr>
        <p:blipFill>
          <a:blip r:embed="rId1"/>
          <a:stretch/>
        </p:blipFill>
        <p:spPr>
          <a:xfrm>
            <a:off x="611280" y="2060640"/>
            <a:ext cx="29829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250920" y="476280"/>
            <a:ext cx="8893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 июня 1907 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новый избирательный з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ГОСУДАРСТВЕННАЯ Д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ноября 1907 – 9 июня 19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едатели Думы – октябри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.А.Хомяков, А.И.Гучков, М.В.Родзян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хомяков н"/>
          <p:cNvPicPr/>
          <p:nvPr/>
        </p:nvPicPr>
        <p:blipFill>
          <a:blip r:embed="rId1"/>
          <a:stretch/>
        </p:blipFill>
        <p:spPr>
          <a:xfrm>
            <a:off x="1116000" y="4005360"/>
            <a:ext cx="1660680" cy="244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а"/>
          <p:cNvPicPr/>
          <p:nvPr/>
        </p:nvPicPr>
        <p:blipFill>
          <a:blip r:embed="rId2"/>
          <a:stretch/>
        </p:blipFill>
        <p:spPr>
          <a:xfrm>
            <a:off x="3708360" y="4005360"/>
            <a:ext cx="1733760" cy="244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родзянко м"/>
          <p:cNvPicPr/>
          <p:nvPr/>
        </p:nvPicPr>
        <p:blipFill>
          <a:blip r:embed="rId3"/>
          <a:stretch/>
        </p:blipFill>
        <p:spPr>
          <a:xfrm>
            <a:off x="6516720" y="3933720"/>
            <a:ext cx="166356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755640" y="692280"/>
            <a:ext cx="777708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графы 6, 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ь устный развернутый ответ на вопрос «Каковы цели, содержание и значение аграрной реформы П.А.Столыпина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ть задания в РТ к параграфам 6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я 3, 5 после параграфа 7 ус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9:40:10Z</dcterms:created>
  <dc:creator>Света</dc:creator>
  <dc:description/>
  <dc:language>en-US</dc:language>
  <cp:lastModifiedBy>Home</cp:lastModifiedBy>
  <dcterms:modified xsi:type="dcterms:W3CDTF">2012-02-26T07:21:36Z</dcterms:modified>
  <cp:revision>3</cp:revision>
  <dc:subject/>
  <dc:title>Слайд 1</dc:title>
</cp:coreProperties>
</file>