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5F4E-9DC0-4289-A7F1-52E515D06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673C-A2B5-4E21-8EB5-9AE3031D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6771-C8CA-4067-B7AD-04AE4243F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DC52-DBB3-4377-9A92-07DF90753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4C56B-4D69-4A09-A365-63D1A1DAB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991B-1023-43FB-95F1-5E097A9F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657B-BE6C-463C-8864-8D5A526C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B28A-129C-41FA-85E2-321C2A5E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B526A-3788-45C5-BBB3-D604993F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B794-F929-4A2F-868B-B4DA0129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DB13-402A-4A46-A2A7-16B9264C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CA6E-4E25-4168-B9D8-CDF3D2A5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442C-50B9-4F1B-AA91-D3C48405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1EC3-32E0-4041-9755-ED21C278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9F04-FDB9-492E-B015-577D3318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91BA9-0547-4DCB-B58C-564B7E569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5510-FAA4-4465-A212-426D3EC81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FF37-2011-4C32-A68B-4E18CE89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C999-F4E9-4589-AB9A-D4092CEC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7FF9-89AE-46F4-B4F5-0B8F52CD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2BA7-FD44-4495-B4E0-0DE009DA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86EC-E124-465A-B65D-AF4CCB76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384F-C3E7-4569-82AD-FD129686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8878-0754-409C-A572-BF301253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038D-4A7C-46B9-A525-273CDC4E84E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FD4B-442F-47EE-8FA5-056CF1A40F4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5"/>
          <p:cNvSpPr/>
          <p:nvPr/>
        </p:nvSpPr>
        <p:spPr>
          <a:xfrm>
            <a:off x="179280" y="1557360"/>
            <a:ext cx="49690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РЕФОР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.А. СТОЛЫП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162"/>
          <p:cNvPicPr/>
          <p:nvPr/>
        </p:nvPicPr>
        <p:blipFill>
          <a:blip r:embed="rId1"/>
          <a:stretch/>
        </p:blipFill>
        <p:spPr>
          <a:xfrm>
            <a:off x="5292720" y="476280"/>
            <a:ext cx="3446640" cy="540072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285840" y="4286160"/>
            <a:ext cx="4929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 МОУ СОШ №39 г.Саран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рашкина Светлан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684360" y="620640"/>
            <a:ext cx="7920000" cy="48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грарная реформа: ее цели, суть, напра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ы проведения реформы и ее ит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угие реформы и планы Столып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ятельность Государственной Ду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468360" y="549360"/>
            <a:ext cx="7775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11280" y="333360"/>
            <a:ext cx="8064360" cy="63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 НОЯБРЯ 1906 ГО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АЗ О РАЗРЕШЕНИИ ВЫХОДА КРЕСТЬЯН ИЗ ОБЩ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ЕЛЬ РЕФОРМЫ: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ушение общины и формирование в деревне класса собствен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НОВНЫЕ МЕРОПРИЯТИЯ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ушение общины, создание хуторов и отруб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селенческая полит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684360" y="549360"/>
            <a:ext cx="7920000" cy="57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У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участок земли, выделенный крестьянину при выходе его из общины с переселением из деревни на свой учас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РУ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участок земли, выделенный крестьянину при выходе из общины с сохранением его двора в дерев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ТЕЛ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бъединение лиц некоторых профессий для совместной работы с участием в общих доходах и общей ответствен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ОПЕРАТИ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оизводственная или торгово-закупочная организация, созданная для совместного ведения хозяйства несколькими участниками или организациями, а также для получения прибыли в интересах всех участников объедин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684360" y="404640"/>
            <a:ext cx="8064360" cy="57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ТОГИ АГРАРНОЙ РЕФОРМ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альное расслоение крестья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полнение рядов рабочего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ст посевных площадей, увеличение экспорта хлеба, закупок сельхозмаш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воение переселенцами более 30 млн. десятин пустующих земель в Сиби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рождение сельскохозяйственной коопер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! Помещичья земля осталась нетрону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684360" y="549360"/>
            <a:ext cx="8064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ГОСУДАРСТВЕННАЯ Д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7 апреля – 8 июля 1906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седатель Думы - кадет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.А.Муромц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с"/>
          <p:cNvPicPr/>
          <p:nvPr/>
        </p:nvPicPr>
        <p:blipFill>
          <a:blip r:embed="rId1"/>
          <a:stretch/>
        </p:blipFill>
        <p:spPr>
          <a:xfrm>
            <a:off x="1481040" y="2637000"/>
            <a:ext cx="342576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539640" y="476280"/>
            <a:ext cx="8136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ГОСУДАРСТВЕННАЯ Д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 февраля – 2 июня 1907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седатель Думы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дет Ф.А.Голов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ф"/>
          <p:cNvPicPr/>
          <p:nvPr/>
        </p:nvPicPr>
        <p:blipFill>
          <a:blip r:embed="rId1"/>
          <a:stretch/>
        </p:blipFill>
        <p:spPr>
          <a:xfrm>
            <a:off x="611280" y="2060640"/>
            <a:ext cx="29829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250920" y="476280"/>
            <a:ext cx="8893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 июня 1907 г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новый избирательный за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ГОСУДАРСТВЕННАЯ Д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ноября 1907 – 9 июня 191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седатели Думы – октябри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.А.Хомяков, А.И.Гучков, М.В.Родзян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хомяков н"/>
          <p:cNvPicPr/>
          <p:nvPr/>
        </p:nvPicPr>
        <p:blipFill>
          <a:blip r:embed="rId1"/>
          <a:stretch/>
        </p:blipFill>
        <p:spPr>
          <a:xfrm>
            <a:off x="1116000" y="4005360"/>
            <a:ext cx="1660680" cy="244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а"/>
          <p:cNvPicPr/>
          <p:nvPr/>
        </p:nvPicPr>
        <p:blipFill>
          <a:blip r:embed="rId2"/>
          <a:stretch/>
        </p:blipFill>
        <p:spPr>
          <a:xfrm>
            <a:off x="3708360" y="4005360"/>
            <a:ext cx="1733760" cy="244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родзянко м"/>
          <p:cNvPicPr/>
          <p:nvPr/>
        </p:nvPicPr>
        <p:blipFill>
          <a:blip r:embed="rId3"/>
          <a:stretch/>
        </p:blipFill>
        <p:spPr>
          <a:xfrm>
            <a:off x="6516720" y="3933720"/>
            <a:ext cx="166356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755640" y="692280"/>
            <a:ext cx="777708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графы 6, 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ть устный развернутый ответ на вопрос «Каковы цели, содержание и значение аграрной реформы П.А.Столыпина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ть задания в РТ к параграфам 6,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я 3, 5 после параграфа 7 уст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9:40:10Z</dcterms:created>
  <dc:creator>Света</dc:creator>
  <dc:description/>
  <dc:language>en-US</dc:language>
  <cp:lastModifiedBy>Home</cp:lastModifiedBy>
  <dcterms:modified xsi:type="dcterms:W3CDTF">2012-02-26T07:21:36Z</dcterms:modified>
  <cp:revision>3</cp:revision>
  <dc:subject/>
  <dc:title>Слайд 1</dc:title>
</cp:coreProperties>
</file>