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855-F3EC-4B3A-A0B2-B005F02E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3B8-941B-490C-9CEE-0380AB2A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729-CC7A-4737-82C3-31FFE3BE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21F-DB7C-471C-B403-687349C8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4701-CF41-4BC8-AAAB-17F5B38B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A52D-4450-4355-86F8-6920D231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EFAB-4D0B-43C6-A1AF-DA8AADB1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6C11-DBAD-453F-B2E5-EBAF290B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931A-EACA-47ED-ADF6-A34DE834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CC5E-7565-4DE2-91D3-5A4F281E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3CFC-D052-469D-832B-7CDC60D5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300-3CBB-4589-AC95-5BC7DA8E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DECB-9FD1-4009-983A-99A2E0C0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B535-0752-428B-A909-9D858230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72D6-B37B-45DA-A8EA-FE4F9D5B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76BD-3BFF-46DB-B37D-691446EA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4B8F-4C7E-4ED7-8C0A-94081449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55F-A42C-4E71-A7B1-BABFB39B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F6F-3332-4602-B592-98BF66C4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30A-A470-429A-B2E8-285E1417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E15-4559-4F3B-BA86-C2177B40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DC8-2899-47A3-AB3D-D3766229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DC7-58C4-45EC-AB12-AB5E5403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9D6-4BCF-45AB-BFEA-67173C5F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956D-2770-47AB-B013-5363889C689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DE7A-40DC-4DBA-8D27-80E16A251AF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179280" y="1557360"/>
            <a:ext cx="496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.А. СТОЛЫП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162"/>
          <p:cNvPicPr/>
          <p:nvPr/>
        </p:nvPicPr>
        <p:blipFill>
          <a:blip r:embed="rId1"/>
          <a:stretch/>
        </p:blipFill>
        <p:spPr>
          <a:xfrm>
            <a:off x="5292720" y="476280"/>
            <a:ext cx="3446640" cy="5400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85840" y="4286160"/>
            <a:ext cx="492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МОУ СОШ №39 г.Сара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ашкина Светла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684360" y="620640"/>
            <a:ext cx="792000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реформа: ее цели, суть, на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проведения реформы и ее ит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ие реформы и планы Столып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 Государственной Ду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68360" y="549360"/>
            <a:ext cx="777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333360"/>
            <a:ext cx="806436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НОЯБРЯ 1906 Г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 О РАЗРЕШЕНИИ ВЫХОДА КРЕСТЬЯН ИЗ ОБ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РЕФОРМЫ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 и формирование в деревне класса собствен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МЕРОПРИЯТ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, создание хуторов и отр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еленческ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4360" y="549360"/>
            <a:ext cx="79200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часток земли, выделенный крестьянину при выходе его из общины с переселением из деревни на свой уча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участок земли, выделенный крестьянину при выходе из общины с сохранением его двора в дере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ъединение лиц некоторых профессий для совместной работы с участием в общих доходах и общей ответстве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Т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изводственная или торгово-закупочная организация, созданная для совместного ведения хозяйства несколькими участниками или организациями, а также для получения прибыли в интересах всех участников объеди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84360" y="404640"/>
            <a:ext cx="8064360" cy="57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И АГРАРНОЙ РЕФОР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ое расслоение крестья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олнение рядов рабочего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 посевных площадей, увеличение экспорта хлеба, закупок сельхозмаш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ение переселенцами более 30 млн. десятин пустующих земель в Сиби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рождение сельскохозяйственной ко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! Помещичья земля осталась нетрону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549360"/>
            <a:ext cx="8064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 апреля – 8 июля 1906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- кадет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А.Муром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с"/>
          <p:cNvPicPr/>
          <p:nvPr/>
        </p:nvPicPr>
        <p:blipFill>
          <a:blip r:embed="rId1"/>
          <a:stretch/>
        </p:blipFill>
        <p:spPr>
          <a:xfrm>
            <a:off x="1481040" y="2637000"/>
            <a:ext cx="3425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539640" y="476280"/>
            <a:ext cx="813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февраля – 2 июня 1907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дет Ф.А.Голо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ф"/>
          <p:cNvPicPr/>
          <p:nvPr/>
        </p:nvPicPr>
        <p:blipFill>
          <a:blip r:embed="rId1"/>
          <a:stretch/>
        </p:blipFill>
        <p:spPr>
          <a:xfrm>
            <a:off x="611280" y="2060640"/>
            <a:ext cx="29829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476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июня 1907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овый избирательны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ноября 1907 – 9 июня 19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и Думы – октябр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А.Хомяков, А.И.Гучков, М.В.Родзя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хомяков н"/>
          <p:cNvPicPr/>
          <p:nvPr/>
        </p:nvPicPr>
        <p:blipFill>
          <a:blip r:embed="rId1"/>
          <a:stretch/>
        </p:blipFill>
        <p:spPr>
          <a:xfrm>
            <a:off x="1116000" y="4005360"/>
            <a:ext cx="166068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а"/>
          <p:cNvPicPr/>
          <p:nvPr/>
        </p:nvPicPr>
        <p:blipFill>
          <a:blip r:embed="rId2"/>
          <a:stretch/>
        </p:blipFill>
        <p:spPr>
          <a:xfrm>
            <a:off x="3708360" y="4005360"/>
            <a:ext cx="173376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родзянко м"/>
          <p:cNvPicPr/>
          <p:nvPr/>
        </p:nvPicPr>
        <p:blipFill>
          <a:blip r:embed="rId3"/>
          <a:stretch/>
        </p:blipFill>
        <p:spPr>
          <a:xfrm>
            <a:off x="6516720" y="3933720"/>
            <a:ext cx="16635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755640" y="692280"/>
            <a:ext cx="77770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6,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устный развернутый ответ на вопрос «Каковы цели, содержание и значение аграрной реформы П.А.Столыпина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ь задания в РТ к параграфам 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3, 5 после параграфа 7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9:40:10Z</dcterms:created>
  <dc:creator>Света</dc:creator>
  <dc:description/>
  <dc:language>en-US</dc:language>
  <cp:lastModifiedBy>Home</cp:lastModifiedBy>
  <dcterms:modified xsi:type="dcterms:W3CDTF">2012-02-26T07:21:36Z</dcterms:modified>
  <cp:revision>3</cp:revision>
  <dc:subject/>
  <dc:title>Слайд 1</dc:title>
</cp:coreProperties>
</file>