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2B63-EB20-491D-8F00-3C193FB9B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FD3D-2181-4719-833F-22E893F2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65AF-4261-4326-9AEF-04CE3A6B4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366F-B77F-42F6-857C-E1CF6E92A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79CA-D16E-4B29-BF56-6367C5410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372A-8CA0-4533-9FCB-436FCC24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F683-6AD7-4867-B27B-219EBD5B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0820-49B2-49FD-A579-E6A5C69A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7592-93EF-4387-8C30-103F08E8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94C8-3FF9-4846-83EE-15B58869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ADEA-3DA0-40CD-9B4E-07EC2746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DD9E-1BDF-456F-B065-D2506AA0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3B3E-FD9B-434D-BBBA-24408163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3E09-646D-4819-AABE-E066CD18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E3F8-6183-4186-9765-95038353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31F2-A962-4755-ABDC-B287A3656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DD05-BAEB-4E49-A75F-FDE217AF5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8D69-6627-412B-A46E-9F52C8B2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16C9-1EB7-47A3-A24C-B365817B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FAF2-2F10-451C-800D-9FF4C814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07A9-2431-46D2-9532-49DEED07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D8D5-54E3-4588-BCA0-93884EE2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A146-9D7F-4D22-B995-B321E8FE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5009-4A5E-4BAD-93D1-5C688525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BD76-EDCE-4B5D-A9C6-F3739A21B5E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C6C0-7381-4887-AB8C-39F51187933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179280" y="1557360"/>
            <a:ext cx="4969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РЕФОР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.А. СТОЛЫП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162"/>
          <p:cNvPicPr/>
          <p:nvPr/>
        </p:nvPicPr>
        <p:blipFill>
          <a:blip r:embed="rId1"/>
          <a:stretch/>
        </p:blipFill>
        <p:spPr>
          <a:xfrm>
            <a:off x="5292720" y="476280"/>
            <a:ext cx="3446640" cy="540072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285840" y="4286160"/>
            <a:ext cx="4929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 МОУ СОШ №39 г.Саран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рашкина Светлан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684360" y="620640"/>
            <a:ext cx="7920000" cy="48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грарная реформа: ее цели, суть, напра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ы проведения реформы и ее ит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угие реформы и планы Столып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ятельность Государственной Ду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468360" y="549360"/>
            <a:ext cx="7775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11280" y="333360"/>
            <a:ext cx="8064360" cy="63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НОЯБРЯ 1906 ГО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АЗ О РАЗРЕШЕНИИ ВЫХОДА КРЕСТЬЯН ИЗ ОБЩ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ЕЛЬ РЕФОРМЫ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ушение общины и формирование в деревне класса собствен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НОВНЫЕ МЕРОПРИЯТИЯ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ушение общины, создание хуторов и отруб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селенческая полит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684360" y="549360"/>
            <a:ext cx="792000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У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участок земли, выделенный крестьянину при выходе его из общины с переселением из деревни на свой учас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РУ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участок земли, выделенный крестьянину при выходе из общины с сохранением его двора в дерев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ТЕЛ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бъединение лиц некоторых профессий для совместной работы с участием в общих доходах и общей ответствен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ОПЕРАТИ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оизводственная или торгово-закупочная организация, созданная для совместного ведения хозяйства несколькими участниками или организациями, а также для получения прибыли в интересах всех участников объеди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684360" y="404640"/>
            <a:ext cx="8064360" cy="57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ОГИ АГРАРНОЙ РЕФОР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альное расслоение крестья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полнение рядов рабочего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ст посевных площадей, увеличение экспорта хлеба, закупок сельхозмаш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воение переселенцами более 30 млн. десятин пустующих земель в Сиби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рождение сельскохозяйственной коопер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! Помещичья земля осталась нетрону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684360" y="549360"/>
            <a:ext cx="8064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ГОСУДАРСТВЕННАЯ Д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7 апреля – 8 июля 1906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седатель Думы - кадет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.А.Муром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с"/>
          <p:cNvPicPr/>
          <p:nvPr/>
        </p:nvPicPr>
        <p:blipFill>
          <a:blip r:embed="rId1"/>
          <a:stretch/>
        </p:blipFill>
        <p:spPr>
          <a:xfrm>
            <a:off x="1481040" y="2637000"/>
            <a:ext cx="342576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539640" y="476280"/>
            <a:ext cx="8136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ГОСУДАРСТВЕННАЯ Д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 февраля – 2 июня 1907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седатель Думы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дет Ф.А.Голов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ф"/>
          <p:cNvPicPr/>
          <p:nvPr/>
        </p:nvPicPr>
        <p:blipFill>
          <a:blip r:embed="rId1"/>
          <a:stretch/>
        </p:blipFill>
        <p:spPr>
          <a:xfrm>
            <a:off x="611280" y="2060640"/>
            <a:ext cx="29829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250920" y="476280"/>
            <a:ext cx="8893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 июня 1907 г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новый избирательный за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ГОСУДАРСТВЕННАЯ Д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ноября 1907 – 9 июня 19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седатели Думы – октябри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.А.Хомяков, А.И.Гучков, М.В.Родзян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хомяков н"/>
          <p:cNvPicPr/>
          <p:nvPr/>
        </p:nvPicPr>
        <p:blipFill>
          <a:blip r:embed="rId1"/>
          <a:stretch/>
        </p:blipFill>
        <p:spPr>
          <a:xfrm>
            <a:off x="1116000" y="4005360"/>
            <a:ext cx="1660680" cy="244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а"/>
          <p:cNvPicPr/>
          <p:nvPr/>
        </p:nvPicPr>
        <p:blipFill>
          <a:blip r:embed="rId2"/>
          <a:stretch/>
        </p:blipFill>
        <p:spPr>
          <a:xfrm>
            <a:off x="3708360" y="4005360"/>
            <a:ext cx="1733760" cy="244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родзянко м"/>
          <p:cNvPicPr/>
          <p:nvPr/>
        </p:nvPicPr>
        <p:blipFill>
          <a:blip r:embed="rId3"/>
          <a:stretch/>
        </p:blipFill>
        <p:spPr>
          <a:xfrm>
            <a:off x="6516720" y="3933720"/>
            <a:ext cx="166356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755640" y="692280"/>
            <a:ext cx="777708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графы 6, 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ть устный развернутый ответ на вопрос «Каковы цели, содержание и значение аграрной реформы П.А.Столыпина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ть задания в РТ к параграфам 6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я 3, 5 после параграфа 7 уст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9:40:10Z</dcterms:created>
  <dc:creator>Света</dc:creator>
  <dc:description/>
  <dc:language>en-US</dc:language>
  <cp:lastModifiedBy>Home</cp:lastModifiedBy>
  <dcterms:modified xsi:type="dcterms:W3CDTF">2012-02-26T07:21:36Z</dcterms:modified>
  <cp:revision>3</cp:revision>
  <dc:subject/>
  <dc:title>Слайд 1</dc:title>
</cp:coreProperties>
</file>