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7CEA-FCBC-4819-829C-4D8D3E8B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7722-9C95-469E-8E26-4DFD7F42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8D60-614F-4350-A91C-39C0A339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2337-7CCE-4F9E-A014-C1AB898E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A288-77A4-4F38-8B90-06FCC4A02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34B1-9D74-487B-AF06-ED16FA75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9D1D-34D4-4DFE-95A9-FFC93CE5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9A1A-9E43-46F6-97B5-5A2D8E7F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D964-C9BF-4DFC-B789-BC42E3A1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D6B3-4B93-4134-BC88-2D42D6EB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E4E4-B7EC-4CDA-AA89-D82AEF97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C56-A55E-4DE7-B2EE-04A3F521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54CD-61E6-4F88-8B61-2ED91C5A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0663-E0CA-4C54-B409-BBF531B0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403E-1AC7-4281-AEDB-4464D5E9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E429-7BAE-4262-9C99-3C2E3D7D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F9A3-0FA7-4A2D-AE5A-D0E0F00F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BA21-09BE-4533-AA75-7D4FBD83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A1A0-2B34-4D37-86D7-481D86CB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3C21-ECD0-43D8-8843-A63E6292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061-2E71-4A2E-B5A6-AEF8C427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C46E-9199-4B86-81F0-9968A35C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396-F928-4915-8A26-532A8CFC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7B86-E87E-444D-B82D-7BD1D584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61AC-D696-4285-B850-727A4D9C632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21F3-0649-45A3-BAA4-F6D45EDD618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179280" y="1557360"/>
            <a:ext cx="49690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РЕФОР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П.А. СТОЛЫПИ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162"/>
          <p:cNvPicPr/>
          <p:nvPr/>
        </p:nvPicPr>
        <p:blipFill>
          <a:blip r:embed="rId1"/>
          <a:stretch/>
        </p:blipFill>
        <p:spPr>
          <a:xfrm>
            <a:off x="5292720" y="476280"/>
            <a:ext cx="3446640" cy="540072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85840" y="4286160"/>
            <a:ext cx="492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МОУ СОШ №39 г.Саран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ашкина Светлана Никола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684360" y="620640"/>
            <a:ext cx="792000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грарная реформа: ее цели, суть, на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ы проведения реформы и ее ит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гие реформы и планы Столып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ятельность Государственной Ду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468360" y="549360"/>
            <a:ext cx="7775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611280" y="333360"/>
            <a:ext cx="8064360" cy="63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 НОЯБРЯ 1906 Г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 О РАЗРЕШЕНИИ ВЫХОДА КРЕСТЬЯН ИЗ ОБЩ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ЦЕЛЬ РЕФОРМЫ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общины и формирование в деревне класса собствен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ОВНЫЕ МЕРОПРИЯТ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общины, создание хуторов и отру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селенческая поли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84360" y="549360"/>
            <a:ext cx="792000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У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часток земли, выделенный крестьянину при выходе его из общины с переселением из деревни на свой учас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участок земли, выделенный крестьянину при выходе из общины с сохранением его двора в дерев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Т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бъединение лиц некоторых профессий для совместной работы с участием в общих доходах и общей ответствен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ОПЕРАТИ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изводственная или торгово-закупочная организация, созданная для совместного ведения хозяйства несколькими участниками или организациями, а также для получения прибыли в интересах всех участников объеди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684360" y="404640"/>
            <a:ext cx="8064360" cy="57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И АГРАРНОЙ РЕФОР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ое расслоение крестья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олнение рядов рабочего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ст посевных площадей, увеличение экспорта хлеба, закупок сельхозмаш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оение переселенцами более 30 млн. десятин пустующих земель в Сиби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рождение сельскохозяйственной кооп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! Помещичья земля осталась нетрону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84360" y="549360"/>
            <a:ext cx="8064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7 апреля – 8 июля 1906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ь Думы - кадет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А.Муром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с"/>
          <p:cNvPicPr/>
          <p:nvPr/>
        </p:nvPicPr>
        <p:blipFill>
          <a:blip r:embed="rId1"/>
          <a:stretch/>
        </p:blipFill>
        <p:spPr>
          <a:xfrm>
            <a:off x="1481040" y="2637000"/>
            <a:ext cx="34257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539640" y="476280"/>
            <a:ext cx="813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 февраля – 2 июня 1907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ь Думы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дет Ф.А.Голов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ф"/>
          <p:cNvPicPr/>
          <p:nvPr/>
        </p:nvPicPr>
        <p:blipFill>
          <a:blip r:embed="rId1"/>
          <a:stretch/>
        </p:blipFill>
        <p:spPr>
          <a:xfrm>
            <a:off x="611280" y="2060640"/>
            <a:ext cx="29829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50920" y="476280"/>
            <a:ext cx="889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июня 1907 г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новый избирательный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ОСУДАРСТВЕННАЯ Д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ноября 1907 – 9 июня 19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седатели Думы – октябр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А.Хомяков, А.И.Гучков, М.В.Родзя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хомяков н"/>
          <p:cNvPicPr/>
          <p:nvPr/>
        </p:nvPicPr>
        <p:blipFill>
          <a:blip r:embed="rId1"/>
          <a:stretch/>
        </p:blipFill>
        <p:spPr>
          <a:xfrm>
            <a:off x="1116000" y="4005360"/>
            <a:ext cx="1660680" cy="24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а"/>
          <p:cNvPicPr/>
          <p:nvPr/>
        </p:nvPicPr>
        <p:blipFill>
          <a:blip r:embed="rId2"/>
          <a:stretch/>
        </p:blipFill>
        <p:spPr>
          <a:xfrm>
            <a:off x="3708360" y="4005360"/>
            <a:ext cx="173376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родзянко м"/>
          <p:cNvPicPr/>
          <p:nvPr/>
        </p:nvPicPr>
        <p:blipFill>
          <a:blip r:embed="rId3"/>
          <a:stretch/>
        </p:blipFill>
        <p:spPr>
          <a:xfrm>
            <a:off x="6516720" y="3933720"/>
            <a:ext cx="166356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755640" y="692280"/>
            <a:ext cx="777708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ы 6, 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устный развернутый ответ на вопрос «Каковы цели, содержание и значение аграрной реформы П.А.Столыпина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ть задания в РТ к параграфам 6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ия 3, 5 после параграфа 7 у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9:40:10Z</dcterms:created>
  <dc:creator>Света</dc:creator>
  <dc:description/>
  <dc:language>en-US</dc:language>
  <cp:lastModifiedBy>Home</cp:lastModifiedBy>
  <dcterms:modified xsi:type="dcterms:W3CDTF">2012-02-26T07:21:36Z</dcterms:modified>
  <cp:revision>3</cp:revision>
  <dc:subject/>
  <dc:title>Слайд 1</dc:title>
</cp:coreProperties>
</file>